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19588" cy="4319588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553-2F62-40FF-80B6-2B7B9AAD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38862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7080" y="2498760"/>
            <a:ext cx="38862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FF1-2CC2-4407-BD77-15181EF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240" y="100620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7080" y="249876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240" y="249876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5F5-39B4-4183-B6BF-D6BE0658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12510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1080" y="1006200"/>
            <a:ext cx="12510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080" y="1006200"/>
            <a:ext cx="12510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7080" y="2498760"/>
            <a:ext cx="12510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1080" y="2498760"/>
            <a:ext cx="12510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080" y="2498760"/>
            <a:ext cx="12510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024-4E1D-46B3-B473-2822C989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7080" y="1006200"/>
            <a:ext cx="388620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F95-7AE6-4934-8363-128D7AC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3886200" cy="28573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0AD-D6AF-4721-B30D-980F48E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1896120" cy="28573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240" y="1006200"/>
            <a:ext cx="1896120" cy="28573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AC7-00E6-42EA-B498-93AFEB3F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F2B-4F71-407C-A5B3-D57BFCC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7080" y="173160"/>
            <a:ext cx="38862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F8C-53FD-41D0-8F4B-6F9EEC70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240" y="1006200"/>
            <a:ext cx="1896120" cy="28573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7080" y="249876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E2D-3B04-4C57-95B2-7253AC9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1896120" cy="28573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240" y="100620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240" y="249876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045-A191-41BE-A80F-5133F2A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080" y="100620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240" y="1006200"/>
            <a:ext cx="189612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080" y="2498760"/>
            <a:ext cx="3886200" cy="1362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F5D-FE40-4B35-A42E-D7DE39E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080" y="173160"/>
            <a:ext cx="3886200" cy="722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7080" y="1006200"/>
            <a:ext cx="3886200" cy="28573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540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17400" indent="-123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22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11320" indent="-1238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7440" y="3935520"/>
            <a:ext cx="1008000" cy="303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935520"/>
            <a:ext cx="1368360" cy="303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5640" y="3935520"/>
            <a:ext cx="1008000" cy="3031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it-IT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BB559F7B-D09F-4A12-811B-DF80995C220A}" type="slidenum">
              <a:rPr b="0" lang="it-IT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3480" y="19080"/>
            <a:ext cx="4251240" cy="430200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1"/>
          <a:srcRect l="0" t="0" r="0" b="5315"/>
          <a:stretch/>
        </p:blipFill>
        <p:spPr>
          <a:xfrm>
            <a:off x="1432080" y="193680"/>
            <a:ext cx="145404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"/>
          <p:cNvPicPr/>
          <p:nvPr/>
        </p:nvPicPr>
        <p:blipFill>
          <a:blip r:embed="rId2"/>
          <a:stretch/>
        </p:blipFill>
        <p:spPr>
          <a:xfrm>
            <a:off x="730080" y="906480"/>
            <a:ext cx="2857680" cy="1595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3480" y="2563920"/>
            <a:ext cx="425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Gasdotto TAP «Trans Adriatic Pipeline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31760" y="2906640"/>
            <a:ext cx="4054320" cy="88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rasmissione dati di monitoraggio – post-ope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ezione off-shore – report n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3849840"/>
            <a:ext cx="425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Novembre 2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7:27:11Z</dcterms:created>
  <dc:creator>Snam Rete Gas S.p.A.</dc:creator>
  <dc:description/>
  <dc:language>en-US</dc:language>
  <cp:lastModifiedBy>Monastero Alessandro</cp:lastModifiedBy>
  <dcterms:modified xsi:type="dcterms:W3CDTF">2021-11-23T16:15:47Z</dcterms:modified>
  <cp:revision>31</cp:revision>
  <dc:subject/>
  <dc:title>Diapositiva 1</dc:title>
</cp:coreProperties>
</file>