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601200" cy="12801600"/>
  <p:notesSz cx="9932988" cy="1436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5546-328B-4630-B73E-BEBEB60C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8AE3-25EA-42DC-B8CB-CF878E03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D2CA-1B10-4595-B1C7-2F8746C6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851E-BD35-449D-9CC9-8A1627F5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3EBB-31E1-457A-9B2A-35735FD6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99C2-2078-4613-9657-DB12A70D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42DA-4EA8-4493-8C42-13F8E302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FC7D-D786-4373-8FC6-30CA5E19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2E1-792A-4421-A05C-71CA080B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3988-2299-47DC-A0F7-3F81616B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1F45-BFDE-406D-ACCA-8D9B54B1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2686-7721-4ACE-BD81-106C797E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it-IT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7AD86EF8-F9E7-4A82-8223-F669F10FEAD3}" type="slidenum">
              <a:rPr b="0" lang="it-IT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52600" y="928800"/>
            <a:ext cx="8637480" cy="10688400"/>
          </a:xfrm>
          <a:prstGeom prst="rect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52600" y="6672240"/>
            <a:ext cx="86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asdotto TA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«Trans Adriatic Pipeline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8240" y="7593120"/>
            <a:ext cx="8209080" cy="2495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rasmissione dati di monitoraggio – post-ope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zione off-shore – report n.1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Vol. 1/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52600" y="10918800"/>
            <a:ext cx="86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vembre 202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magine 8" descr=""/>
          <p:cNvPicPr/>
          <p:nvPr/>
        </p:nvPicPr>
        <p:blipFill>
          <a:blip r:embed="rId1"/>
          <a:srcRect l="0" t="4084" r="0" b="0"/>
          <a:stretch/>
        </p:blipFill>
        <p:spPr>
          <a:xfrm>
            <a:off x="1020600" y="1066680"/>
            <a:ext cx="756144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ttangolo 1"/>
          <p:cNvSpPr/>
          <p:nvPr/>
        </p:nvSpPr>
        <p:spPr>
          <a:xfrm>
            <a:off x="1488960" y="928800"/>
            <a:ext cx="1057320" cy="10688400"/>
          </a:xfrm>
          <a:prstGeom prst="rect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 rot="16200000">
            <a:off x="-312120" y="3269520"/>
            <a:ext cx="4635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Gasdotto TA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«Trans Adriatic Pipeline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magine 19" descr=""/>
          <p:cNvPicPr/>
          <p:nvPr/>
        </p:nvPicPr>
        <p:blipFill>
          <a:blip r:embed="rId1"/>
          <a:srcRect l="7228" t="4084" r="67323" b="82283"/>
          <a:stretch/>
        </p:blipFill>
        <p:spPr>
          <a:xfrm>
            <a:off x="1517760" y="1074600"/>
            <a:ext cx="988920" cy="397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 rot="16200000">
            <a:off x="-178560" y="8057160"/>
            <a:ext cx="4448160" cy="747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rasmissione dati di monitoraggio  post-operam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Sezione off-shore – report n.1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Vol. 1/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488960" y="11080800"/>
            <a:ext cx="105732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Novembre 202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4:21:37Z</dcterms:created>
  <dc:creator>Eni S.p.A.</dc:creator>
  <dc:description/>
  <dc:language>en-US</dc:language>
  <cp:lastModifiedBy>Monastero Alessandro</cp:lastModifiedBy>
  <dcterms:modified xsi:type="dcterms:W3CDTF">2021-11-23T16:15:30Z</dcterms:modified>
  <cp:revision>77</cp:revision>
  <dc:subject/>
  <dc:title>Diapositiva 1</dc:title>
</cp:coreProperties>
</file>