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55FC-07C1-451A-A401-71E9463F31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8BCF-4D9A-4614-8A3D-F41D18E757E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01760" y="804960"/>
            <a:ext cx="4255920" cy="3190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CB4-895F-4C3F-A6AF-93533117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920-4F77-4D2E-B311-AC62B496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E87-62DF-4CBA-A7A7-CD09E215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2B5-BE0C-458A-AC96-552B11B9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AC96-7632-4177-B2AB-2E94E5F0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41B8-DA90-4ED5-A07E-40F91DDA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145D-AC24-4515-9621-70C2019F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32B5-EB05-4131-B7EC-05227562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6696-7884-4F0B-A5CB-55E42F30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E64E-BB43-49F0-B497-29B082EC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4A96-5F27-4883-A972-BB25C43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9C1-BB93-4133-A18A-A251EB60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3382-206B-49C4-81E6-66C691A4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64F5-127A-4BD3-A4F8-61AA865D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5916-1419-4B3A-ABE4-F575EC3E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D2B7-8C4B-4853-A565-2EE2F2B1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A431-1334-412C-ACF0-67211539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9E1-D215-49A6-8A7D-5A33469E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030-12FC-480D-BEE7-283FA53F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C52-32E6-43C3-8766-2190D034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9C6-6EB4-4E43-8992-129AEF92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99B-05F9-4EF5-876B-2DAEF4C4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345-065B-4F1B-9130-139C136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22C-9D01-4918-A958-1E693908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3B79-72D6-4B0A-BD1E-2137396CE2A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D242-A4E1-4065-A9C5-7B459B0D8A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8EA4-C2B9-4745-8E6C-A2C0BC330FA1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5CDC-C830-452A-BA78-AC126D5B85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28600" y="1036800"/>
            <a:ext cx="65534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UTE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mmon Methodolog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or Multi-Modal Transpo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Environmental Impact Assessment</a:t>
            </a:r>
            <a:br>
              <a:rPr sz="2800"/>
            </a:br>
            <a:br>
              <a:rPr sz="28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trategic Research Programme  of  E.C.   DGVI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33"/>
                </a:solidFill>
                <a:latin typeface="Times New Roman"/>
              </a:rPr>
              <a:t>Presented by  E. Negrenti   EN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218-C25E-4266-AD4C-48C8D732A4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B31E2-9496-4755-99DB-A762F7F998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2287440"/>
            <a:ext cx="9326160" cy="2993760"/>
            <a:chOff x="0" y="2287440"/>
            <a:chExt cx="9326160" cy="2993760"/>
          </a:xfrm>
        </p:grpSpPr>
        <p:graphicFrame>
          <p:nvGraphicFramePr>
            <p:cNvPr id="116" name=""/>
            <p:cNvGraphicFramePr/>
            <p:nvPr/>
          </p:nvGraphicFramePr>
          <p:xfrm>
            <a:off x="2880" y="2287440"/>
            <a:ext cx="9323280" cy="2993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80" y="2287440"/>
                      <a:ext cx="9323280" cy="29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0" y="2301120"/>
              <a:ext cx="1440" cy="2760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11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3200" spc="-1" strike="noStrike">
                <a:solidFill>
                  <a:srgbClr val="99ff33"/>
                </a:solidFill>
                <a:latin typeface="Times New Roman"/>
              </a:rPr>
              <a:t>Micro and Macro vehicle categories across mo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6B0-546A-4064-B1B0-D6775826D3E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A11F5-315D-42FF-A7BC-C2B454D7CC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8120" y="1162080"/>
            <a:ext cx="8307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BS" sz="3200" spc="-1" strike="noStrike">
                <a:solidFill>
                  <a:srgbClr val="ffcc66"/>
                </a:solidFill>
                <a:latin typeface="Arial"/>
              </a:rPr>
              <a:t>Pilot SEA: Assessment of  Impacts of Transport Trans-European Network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640" y="2529000"/>
            <a:ext cx="8139240" cy="37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Objective: estimate impacts  in 2010 for four cas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All TEN-T (all modes, with policy measur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No TEN-T (current network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two policy scenarios: Reference and Common 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Transport Policies (Policies Harmonisa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4F9-09BC-4301-80B1-B30AE9B460F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BBA2C-AABA-4B16-8353-BC0CEE1D5E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9720" y="45684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4400" spc="-1" strike="noStrike">
                <a:solidFill>
                  <a:srgbClr val="ffcc66"/>
                </a:solidFill>
                <a:latin typeface="Times New Roman"/>
              </a:rPr>
              <a:t>Pilot  SEA  Proj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120" y="1881360"/>
            <a:ext cx="800100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common co-operation plan with COMMUTE,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STREAMS, SCENARIOS and MEET projec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definition of scenarios (reference, CTP) between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STREAMS and SCE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Traffic modelling by STREA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Impact assessment by COMMU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20000"/>
              </a:lnSpc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198360"/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harmonisation of STREAMS model output data with 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COMMUTE tool input data requirements</a:t>
            </a:r>
            <a:r>
              <a:rPr b="0" lang="en-JM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1207-F667-43AB-8E54-CEB98446DC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1DB48-ED1D-44B7-B67A-21F74B7E76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Expected applic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1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European and national networ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Invento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Regional Infrastructures Proj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33"/>
                </a:solidFill>
                <a:latin typeface="Times New Roman"/>
              </a:rPr>
              <a:t>Local and Long Distance Corrid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167-C9E7-47DF-870E-9E73ECC06B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E7A85-6D29-45C9-825E-D9C41C3C8E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99ff33"/>
                </a:solidFill>
                <a:latin typeface="Times New Roman"/>
              </a:rPr>
              <a:t>LIST OF CONT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COMMUTE Project Descrip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Consumption  and Emission Model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imes New Roman"/>
              </a:rPr>
              <a:t>Pilot SE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B5A-EEA3-4122-91D6-4594DD7701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9629D-276D-46D3-AC86-8A1ADC34C4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47304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cc66"/>
                </a:solidFill>
                <a:latin typeface="Times New Roman"/>
              </a:rPr>
              <a:t>COMMUTE     OUTLIN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6 Months project, 1996  to 199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13 Partners from 8 European Countrie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CSST, ENEA, GOPA, INRETS, ISVR, ITS,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MARITERM, M+R, NUL, TÜV, TRL, TTR, VTT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193 Men-months, 7 Work Pack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ff33"/>
                </a:solidFill>
                <a:latin typeface="Arial"/>
              </a:rPr>
              <a:t>link with MEET Project on emission fac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link with Projects STREAMS and SCENARIOS for the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Pilot Strategic Environmental Analysis (SEA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739-F3B4-43F7-B9FC-E1C672F5C9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5EACB-0902-45BA-98AD-877136F0E9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9880" y="652320"/>
            <a:ext cx="773748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3600" spc="-1" strike="noStrike">
                <a:solidFill>
                  <a:srgbClr val="99ff33"/>
                </a:solidFill>
                <a:latin typeface="Times New Roman"/>
              </a:rPr>
              <a:t>Main  COMMUTE  Objectiv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4560" y="1865160"/>
            <a:ext cx="83361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fine a methodology for strategic assessment of the impacts of EU transport policy o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velop a computer software that embodies the main aspects of the methodolo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demonstrate the validity of the main aspects of the methodology and the performance of  connected soft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o assess the impacts on energy consumption, emissions and safety of TEN-T (pilot SEA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84F-AD43-4281-ABE4-BD0F31634F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A30DC-7848-4263-B073-31E2E81756CD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93800" y="2025720"/>
            <a:ext cx="79549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energy, emissions, noise and safety across transport modes in each cell of the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network approach (cells = links and nod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different spatial scales (regional, national, european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time horizon up to 2020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GIS-based (Map-Info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JM" sz="2400" spc="-1" strike="noStrike">
                <a:solidFill>
                  <a:srgbClr val="ffff00"/>
                </a:solidFill>
                <a:latin typeface="Arial"/>
              </a:rPr>
              <a:t>flexible evaluation of resul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1120" y="974880"/>
            <a:ext cx="64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Times New Roman"/>
              </a:rPr>
              <a:t>COMMUTE   TOOL  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732-8DEF-43E7-9CBD-06D9990912B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42C03-6C92-4AE1-B0D1-ACA30E7C64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cc66"/>
                </a:solidFill>
                <a:latin typeface="Times New Roman"/>
              </a:rPr>
              <a:t>ROAD  EMISSIONS  MODELLING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20960"/>
            <a:ext cx="74836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average speed approa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over 100 vehicle categories aggregated in PC, LDV, HDV, Buses  and Two-wheel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hot emissions and fuel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cold start emi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road gradient influ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Arial"/>
              </a:rPr>
              <a:t>evaporative emissio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0A8-9792-494A-837D-5504A942EB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23647-B48B-447B-AC24-29E3F1C25E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17480" y="265284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Over 30 aircraft typ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flight mission divided into standardised operating 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conditions: taxi out, take off, climb out, climb, cruise,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descent, approach, taxi 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 algn="just">
              <a:lnSpc>
                <a:spcPct val="100000"/>
              </a:lnSpc>
              <a:spcAft>
                <a:spcPts val="1500"/>
              </a:spcAft>
              <a:buClr>
                <a:srgbClr val="ccecff"/>
              </a:buClr>
              <a:buFont typeface="Arial"/>
              <a:buChar char="•"/>
              <a:tabLst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distinction between in-flight emissions and emissions 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in the vicinity of airpo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8360"/>
                <a:tab algn="l" pos="66996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200" y="838080"/>
            <a:ext cx="73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Times New Roman"/>
              </a:rPr>
              <a:t>AIR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881-8581-4EC6-8989-D27C7F3BD0F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71356-8F81-4BC7-BB15-49820D88E4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1000" y="669960"/>
            <a:ext cx="84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Times New Roman"/>
              </a:rPr>
              <a:t>RAIL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84160" y="1951200"/>
            <a:ext cx="7331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4 Train categori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Maximum and average spe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Number of sto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Weight of tr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Emissions based on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Electric and dies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ffffcc"/>
                </a:solidFill>
                <a:latin typeface="Arial"/>
              </a:rPr>
              <a:t>Focus on fuel life cyc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65F-2D63-476F-A6D0-FBB44419D85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57C7C-326B-4D73-8839-6A29AB8D04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1600" y="1052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Times New Roman"/>
              </a:rPr>
              <a:t>WATER   EMISSIONS   MODELL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00400"/>
            <a:ext cx="6491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80 ship categories (type by siz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Average speed appro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Number of ships for each categ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Gross tonn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198360">
              <a:lnSpc>
                <a:spcPct val="10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JM" sz="2400" spc="-1" strike="noStrike">
                <a:solidFill>
                  <a:srgbClr val="99ff33"/>
                </a:solidFill>
                <a:latin typeface="Arial"/>
              </a:rPr>
              <a:t>Emissions based on consum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PA                    9  Novembre 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64B-9AC1-4F36-9A81-1CC77317D8C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8A1FF-B2FD-4071-9596-C535C72E9A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1T11:00:12Z</dcterms:created>
  <dc:creator>Negrenti</dc:creator>
  <dc:description/>
  <dc:language>en-US</dc:language>
  <cp:lastModifiedBy>emanuele negrenti</cp:lastModifiedBy>
  <cp:lastPrinted>2000-05-17T09:29:42Z</cp:lastPrinted>
  <dcterms:modified xsi:type="dcterms:W3CDTF">2000-11-08T23:49:16Z</dcterms:modified>
  <cp:revision>23</cp:revision>
  <dc:subject/>
  <dc:title>Titolo da impatto</dc:title>
</cp:coreProperties>
</file>