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B1D-C54B-4C2D-BEDB-71C1445E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DE2-EB44-4F41-96AC-A7FE8B9E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C58-FE69-4A75-AE7D-91ECF3A5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51E-FF2D-4CD8-98D9-77874926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E651-EB6D-4139-B51B-AF9712B1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C12B-C725-42F5-8063-0ACBA39B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30D0-7D91-4B81-BE54-B69AB0E7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FA11-F19C-4333-AF13-4932B771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8C4B-4B86-4798-8295-D81E4355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90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136C-7A82-431A-A1F0-6D367C5D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006F-00F6-4F95-A8ED-63BA7C15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9BD-B4F6-4FC8-B5BE-93490F29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DC72-8335-499A-BB25-AACA55A4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C6D9-4B71-42FA-BA8E-16B8DD78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2605-E517-4955-9330-5A0267AC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BBD2-363E-48ED-AD11-9DF9FF3B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3587-56B0-4DA4-AC8C-0B10C299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9DB-9915-49C9-83F6-EDCC375E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FF0-B744-4D0F-9219-EEC1C24A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E10-3083-4854-AB05-61109764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90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B60-6E8D-4BB8-8F82-1ABA5959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99D-5409-427B-B1C2-CFA57D6D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794-101E-4F87-98D0-3F399808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565-930E-4D6D-8245-038B5FB8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0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294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2944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1440" y="62294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177F-7279-4938-82CB-A49FAE53C0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90720" y="1314360"/>
            <a:ext cx="89154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609120"/>
            <a:ext cx="885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4EBF-E1F3-468A-9649-2E77ACD07A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3733920"/>
            <a:ext cx="7924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onio MATTUCCI - Domenico PALAM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A Dip.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057400"/>
            <a:ext cx="6858000" cy="70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Analisi delle correlazioni COPERT III</a:t>
            </a:r>
            <a:r>
              <a:rPr b="1" lang="it-IT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6AA-1E00-4641-AB19-B52E092B9917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362320" y="609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 consumi specifici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9037440" cy="508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F25-16F9-492C-8C6E-9DAA95F1346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6094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specifiche di C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961480" cy="5083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19520" y="2514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3DC-9752-4B56-8F96-78B3EC3D38AB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6094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specifiche VOC delle autovetture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9037440" cy="5083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ABE-BC78-48A9-BFAE-EE1C1EA01073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609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umi specifici dei veicoli merci legge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067680" cy="5083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44D-F386-4037-9117-E78AB2FC0A9B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6094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Le emissioni di NO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per i veicoli merci legg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666880" y="1828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BD4-A9B5-4799-8590-527CF35C8A91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609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di VOC dei veicoli merci pesanti Eur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313-E667-4CB9-B17E-D4AEF18EA9E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issioni di CO dei motocic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113760" cy="5083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19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B96-60DE-4DE2-B8BB-0984794ABF2E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6094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Emissioni di NO</a:t>
            </a:r>
            <a:r>
              <a:rPr b="1" lang="it-IT" sz="24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dei motocic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991720" cy="5083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2880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rrelazioni COPERT III (a ca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3D1-6803-44F3-89E5-A4CDD40AA36E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686800" cy="508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9092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umi specifici autovetture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408-7EDE-493D-9763-5D2D1087F106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33360" y="1219320"/>
            <a:ext cx="9237600" cy="5083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9092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umi specifici autovetture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591-895A-455A-8DEF-7C0F016DBBCD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1828800"/>
            <a:ext cx="792504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basi di par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erifica ambientale del Piano Generale dei 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Uso del  modello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’oggetto dell’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same di anomalie riscontrate sulle previsioni dell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missioni (emissioni negative, discontinuità tr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previsioni temporali successive, ec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dividuazione delle differenze più significative tr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PERT III e le correlazioni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t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0CE-9E4A-48B7-B447-E58B3FA5BE56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9067680" cy="5083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28800" y="2438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missioni specifiche CO autovetture ben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163-22C2-4AF9-AAAA-6AC9CB54453B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differenze tra COPERT III e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067680" cy="5007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00200" y="2286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missioni specifiche PM autovetture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249-D3FA-414D-8F5B-1E087469B8DE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66680" y="1828800"/>
            <a:ext cx="792504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3906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alizzate problematiche COPERT III per previsioni dell’evoluzione del trasporto strad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Elementi considerati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malie correlazioni COPE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ronto correlazioni COPERT III con TREMOVE (COPERT II migliora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sponibilità di formule per evoluzioni tecnolo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F6A-7C2F-4F5F-AA31-FB373560E234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1523880"/>
            <a:ext cx="822960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3744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Problemi delle correlazioni COPE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correlazioni della C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le autovetture catalizzate, rispetto a quelle “convenzionali”, hanno valori maggiori alle basse velocità e minori sopra i 50 km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correlazioni della C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i veicoli merci leggeri Euro I danno valori circa 3 volte maggiori degli analoghi convenz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convertitori catalitici per i veicoli merci leggeri non sembrano avere comportamenti assimilabili alle curve proposte per le emissioni di NO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veicoli merci pesanti di portata maggiore hanno emissioni di VOC minori a parità di altre condi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emissioni di CO dei motocicli a due tempi possono divenire negative a bassa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3480" indent="-37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consumi delle autovetture a benzina divengono molto maggiori degli analoghi valori delle vetture diesel e GPL alle basse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CA3-EB0A-44B4-898A-80E5A8393A5D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66680" y="1828800"/>
            <a:ext cx="79250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390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fronto correlazioni COPERT III con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 le autovetture EURO I  si hanno emissioni di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 consumi minori alle basse ed alte velocità per COPERT III e maggiori alle velocità me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dibilità delle correl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sponibilità di metodi per creare nuove correlazioni per effettuare previsioni relative a interventi di introduzione di nuove tecnologie vei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3906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canza di correlazioni per i ciclomotori dipendenti dalla velocità che possono dare indicazioni del tutto falsate nel contesto in e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380880"/>
            <a:ext cx="613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12D-920C-4E90-9CF8-FEAFEF589A61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33720" y="304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l modello T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276720"/>
            <a:ext cx="2133720" cy="104112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sti e valutazione di traf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scelta modale basata su costo generalizza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505320"/>
            <a:ext cx="2133360" cy="61524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rco veico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variazione composizi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3505320"/>
            <a:ext cx="2133720" cy="707760"/>
          </a:xfrm>
          <a:prstGeom prst="rect">
            <a:avLst/>
          </a:prstGeom>
          <a:solidFill>
            <a:srgbClr val="d1ec86"/>
          </a:solidFill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Emissioni e consu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0481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manda di trasp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380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687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0481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sizione del p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19810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locità e fattori di ca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1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1430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438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3908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49068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Emiss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4267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5720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nsumo di carb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343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mposizione del p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343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66680" y="4343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06668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57040" y="4724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447560" y="510552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44792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7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7EC-A6AF-4121-9A28-000A01583B2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7816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Obiettivi e strument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495360" y="380880"/>
            <a:ext cx="177480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1143000"/>
            <a:ext cx="6827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Tahoma"/>
              </a:rPr>
              <a:t>Il modello TREMOVE e il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83360" y="2362320"/>
            <a:ext cx="4127400" cy="13172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EMO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ated Transport Model</a:t>
            </a: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62"/>
              </a:spcBef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2920" y="1676520"/>
            <a:ext cx="9079920" cy="3963240"/>
            <a:chOff x="412920" y="1676520"/>
            <a:chExt cx="9079920" cy="3963240"/>
          </a:xfrm>
        </p:grpSpPr>
        <p:sp>
          <p:nvSpPr>
            <p:cNvPr id="126" name=""/>
            <p:cNvSpPr/>
            <p:nvPr/>
          </p:nvSpPr>
          <p:spPr>
            <a:xfrm>
              <a:off x="412920" y="1676520"/>
              <a:ext cx="907992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ASE CASE (1990-202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920" y="2356920"/>
              <a:ext cx="1776240" cy="536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ices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 (tax exclude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2920" y="3491280"/>
              <a:ext cx="1742040" cy="536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el prices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tax exclude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2920" y="3037680"/>
              <a:ext cx="177624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ax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920" y="4247280"/>
              <a:ext cx="1742040" cy="307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uel tax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2920" y="4625640"/>
              <a:ext cx="1742040" cy="1014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age tax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urance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&amp;M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11200" y="2356920"/>
              <a:ext cx="2778840" cy="778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raffic demand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km, tkm, v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ad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11200" y="4625640"/>
              <a:ext cx="2754720" cy="1014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ther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S fu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 valu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ed-flow fu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11200" y="3264480"/>
              <a:ext cx="2754720" cy="1249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tock  &amp; technology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ission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cons. fa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spe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PEFE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0120" y="4038480"/>
            <a:ext cx="9105480" cy="2178000"/>
            <a:chOff x="330120" y="4038480"/>
            <a:chExt cx="9105480" cy="2178000"/>
          </a:xfrm>
        </p:grpSpPr>
        <p:sp>
          <p:nvSpPr>
            <p:cNvPr id="136" name=""/>
            <p:cNvSpPr/>
            <p:nvPr/>
          </p:nvSpPr>
          <p:spPr>
            <a:xfrm>
              <a:off x="5282640" y="4038480"/>
              <a:ext cx="2517480" cy="16095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1213"/>
                </a:spcBef>
                <a:spcAft>
                  <a:spcPts val="938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licy Op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hicle 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el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&amp;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n-Technical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scal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0120" y="5908680"/>
              <a:ext cx="9105480" cy="307800"/>
            </a:xfrm>
            <a:prstGeom prst="rect">
              <a:avLst/>
            </a:prstGeom>
            <a:solidFill>
              <a:srgbClr val="ffff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LICY SCENARIOS  (2000-202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924680" y="4038480"/>
            <a:ext cx="1487160" cy="1603440"/>
            <a:chOff x="7924680" y="4038480"/>
            <a:chExt cx="1487160" cy="1603440"/>
          </a:xfrm>
        </p:grpSpPr>
        <p:sp>
          <p:nvSpPr>
            <p:cNvPr id="139" name=""/>
            <p:cNvSpPr/>
            <p:nvPr/>
          </p:nvSpPr>
          <p:spPr>
            <a:xfrm>
              <a:off x="7924680" y="4038480"/>
              <a:ext cx="148572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Emiss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4648320"/>
              <a:ext cx="148572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Co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4680" y="5334120"/>
              <a:ext cx="1487160" cy="307800"/>
            </a:xfrm>
            <a:prstGeom prst="rect">
              <a:avLst/>
            </a:prstGeom>
            <a:solidFill>
              <a:srgbClr val="cc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Side effec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3691-7142-46BE-AD3B-9E19BF3EF65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14600" y="6094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utput di TREMOVE (per domini e catego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676520"/>
            <a:ext cx="68580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nsumo di carbur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missioni di CO, NO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, Particolato, C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, VOC,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missioni di CO</a:t>
            </a:r>
            <a:r>
              <a:rPr b="1" i="1" lang="it-IT" sz="1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Parco veicolare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Età dei veicol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Traffico annuale in milioni di veicoli-km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Traffico annuale in milioni di passeggeri-km e tonnellate-km (per class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Fattori di carico (pass/veh o tonn/ve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Velocità medie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trasporto passegger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trasporto merci (per clas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sto del Trasporto Pub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B45-9928-4B95-B416-BDE4F002BA4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304920"/>
            <a:ext cx="6705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Tahoma"/>
              </a:rPr>
              <a:t>Costi - efficacia provvedimenti P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1143000"/>
            <a:ext cx="9296640" cy="5257800"/>
            <a:chOff x="380880" y="1143000"/>
            <a:chExt cx="9296640" cy="5257800"/>
          </a:xfrm>
        </p:grpSpPr>
        <p:sp>
          <p:nvSpPr>
            <p:cNvPr id="147" name=""/>
            <p:cNvSpPr/>
            <p:nvPr/>
          </p:nvSpPr>
          <p:spPr>
            <a:xfrm>
              <a:off x="4800600" y="1676520"/>
              <a:ext cx="4191120" cy="1981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Evitar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Incremento Emissioni + Cos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3809880"/>
              <a:ext cx="3962520" cy="21337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"Attuare sempr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Riduzione Emissioni + Benefici economi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1676520"/>
              <a:ext cx="3962520" cy="1981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Teoricamente possibile ma da selezionare con cautela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Incremento Emissioni + Benefici economi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3809880"/>
              <a:ext cx="4191120" cy="21337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”</a:t>
              </a: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Situazione probabile con scelta delle soluzioni più efficaci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Riduzione Emissioni + Cos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33520" y="3733560"/>
              <a:ext cx="9144000" cy="612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724280" y="1219320"/>
              <a:ext cx="0" cy="495288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0" y="594360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Riduzione Emissio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%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880" y="3809880"/>
              <a:ext cx="27432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Risparmi per la socie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MEuro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11430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ncremento Emissio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%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34320" y="3200400"/>
              <a:ext cx="266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sti per la socie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MEuro rapportati al caso bas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95360" y="380880"/>
            <a:ext cx="177480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9E7-CCD1-46ED-A760-BC8214FA5C58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1447920"/>
            <a:ext cx="85345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Le ipotesi adottate per lo scenario di riferimento (evoluzione natur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Scenario di evoluzione naturale del tipo "Business as Usual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Scenario evolutivo di riferimento pre-Ky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 Crescita annuale media del PIL pari al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819520"/>
            <a:ext cx="876312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Aggiornamenti rispetto ad AUTOOIL II</a:t>
            </a:r>
            <a:r>
              <a:rPr b="0" lang="it-IT" sz="1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o assetto del parco veicolare sia come composizione, sia come età dei veicol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a imposizione fiscale sui veicoli, soprattutto per le autovetture a gasol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percorrenze veicolari annuali per ogni classe di veicol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quadratura della domanda del trasporto di persone e di merci con i dati del Conto Nazionale Trasport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diverse tariffe unitarie per il calcolo del costo del tempo e dei trasporti delle merc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* nuovi coefficienti per le funzioni di congestione, tarati sull’assetto effettivo del traffico veicol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8088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257800"/>
            <a:ext cx="76201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tiliz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*  Calibrazione del mod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*  Confronto per gli scenari risultanti dall’applicazione delle nuove poli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80880"/>
            <a:ext cx="662940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Lo scenario naturale italiano per le analisi P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(base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8AE-3CD2-430C-A523-A63D499671B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072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 previsioni dello scenario di riferimento al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1676520"/>
          <a:ext cx="9144000" cy="47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914400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C8A-FC42-47E3-8204-D9CE95D93E3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14400" y="1447920"/>
          <a:ext cx="8305920" cy="464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305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59092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 emissioni dello scenario di rife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57200"/>
            <a:ext cx="1638360" cy="5810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4338" y="19978"/>
                </a:moveTo>
                <a:lnTo>
                  <a:pt x="19990" y="19978"/>
                </a:lnTo>
                <a:lnTo>
                  <a:pt x="13776" y="0"/>
                </a:lnTo>
                <a:lnTo>
                  <a:pt x="12335" y="0"/>
                </a:lnTo>
                <a:lnTo>
                  <a:pt x="12335" y="16310"/>
                </a:lnTo>
                <a:lnTo>
                  <a:pt x="9668" y="16310"/>
                </a:lnTo>
                <a:lnTo>
                  <a:pt x="9668" y="11991"/>
                </a:lnTo>
                <a:lnTo>
                  <a:pt x="11916" y="11991"/>
                </a:lnTo>
                <a:lnTo>
                  <a:pt x="11916" y="8121"/>
                </a:lnTo>
                <a:lnTo>
                  <a:pt x="9668" y="8121"/>
                </a:lnTo>
                <a:lnTo>
                  <a:pt x="9668" y="4297"/>
                </a:lnTo>
                <a:lnTo>
                  <a:pt x="11957" y="4297"/>
                </a:lnTo>
                <a:lnTo>
                  <a:pt x="11957" y="0"/>
                </a:lnTo>
                <a:lnTo>
                  <a:pt x="8523" y="0"/>
                </a:lnTo>
                <a:lnTo>
                  <a:pt x="8513" y="13093"/>
                </a:lnTo>
                <a:lnTo>
                  <a:pt x="5161" y="0"/>
                </a:lnTo>
                <a:lnTo>
                  <a:pt x="3965" y="0"/>
                </a:lnTo>
                <a:lnTo>
                  <a:pt x="3965" y="16310"/>
                </a:lnTo>
                <a:lnTo>
                  <a:pt x="1053" y="16310"/>
                </a:lnTo>
                <a:lnTo>
                  <a:pt x="1053" y="11991"/>
                </a:lnTo>
                <a:lnTo>
                  <a:pt x="3546" y="11991"/>
                </a:lnTo>
                <a:lnTo>
                  <a:pt x="3546" y="8324"/>
                </a:lnTo>
                <a:lnTo>
                  <a:pt x="1104" y="8324"/>
                </a:lnTo>
                <a:lnTo>
                  <a:pt x="1104" y="4297"/>
                </a:lnTo>
                <a:lnTo>
                  <a:pt x="3546" y="4297"/>
                </a:lnTo>
                <a:lnTo>
                  <a:pt x="3546" y="0"/>
                </a:lnTo>
                <a:lnTo>
                  <a:pt x="0" y="0"/>
                </a:lnTo>
                <a:lnTo>
                  <a:pt x="0" y="19978"/>
                </a:lnTo>
                <a:lnTo>
                  <a:pt x="5161" y="19978"/>
                </a:lnTo>
                <a:lnTo>
                  <a:pt x="5161" y="6772"/>
                </a:lnTo>
                <a:lnTo>
                  <a:pt x="8717" y="19978"/>
                </a:lnTo>
                <a:lnTo>
                  <a:pt x="13633" y="19978"/>
                </a:lnTo>
                <a:lnTo>
                  <a:pt x="13633" y="6614"/>
                </a:lnTo>
                <a:lnTo>
                  <a:pt x="16597" y="15996"/>
                </a:lnTo>
                <a:lnTo>
                  <a:pt x="14236" y="16018"/>
                </a:lnTo>
                <a:lnTo>
                  <a:pt x="14236" y="19978"/>
                </a:lnTo>
                <a:lnTo>
                  <a:pt x="19908" y="19978"/>
                </a:lnTo>
              </a:path>
            </a:pathLst>
          </a:custGeom>
          <a:solidFill>
            <a:srgbClr val="0000cc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4C6-6CBE-4B5B-ACAD-1889718C94EB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ert Panel Emissioni da Trasporto su Strada                                        Roma 9 Novembre 2000</a:t>
            </a: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8:52:59Z</dcterms:created>
  <dc:creator>Snake</dc:creator>
  <dc:description/>
  <dc:language>en-US</dc:language>
  <cp:lastModifiedBy>idefix</cp:lastModifiedBy>
  <dcterms:modified xsi:type="dcterms:W3CDTF">2000-11-08T16:58:15Z</dcterms:modified>
  <cp:revision>93</cp:revision>
  <dc:subject/>
  <dc:title>Nessun titolo diapositiva</dc:title>
</cp:coreProperties>
</file>