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9856788" cy="6786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B1F-9AA1-4082-B7D9-9C664671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A6B-59D6-454E-8332-AB4F856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215-4F6D-4A42-93A0-2DEECF7C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5B7-8613-47F2-8FDB-398332CB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679-083E-48A6-837C-26AA8890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65EC-967B-4914-9C70-831FD053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4015-7201-459C-BDBC-08653583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72A1-C23C-42D7-ACCD-8D49FDCC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5E98-73DE-472F-AA2F-E9D60375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71120" y="4568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0959-98CC-45BB-AF91-D305CA63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9918-F1DE-4371-BDB4-3EDC564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0AD-6726-4772-80C4-004D1893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E2EC-27F5-4701-8C0F-59460B45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62D6-4F70-4253-99A0-C0125FE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85CC-D314-4CF0-B621-3904D168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BE48-6A02-4D20-B09B-EE9C0807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744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3760" y="19828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7112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744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3760" y="4132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B90A-B264-4D0C-8EDC-7CACFB12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79B-9BB6-4056-BD4D-80807BF9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174-8FCA-4FD2-8833-6AB14271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4CA-1A1E-43A8-95AE-FB494168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4568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3E6-B150-4FED-9328-F27D338E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A1D-A007-4248-8222-0F0D9906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2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2BA-5DC2-4C00-86A3-23371152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28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2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629-5DBB-4BD9-A130-F30A9DB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53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81000"/>
          </a:bodyPr>
          <a:p>
            <a:pPr marL="334440" indent="-334440">
              <a:spcBef>
                <a:spcPts val="9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1" marL="725040" indent="-279000">
              <a:spcBef>
                <a:spcPts val="97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45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•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0600" indent="-222120">
              <a:spcBef>
                <a:spcPts val="975"/>
              </a:spcBef>
              <a:buClr>
                <a:srgbClr val="333333"/>
              </a:buClr>
              <a:buFont typeface="Times New Roman"/>
              <a:buChar char="–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4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5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6" marL="2007360" indent="-222480">
              <a:spcBef>
                <a:spcPts val="975"/>
              </a:spcBef>
              <a:buClr>
                <a:srgbClr val="333333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0BE571FC-1E75-43DC-A514-035452C22ABA}" type="datetime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07/30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67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6405E988-BF94-44C1-BBC0-AE388FB4432E}" type="slidenum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6160" y="3340080"/>
            <a:ext cx="861084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53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112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7097F349-9904-4C7D-A392-74F19785D613}" type="datetime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07/30/26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14320" y="62467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72080" y="62467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1063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73B54E36-EC71-4D1D-9E99-9CCE8F5F8975}" type="slidenum">
              <a:rPr b="0" lang="en-US" sz="17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  <a:p>
            <a:pPr lvl="1" marL="550800" indent="0" algn="ctr">
              <a:spcBef>
                <a:spcPts val="85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01600" algn="ctr">
              <a:spcBef>
                <a:spcPts val="726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  <a:p>
            <a:pPr lvl="3" marL="165276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203560" algn="ctr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2203560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2203560"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10287000" cy="28954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it-IT" sz="3200" spc="-1" strike="noStrike">
                <a:solidFill>
                  <a:srgbClr val="a50021"/>
                </a:solidFill>
                <a:latin typeface="Times New Roman"/>
              </a:rPr>
              <a:t>Codice TEE :  Trasporti Energia Emissioni</a:t>
            </a:r>
            <a:br>
              <a:rPr sz="32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29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E. Negrenti  - ENEA</a:t>
            </a: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it-IT" sz="2900" spc="-1" strike="noStrike">
                <a:solidFill>
                  <a:srgbClr val="a50021"/>
                </a:solidFill>
                <a:latin typeface="Times New Roman"/>
              </a:rPr>
              <a:t>ANPA  -  9 Novembre  2000</a:t>
            </a:r>
            <a:r>
              <a:rPr b="0" lang="en-GB" sz="3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5.   THE  KINEMATICS  CORRECTION FACTOR  (KCF) APPROACH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967752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95000"/>
          </a:bodyPr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MISSIONS ON NETWORK LINKS ARE NORMALLY CALCULATED FROM AVERAGE SPEED, BUT LINKS WITH  THE SAME AVERAGE SPEED CAN SHOW VERY DIFFERENT VEHICLE KINEMATICS, AND VERY DIFFERENT EMISS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 CORRECT THE ‘AVERAGE SPEED EMISSION’ WITH A FACTOR INCLUDING THE EFFECT OF SPEED VARIABILITY ALONG THE LINK CAN REDUCE EMISSION UNCERTAIN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-3920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HE ‘KCF’ CAN BE EXPRESSED AS A FUNCTION OF TRAFFIC DENSITY, GREEN TIME %, LINK LENGTH AND AVERAGE SPEED AND CALCULATED BY THE RECONSTRUCTION OF THE SPEED CYCL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92040" indent="0">
              <a:spcBef>
                <a:spcPts val="601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9C0-F9D5-4441-B801-7466454A96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66082-0B00-428A-9777-2D40C76EDF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52280" y="101520"/>
          <a:ext cx="10134720" cy="6756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1520"/>
                    <a:ext cx="1013472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E0E-7F28-4E65-8B9E-E1EC24A024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9DF7D-A332-4504-9D2C-C7C86A6883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28880" y="0"/>
          <a:ext cx="8229600" cy="556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8880" y="0"/>
                    <a:ext cx="822960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265400" y="5183280"/>
            <a:ext cx="79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IG. 2 : SPEED CYCLE RECONSTRUCTION : TIME FRACTIONS OF KINEMATIC PHASES   VS  NORMALISED TRAFFIC DENSITY (QUALITATIVE CURVES)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4C0-23B6-4680-BD68-9966C705156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A2D3C-B88C-4A12-A36D-D712DFBBE7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41600" y="182520"/>
          <a:ext cx="7240320" cy="5450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82520"/>
                    <a:ext cx="724032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057400" y="5411880"/>
            <a:ext cx="633096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GURE 3 : TYPICAL  RECONSTRUCTED SPEED CYC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E87-6E3B-4AC2-B524-433AFEA60C3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A879C-760D-48C0-A682-217B93A46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10287000" cy="5257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5.1  RESULTS  FROM  DG XII  ESTEEM  PROJECT</a:t>
            </a:r>
            <a:br>
              <a:rPr sz="2800"/>
            </a:b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       KCF =  KCF0 * d(D) * g(G) * l(L) * v(V)</a:t>
            </a:r>
            <a:br>
              <a:rPr sz="2800"/>
            </a:br>
            <a:r>
              <a:rPr b="1" lang="en-GB" sz="2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for Fuel Consumption (c1 to c14 are optimised coefficients) 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d(D) =  c1 (D &lt; 30) ,   c2 * D + c3   (30 &lt; D &lt; 90),   c4-c5*D   ( D&gt;90)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g(G) =  c6 ,for G &lt; 0.9 ,  and  c7 - c8 * G  for 0.9 &lt; G &lt; 1.0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l(L) = c9 + c10 * exp (-L/c11)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v(V) = c12 + c13 * exp (-V/c14)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 for CO emissions  </a:t>
            </a:r>
            <a:br>
              <a:rPr sz="2400"/>
            </a:b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d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(D) = c1 + c2 * exp (D/c3)  (D&lt;90),  and   d(D) = c4-c5*D (D&gt;90)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g(G) = c6 + c7 * exp (-G/c8)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l(L) = c9 + c10 * exp (-L/c11)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v(V) = c12 - c13 * exp (-V/c14</a:t>
            </a:r>
            <a:r>
              <a:rPr b="1" lang="en-GB" sz="29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1B9-A9C4-48A3-B20C-9460E89333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07A02-7AF5-4209-A573-95CD8B753C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f8fc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382680"/>
            <a:ext cx="807120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880" rIns="110880" tIns="55440" bIns="55440" anchor="ctr">
            <a:noAutofit/>
          </a:bodyPr>
          <a:p>
            <a:pPr algn="ctr"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IG . 4 : KCF  for  Fuel  Consump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ull range density profile (10  to 110 vehicles/K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36800" y="3083040"/>
          <a:ext cx="5213520" cy="214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6800" y="3083040"/>
                    <a:ext cx="5213520" cy="21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54040" y="1554120"/>
          <a:ext cx="9337680" cy="461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040" y="1554120"/>
                    <a:ext cx="93376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BC2-4008-4A9C-B6D1-4DCD38069FC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F4F0A-DE2F-4E42-BA5D-5E2801F99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870120" y="501480"/>
          <a:ext cx="8546760" cy="4681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0120" y="501480"/>
                    <a:ext cx="85467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028880" y="5486400"/>
            <a:ext cx="83088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igure 5 : Measured, calculated (shaded area) and extrapolated CO level at Corso Francia site, for business da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769-D97D-479E-8907-2981601FD15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AB6F3-FBAF-4F00-B9DC-ABAAEABB69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91404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MAIN  CONTENT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EHICLES  KINEMATIC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MODELLED F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ARKING PROCESS SIMU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Wingdings" charset="2"/>
              <a:buChar char="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HE KINEMATICS CORREC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861-CFBE-4FCA-824C-F0E6DF81FB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306AA-0FC0-4EBF-8543-942C30B967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aee"/>
            </a:gs>
            <a:gs pos="100000">
              <a:srgbClr val="ebf7e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1) OBJECTIVES OF TEE MODEL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90000"/>
          </a:bodyPr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Link by link emission calcul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Flexible kinematics descrip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Modelling all factors affecting emiss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Separated analysis of parking proces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Integration of the micro module (one link - one hour) in a year - network framewor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-37152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Complete spatial-temporal flex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71520" indent="0">
              <a:spcBef>
                <a:spcPts val="901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388-9353-4136-AB1B-B69436E2BB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E40E9-3D14-436F-B891-7A37BCB2C6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ebf7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2.   TEE  MODEL  KINEMATIC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743680" cy="4572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VARIABLE KINEMATICS APPRO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TRATEGIC  COUPLING WITH ANY TRAFFIC MODEL OR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VERAGE SPEED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IMPLIFIED CYCLE O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ETAILED SPEED CYCLE O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KINEMATICS CORRECTION FACTOR APPROACH (1998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D68-68F4-4C92-9D5D-4E8221D84E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A718C-E5F0-4926-9AB6-23937F0FCB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ebf7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3680" cy="7617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4000" spc="-1" strike="noStrike">
                <a:solidFill>
                  <a:srgbClr val="004c2b"/>
                </a:solidFill>
                <a:latin typeface="Times New Roman"/>
              </a:rPr>
              <a:t>3.   MODELLED   FACTOR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1120" y="1523520"/>
            <a:ext cx="8744040" cy="4573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ENGINE TEMPERATURE (LOCAL COLD VEHICLES  FRAC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ROAD GRADIENT (SLOP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MAINTENA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G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ALTITU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DISTINCT  PARKING  F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069-132A-4AFC-90EB-C8A10F6EC1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1CB6A-B1C2-40C9-92C4-ABAA979026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1b3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 PARKING   PROCESS   SIMULATION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744040" cy="47246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ARKING  AND INSERTING FLOWS FOR EACH LINK (‘P’ AND ‘I’ MOD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NCENTRATED  AND  DISTRIBUTED PARKING  ARE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SIMPLIFIED  CYCLES  FOR  PARKING INLET  AND  OUTL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 : DECELL.,   SEARCH,   PARK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  : WARM UP,   EXIT,   INSER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49E-8922-4265-B210-BBA6C3C117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4374C-803C-400A-95E0-AB524DAF4D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43680" cy="6098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1  PARKING  MODELLING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87000"/>
          </a:bodyPr>
          <a:p>
            <a:pPr marL="358920" indent="-358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9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NCENTRATED  PARKINGS     STATIC  CHARACTER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PARKING INVENTORY (MAX. N. OF VEHICLES  AND MACRO  CATEGORIES  ALLOWE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DISTANCE FROM  LINK  INLET TO  PARKING PLACE - AND FROM PARKING TO LINK OUTL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LINKS  OF INLET(S) AND OUTLET(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8680" indent="-29952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COORDINATES OF PARKING AREA CENTRE FOR  GIS REPRESEN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8AD-BB80-4AEF-A586-965FBBF9CB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079DA-E399-4320-AF82-5518EA476C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4.2   DISTRIBUTED   PARKINGS</a:t>
            </a:r>
            <a:br>
              <a:rPr sz="3200"/>
            </a:br>
            <a:r>
              <a:rPr b="1" lang="en-GB" sz="3200" spc="-1" strike="noStrike">
                <a:solidFill>
                  <a:srgbClr val="004c2b"/>
                </a:solidFill>
                <a:latin typeface="Times New Roman"/>
              </a:rPr>
              <a:t>STATIC   CHARACTERISATION</a:t>
            </a:r>
            <a:r>
              <a:rPr b="0" lang="en-GB" sz="53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5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DENSITY OF PARKING PLACES (VEH/KM) ALONG ROAD SIDES  - DEFAULT CAN BE AROUND 200 V/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0">
              <a:spcBef>
                <a:spcPts val="700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MACRO CATEGORIES  ALLOWED TO PARK ALONG THE ROAD CONSIDERED (e.g. : Passenger Cars, 2 Wheelers, coach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C8C-059E-471D-8639-0CC9208C1B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AF606-057B-4E40-BE9F-E32779C1CC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743680" cy="12952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b">
            <a:noAutofit/>
          </a:bodyPr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GB" sz="3600" spc="-1" strike="noStrike">
                <a:solidFill>
                  <a:srgbClr val="004c2b"/>
                </a:solidFill>
                <a:latin typeface="Times New Roman"/>
              </a:rPr>
              <a:t>4.3 </a:t>
            </a:r>
            <a:r>
              <a:rPr b="1" lang="en-GB" sz="3600" spc="-1" strike="noStrike">
                <a:solidFill>
                  <a:srgbClr val="004c2b"/>
                </a:solidFill>
                <a:latin typeface="Times New Roman"/>
              </a:rPr>
              <a:t>Dynamic Description  of  Parking Areas (Concentrated or Distributed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71120" y="19828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Occupation profile in 24h (from 0 to 1 of local inventory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Input and Output flows (veh/hr) to-from linked vehicular fl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95320" indent="-3445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from Concentrated parking : data from monitored park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95320" indent="-3445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</a:rPr>
              <a:t>for Distributed parking : a  fixed % of the hourly transit flow (1999….  What in 2000?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E  SHORT 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707-9C30-4622-B0CA-496EEA9BB1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FDCBF-C9A2-4775-BC2B-012BA1753E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23Z</dcterms:created>
  <dc:creator>Negrenti</dc:creator>
  <dc:description/>
  <dc:language>en-US</dc:language>
  <cp:lastModifiedBy>emanuele negrenti</cp:lastModifiedBy>
  <cp:lastPrinted>2000-11-08T18:29:40Z</cp:lastPrinted>
  <dcterms:modified xsi:type="dcterms:W3CDTF">2000-11-08T23:29:38Z</dcterms:modified>
  <cp:revision>136</cp:revision>
  <dc:subject/>
  <dc:title>Nessun titolo diapositiva</dc:title>
</cp:coreProperties>
</file>