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296F-ECC8-497F-B3CC-BEB1C93FB1B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F3B6-22A0-4FF3-9F65-0DE897F78EA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01760" y="804960"/>
            <a:ext cx="4255920" cy="31906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52760"/>
            <a:ext cx="5029200" cy="40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066B-569B-41ED-95E0-94045C710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3FDA-4479-4AE5-B847-ED67C3A3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5343-23E9-4AED-A561-4D86EE006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8043-32C2-4917-81DB-2D6993BB9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8B0A-484B-480C-BE9F-37B64836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CF0CB-4C02-4A28-BF1F-A5271296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7371-27EC-42E0-A23D-3A4762A3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D610-9224-493D-863E-FF3922D9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0757-9C42-4485-AAB2-82119FE0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04C2-CFD4-473C-BD5D-8332A259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454B-0BDB-434A-B924-E569D60E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1548-827D-42D6-B614-6680F3FE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1048-18F8-468F-A563-E4D18166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66CD-7AE4-4C71-B0C0-1D009A93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E5F0-C0BF-439B-BC20-398CC972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F137-18F8-4D42-93E7-8EEF7C36D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DCBA-6CDC-4DE5-8714-951DDAE6E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0E7E-BC29-4495-A1CE-2FD54ED0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EB76-15F6-4408-9451-2292E986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2997-CA76-4BB0-94FD-A0670A15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3044-D9A2-4A95-8ECD-80627EAF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476A-C49E-4DF6-9520-E46D3769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E60E-732D-4CBC-9CD5-8A781A2C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151B-B3F7-495B-BD6A-9E4947A8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F2F7-A571-461C-A396-763AB81D2719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5CAB-FE20-45CF-A706-5CA79049C81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1150-FE01-476F-85D3-522F66A265F0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CC32-08F8-497F-B45D-50769CEDAE8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28600" y="1036800"/>
            <a:ext cx="655344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OMMUTE</a:t>
            </a:r>
            <a:r>
              <a:rPr b="1" lang="en-GB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Common Methodology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or Multi-Modal Transpor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Environmental Impact Assessment</a:t>
            </a:r>
            <a:br>
              <a:rPr sz="2800"/>
            </a:br>
            <a:br>
              <a:rPr sz="2800"/>
            </a:b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Strategic Research Programme  of  E.C.   DGVI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33"/>
                </a:solidFill>
                <a:latin typeface="Times New Roman"/>
              </a:rPr>
              <a:t>Presented by  E. Negrenti   ENE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PA                    9  Novembre  200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7E32-29D6-41AE-B0B1-C34303CAF73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7730EB-5818-4953-B651-528AFEAAAC6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0" y="2287440"/>
            <a:ext cx="9326160" cy="2993760"/>
            <a:chOff x="0" y="2287440"/>
            <a:chExt cx="9326160" cy="2993760"/>
          </a:xfrm>
        </p:grpSpPr>
        <p:graphicFrame>
          <p:nvGraphicFramePr>
            <p:cNvPr id="116" name=""/>
            <p:cNvGraphicFramePr/>
            <p:nvPr/>
          </p:nvGraphicFramePr>
          <p:xfrm>
            <a:off x="2880" y="2287440"/>
            <a:ext cx="9323280" cy="29937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80" y="2287440"/>
                      <a:ext cx="9323280" cy="299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" name=""/>
            <p:cNvSpPr/>
            <p:nvPr/>
          </p:nvSpPr>
          <p:spPr>
            <a:xfrm>
              <a:off x="0" y="2301120"/>
              <a:ext cx="1440" cy="27601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0" y="11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S" sz="3200" spc="-1" strike="noStrike">
                <a:solidFill>
                  <a:srgbClr val="99ff33"/>
                </a:solidFill>
                <a:latin typeface="Times New Roman"/>
              </a:rPr>
              <a:t>Micro and Macro vehicle categories across mod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PA                    9  Novembre  200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D98B-C6C7-4C8F-9920-1ABD08E51AFA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B8E98B-C138-4A0E-94B3-FC6C6B23A2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38120" y="1162080"/>
            <a:ext cx="8307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BS" sz="3200" spc="-1" strike="noStrike">
                <a:solidFill>
                  <a:srgbClr val="ffcc66"/>
                </a:solidFill>
                <a:latin typeface="Arial"/>
              </a:rPr>
              <a:t>Pilot SEA: Assessment of  Impacts of Transport Trans-European Network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1640" y="2529000"/>
            <a:ext cx="8139240" cy="37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Objective: estimate impacts  in 2010 for four case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All TEN-T (all modes, with policy measure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No TEN-T (current network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two policy scenarios: Reference and Common </a:t>
            </a: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Transport Policies (Policies Harmonisatio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PA                    9  Novembre 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1494-53FA-4940-A43C-CD553179279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0C1305-1B07-4D02-84BF-FFEBD3B69B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39720" y="456840"/>
            <a:ext cx="7772400" cy="74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S" sz="4400" spc="-1" strike="noStrike">
                <a:solidFill>
                  <a:srgbClr val="ffcc66"/>
                </a:solidFill>
                <a:latin typeface="Times New Roman"/>
              </a:rPr>
              <a:t>Pilot  SEA  Projec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2120" y="1881360"/>
            <a:ext cx="8001000" cy="43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8360">
              <a:lnSpc>
                <a:spcPct val="120000"/>
              </a:lnSpc>
              <a:spcAft>
                <a:spcPts val="1500"/>
              </a:spcAft>
              <a:buClr>
                <a:srgbClr val="ffffcc"/>
              </a:buClr>
              <a:buFont typeface="Arial"/>
              <a:buChar char="•"/>
              <a:tabLst>
                <a:tab algn="l" pos="198360"/>
                <a:tab algn="l" pos="1150920"/>
                <a:tab algn="l" pos="2301840"/>
                <a:tab algn="l" pos="3452760"/>
                <a:tab algn="l" pos="4603680"/>
                <a:tab algn="l" pos="5754600"/>
                <a:tab algn="l" pos="6905520"/>
                <a:tab algn="l" pos="8056440"/>
                <a:tab algn="l" pos="9207360"/>
                <a:tab algn="l" pos="10358280"/>
              </a:tabLst>
            </a:pP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common co-operation plan with COMMUTE, </a:t>
            </a: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STREAMS, SCENARIOS and MEET project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20000"/>
              </a:lnSpc>
              <a:spcAft>
                <a:spcPts val="1500"/>
              </a:spcAft>
              <a:buClr>
                <a:srgbClr val="ffffcc"/>
              </a:buClr>
              <a:buFont typeface="Arial"/>
              <a:buChar char="•"/>
              <a:tabLst>
                <a:tab algn="l" pos="198360"/>
                <a:tab algn="l" pos="1150920"/>
                <a:tab algn="l" pos="2301840"/>
                <a:tab algn="l" pos="3452760"/>
                <a:tab algn="l" pos="4603680"/>
                <a:tab algn="l" pos="5754600"/>
                <a:tab algn="l" pos="6905520"/>
                <a:tab algn="l" pos="8056440"/>
                <a:tab algn="l" pos="9207360"/>
                <a:tab algn="l" pos="10358280"/>
              </a:tabLst>
            </a:pP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definition of scenarios (reference, CTP) between </a:t>
            </a: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STREAMS and SCE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20000"/>
              </a:lnSpc>
              <a:spcAft>
                <a:spcPts val="1500"/>
              </a:spcAft>
              <a:buClr>
                <a:srgbClr val="ffffcc"/>
              </a:buClr>
              <a:buFont typeface="Arial"/>
              <a:buChar char="•"/>
              <a:tabLst>
                <a:tab algn="l" pos="198360"/>
                <a:tab algn="l" pos="1150920"/>
                <a:tab algn="l" pos="2301840"/>
                <a:tab algn="l" pos="3452760"/>
                <a:tab algn="l" pos="4603680"/>
                <a:tab algn="l" pos="5754600"/>
                <a:tab algn="l" pos="6905520"/>
                <a:tab algn="l" pos="8056440"/>
                <a:tab algn="l" pos="9207360"/>
                <a:tab algn="l" pos="10358280"/>
              </a:tabLst>
            </a:pP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Traffic modelling by STREA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20000"/>
              </a:lnSpc>
              <a:spcAft>
                <a:spcPts val="1500"/>
              </a:spcAft>
              <a:buClr>
                <a:srgbClr val="ffffcc"/>
              </a:buClr>
              <a:buFont typeface="Arial"/>
              <a:buChar char="•"/>
              <a:tabLst>
                <a:tab algn="l" pos="198360"/>
                <a:tab algn="l" pos="1150920"/>
                <a:tab algn="l" pos="2301840"/>
                <a:tab algn="l" pos="3452760"/>
                <a:tab algn="l" pos="4603680"/>
                <a:tab algn="l" pos="5754600"/>
                <a:tab algn="l" pos="6905520"/>
                <a:tab algn="l" pos="8056440"/>
                <a:tab algn="l" pos="9207360"/>
                <a:tab algn="l" pos="10358280"/>
              </a:tabLst>
            </a:pP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Impact assessment by COMMU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20000"/>
              </a:lnSpc>
              <a:spcAft>
                <a:spcPts val="1500"/>
              </a:spcAft>
              <a:buClr>
                <a:srgbClr val="ffffcc"/>
              </a:buClr>
              <a:buFont typeface="Arial"/>
              <a:buChar char="•"/>
              <a:tabLst>
                <a:tab algn="l" pos="198360"/>
                <a:tab algn="l" pos="1150920"/>
                <a:tab algn="l" pos="2301840"/>
                <a:tab algn="l" pos="3452760"/>
                <a:tab algn="l" pos="4603680"/>
                <a:tab algn="l" pos="5754600"/>
                <a:tab algn="l" pos="6905520"/>
                <a:tab algn="l" pos="8056440"/>
                <a:tab algn="l" pos="9207360"/>
                <a:tab algn="l" pos="10358280"/>
              </a:tabLst>
            </a:pP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harmonisation of STREAMS model output data with </a:t>
            </a: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COMMUTE tool input data requirements</a:t>
            </a: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PA                    9  Novembre 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7EE9-B655-4F05-86F3-D73874222D7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A12A09-A39C-47B6-9DBC-AECFE6D8E5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Expected applica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19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ff33"/>
                </a:solidFill>
                <a:latin typeface="Times New Roman"/>
              </a:rPr>
              <a:t>European and national network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ff33"/>
                </a:solidFill>
                <a:latin typeface="Times New Roman"/>
              </a:rPr>
              <a:t>Inventor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ff33"/>
                </a:solidFill>
                <a:latin typeface="Times New Roman"/>
              </a:rPr>
              <a:t>Regional Infrastructures Projec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ff33"/>
                </a:solidFill>
                <a:latin typeface="Times New Roman"/>
              </a:rPr>
              <a:t>Local and Long Distance Corrid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PA                    9  Novembre 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D6D0-C8A9-45D2-8F47-7046C5DC9DC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F0C060-94AC-4A87-8599-AA04963CFD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99ff33"/>
                </a:solidFill>
                <a:latin typeface="Times New Roman"/>
              </a:rPr>
              <a:t>LIST OF CONTEN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spcAft>
                <a:spcPts val="901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imes New Roman"/>
              </a:rPr>
              <a:t>COMMUTE Project Descrip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spcAft>
                <a:spcPts val="901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imes New Roman"/>
              </a:rPr>
              <a:t>Consumption  and Emission Models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spcAft>
                <a:spcPts val="901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imes New Roman"/>
              </a:rPr>
              <a:t>Pilot SE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PA                    9  Novembre 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02FD-C0A6-4D49-B1E4-9B1EEF86F54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317D57-FBED-4E28-94DC-7B7C08D2D20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680" y="47304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cc66"/>
                </a:solidFill>
                <a:latin typeface="Times New Roman"/>
              </a:rPr>
              <a:t>COMMUTE     OUTLINE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19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36 Months project, 1996  to 199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13 Partners from 8 European Countrie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CSST, ENEA, GOPA, INRETS, ISVR, ITS,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MARITERM, M+R, NUL, TÜV, TRL, TTR, VTT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193 Men-months, 7 Work Packag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99ff33"/>
                </a:solidFill>
                <a:latin typeface="Arial"/>
              </a:rPr>
              <a:t>link with MEET Project on emission facto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link with Projects STREAMS and SCENARIOS for the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Pilot Strategic Environmental Analysis (SEA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PA                    9  Novembre 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D2F5-6DD6-4384-A5B3-A07A750C90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8CE97F-C356-487A-AF9F-38BC59526CA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9880" y="652320"/>
            <a:ext cx="7737480" cy="78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JM" sz="3600" spc="-1" strike="noStrike">
                <a:solidFill>
                  <a:srgbClr val="99ff33"/>
                </a:solidFill>
                <a:latin typeface="Times New Roman"/>
              </a:rPr>
              <a:t>Main  COMMUTE  Objective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4560" y="1865160"/>
            <a:ext cx="833616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to define a methodology for strategic assessment of the impacts of EU transport policy o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to develop a computer software that embodies the main aspects of the methodolog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to demonstrate the validity of the main aspects of the methodology and the performance of  connected softwa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to assess the impacts on energy consumption, emissions and safety of TEN-T (pilot SEA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PA                    9  Novembre 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918A-2197-49A3-A559-4D36DFAD3C2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F6AAD5-25BC-4E95-892C-29843EEF1B46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93800" y="2025720"/>
            <a:ext cx="79549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JM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JM" sz="2400" spc="-1" strike="noStrike">
                <a:solidFill>
                  <a:srgbClr val="ffff00"/>
                </a:solidFill>
                <a:latin typeface="Arial"/>
              </a:rPr>
              <a:t>energy, emissions, noise and safety across transport modes in each cell of the networ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JM" sz="2400" spc="-1" strike="noStrike">
                <a:solidFill>
                  <a:srgbClr val="ffff00"/>
                </a:solidFill>
                <a:latin typeface="Arial"/>
              </a:rPr>
              <a:t>network approach (cells = links and node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JM" sz="2400" spc="-1" strike="noStrike">
                <a:solidFill>
                  <a:srgbClr val="ffff00"/>
                </a:solidFill>
                <a:latin typeface="Arial"/>
              </a:rPr>
              <a:t>different spatial scales (regional, national, european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JM" sz="2400" spc="-1" strike="noStrike">
                <a:solidFill>
                  <a:srgbClr val="ffff00"/>
                </a:solidFill>
                <a:latin typeface="Arial"/>
              </a:rPr>
              <a:t>time horizon up to 2020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JM" sz="2400" spc="-1" strike="noStrike">
                <a:solidFill>
                  <a:srgbClr val="ffff00"/>
                </a:solidFill>
                <a:latin typeface="Arial"/>
              </a:rPr>
              <a:t>GIS-based (Map-Info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JM" sz="2400" spc="-1" strike="noStrike">
                <a:solidFill>
                  <a:srgbClr val="ffff00"/>
                </a:solidFill>
                <a:latin typeface="Arial"/>
              </a:rPr>
              <a:t>flexible evaluation of resul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11120" y="974880"/>
            <a:ext cx="646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cc"/>
                </a:solidFill>
                <a:latin typeface="Times New Roman"/>
              </a:rPr>
              <a:t>COMMUTE   TOOL   RESUL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PA                    9  Novembre  200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7498-7237-452A-9EE3-E92A59D5302D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D97E74-ADE0-43EA-9273-B1F56AD841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ffcc66"/>
                </a:solidFill>
                <a:latin typeface="Times New Roman"/>
              </a:rPr>
              <a:t>ROAD  EMISSIONS  MODELLING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920960"/>
            <a:ext cx="74836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spcAft>
                <a:spcPts val="1500"/>
              </a:spcAft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Arial"/>
              </a:rPr>
              <a:t>average speed approach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spcAft>
                <a:spcPts val="1500"/>
              </a:spcAft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Arial"/>
              </a:rPr>
              <a:t>over 100 vehicle categories aggregated in PC, LDV, HDV, Buses  and Two-wheel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spcAft>
                <a:spcPts val="1500"/>
              </a:spcAft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Arial"/>
              </a:rPr>
              <a:t>hot emissions and fuel consump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spcAft>
                <a:spcPts val="1500"/>
              </a:spcAft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Arial"/>
              </a:rPr>
              <a:t>cold start emiss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spcAft>
                <a:spcPts val="1500"/>
              </a:spcAft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Arial"/>
              </a:rPr>
              <a:t>road gradient influe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spcAft>
                <a:spcPts val="1500"/>
              </a:spcAft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Arial"/>
              </a:rPr>
              <a:t>evaporative emission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PA                    9  Novembre 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2605-98CD-454C-989B-29114F9A333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6E7E7E-C4BE-4FAD-8576-977B040EC63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17480" y="2652840"/>
            <a:ext cx="76201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8360" algn="just">
              <a:lnSpc>
                <a:spcPct val="100000"/>
              </a:lnSpc>
              <a:spcAft>
                <a:spcPts val="1500"/>
              </a:spcAft>
              <a:buClr>
                <a:srgbClr val="ccecff"/>
              </a:buClr>
              <a:buFont typeface="Arial"/>
              <a:buChar char="•"/>
              <a:tabLst>
                <a:tab algn="l" pos="198360"/>
                <a:tab algn="l" pos="66996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Over 30 aircraft typ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 algn="just">
              <a:lnSpc>
                <a:spcPct val="100000"/>
              </a:lnSpc>
              <a:spcAft>
                <a:spcPts val="1500"/>
              </a:spcAft>
              <a:buClr>
                <a:srgbClr val="ccecff"/>
              </a:buClr>
              <a:buFont typeface="Arial"/>
              <a:buChar char="•"/>
              <a:tabLst>
                <a:tab algn="l" pos="198360"/>
                <a:tab algn="l" pos="66996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flight mission divided into standardised operating </a:t>
            </a: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conditions: taxi out, take off, climb out, climb, cruise,</a:t>
            </a: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descent, approach, taxi 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 algn="just">
              <a:lnSpc>
                <a:spcPct val="100000"/>
              </a:lnSpc>
              <a:spcAft>
                <a:spcPts val="1500"/>
              </a:spcAft>
              <a:buClr>
                <a:srgbClr val="ccecff"/>
              </a:buClr>
              <a:buFont typeface="Arial"/>
              <a:buChar char="•"/>
              <a:tabLst>
                <a:tab algn="l" pos="198360"/>
                <a:tab algn="l" pos="66996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distinction between in-flight emissions and emissions </a:t>
            </a: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in the vicinity of airpor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8360"/>
                <a:tab algn="l" pos="66996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08200" y="838080"/>
            <a:ext cx="736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cc"/>
                </a:solidFill>
                <a:latin typeface="Times New Roman"/>
              </a:rPr>
              <a:t>AIR   EMISSIONS   MODELL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PA                    9  Novembre  200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D7A6-DABD-46C1-A9DD-2BCA8952BCEA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C6AB1D-F8F1-4DDD-A999-242A6E23E41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51000" y="669960"/>
            <a:ext cx="844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Times New Roman"/>
              </a:rPr>
              <a:t>RAIL   EMISSIONS   MODELL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84160" y="1951200"/>
            <a:ext cx="73310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4 Train categori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Maximum and average spe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Number of stop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Weight of tra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Emissions based on consump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Electric and dies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Focus on fuel life cyc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PA                    9  Novembre  200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8D27-7B94-45DA-A411-77B642E42693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CC7650-B9DF-4B05-95D3-CCFB6AC9652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71600" y="105264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cc"/>
                </a:solidFill>
                <a:latin typeface="Times New Roman"/>
              </a:rPr>
              <a:t>WATER   EMISSIONS   MODELL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2300400"/>
            <a:ext cx="64911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JM" sz="2400" spc="-1" strike="noStrike">
                <a:solidFill>
                  <a:srgbClr val="99ff33"/>
                </a:solidFill>
                <a:latin typeface="Arial"/>
              </a:rPr>
              <a:t>80 ship categories (type by siz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JM" sz="2400" spc="-1" strike="noStrike">
                <a:solidFill>
                  <a:srgbClr val="99ff33"/>
                </a:solidFill>
                <a:latin typeface="Arial"/>
              </a:rPr>
              <a:t>Average speed approa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JM" sz="2400" spc="-1" strike="noStrike">
                <a:solidFill>
                  <a:srgbClr val="99ff33"/>
                </a:solidFill>
                <a:latin typeface="Arial"/>
              </a:rPr>
              <a:t>Number of ships for each catego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JM" sz="2400" spc="-1" strike="noStrike">
                <a:solidFill>
                  <a:srgbClr val="99ff33"/>
                </a:solidFill>
                <a:latin typeface="Arial"/>
              </a:rPr>
              <a:t>Gross tonnag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JM" sz="2400" spc="-1" strike="noStrike">
                <a:solidFill>
                  <a:srgbClr val="99ff33"/>
                </a:solidFill>
                <a:latin typeface="Arial"/>
              </a:rPr>
              <a:t>Emissions based on consump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PA                    9  Novembre  200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0084-1A7D-4182-8EC6-136B27E7BCB5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75985C-6E56-4C18-8CBA-B2FBC36F992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1T11:00:12Z</dcterms:created>
  <dc:creator>Negrenti</dc:creator>
  <dc:description/>
  <dc:language>en-US</dc:language>
  <cp:lastModifiedBy>emanuele negrenti</cp:lastModifiedBy>
  <cp:lastPrinted>2000-05-17T09:29:42Z</cp:lastPrinted>
  <dcterms:modified xsi:type="dcterms:W3CDTF">2000-11-08T23:49:16Z</dcterms:modified>
  <cp:revision>23</cp:revision>
  <dc:subject/>
  <dc:title>Titolo da impatto</dc:title>
</cp:coreProperties>
</file>