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BF0-6CD4-46DB-9EBF-E134E184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668-37F0-4C25-B460-4601C7DA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838-961C-4C0D-B0E5-5C2B2C51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F4D-4371-4173-84FB-0842CD4E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4204-1310-4E03-9733-3FD0124C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614C-868A-4B30-A563-6E24433F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C31E-721C-4B18-A280-A80A7ECA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5144-BD5B-41F5-B17A-CABA980C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F88A-428A-4960-B770-1D75F796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90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77AE-1399-4E5E-A1F2-6EA7B4CB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F8B7-7D68-46C4-A681-630C2296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6F3-79F5-4B64-9DBF-63993D02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AA2F-7681-4353-9ABA-0996F4D7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9447-BE9D-4BE8-AFDB-3784CAFC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F1AE-2FE3-4CBA-A8FD-23979A8C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341D-E4D6-454F-9677-D2324A09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7FB4-DBA7-43F9-8FBC-92B5C0B1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F70-C0BA-4EDF-B1BD-1034652B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EF6-2ACA-4F0A-8E14-5F886679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F76-8DB8-4CA2-A559-B57F0EB5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90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035-F064-4228-8522-99991931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9F4-853C-4D38-A16E-E21E4C5F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8D2-B3FE-421B-9875-17E99B7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798-2A1B-4309-9D0A-4662B731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294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2944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1440" y="62294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7EEC-6B3C-4A8B-9207-FCE2CF3556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90720" y="1314360"/>
            <a:ext cx="89154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609120"/>
            <a:ext cx="885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5F17-9416-43AC-9501-5DB8EF8B92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3733920"/>
            <a:ext cx="7924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onio MATTUCCI - Domenico PALAM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A Dip.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057400"/>
            <a:ext cx="6858000" cy="70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Analisi delle correlazioni COPERT III</a:t>
            </a:r>
            <a:r>
              <a:rPr b="1" lang="it-IT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BD8-CBC6-4A3B-96C8-7710A5DC0471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362320" y="609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 consumi specifici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9037440" cy="508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98D-F777-4C53-81F1-F0BE7CF7629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6094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specifiche di C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961480" cy="5083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19520" y="2514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8E0-C39C-4CCA-8F34-CB3846ECF47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6094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specifiche VOC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9037440" cy="5083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3D6-7328-4613-8F30-7D9D212F775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609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umi specifici dei veicoli merci legge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067680" cy="5083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18C-84F0-4B62-9F3A-226DC5FF17FC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6094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Le emissioni di NO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per i veicoli merci legg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666880" y="1828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2C0-5CC9-427A-9B36-ACDE2093A468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609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di VOC dei veicoli merci pesanti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EB0-1D71-4F3D-BA4A-927EF47649A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di CO dei motocic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113760" cy="5083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FB8-FFD7-4972-81D3-131FF706BEFA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6094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Emissioni di NO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dei motocic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991720" cy="5083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2880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D36-4DC1-434B-9515-DA6A7D107432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686800" cy="508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9092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umi specifici autovetture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559-9765-4BE0-B3DC-D237FFEAA690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33360" y="1219320"/>
            <a:ext cx="9237600" cy="5083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9092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umi specifici autovetture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2F6-4FE5-43E5-A416-9440CAD84896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1828800"/>
            <a:ext cx="792504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basi di par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erifica ambientale del Piano Generale dei 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Uso del  modello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’oggetto dell’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same di anomalie riscontrate sulle previsioni dell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missioni (emissioni negative, discontinuità tr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previsioni temporali successive, ec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dividuazione delle differenze più significative tr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PERT III e le correlazioni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t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76F-A7B4-402D-8A5E-E98D0B8E833F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067680" cy="5083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28800" y="2438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missioni specifiche CO autovetture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834-5F44-468A-A989-E6E613F36EE2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00200" y="2286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missioni specifiche PM autovetture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CFD-C295-4701-85CE-D71EF4ACD1DA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66680" y="1828800"/>
            <a:ext cx="792504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3906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alizzate problematiche COPERT III per previsioni dell’evoluzione del trasporto strad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Elementi considerati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malie correlazioni COPE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ronto correlazioni COPERT III con TREMOVE (COPERT II migliora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sponibilità di formule per evoluzioni tecnolo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253-1C87-4EBA-8E79-349461CDE98E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1523880"/>
            <a:ext cx="822960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3744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Problemi delle correlazioni COPE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correlazioni della C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le autovetture catalizzate, rispetto a quelle “convenzionali”, hanno valori maggiori alle basse velocità e minori sopra i 50 km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correlazioni della C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i veicoli merci leggeri Euro I danno valori circa 3 volte maggiori degli analoghi convenz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convertitori catalitici per i veicoli merci leggeri non sembrano avere comportamenti assimilabili alle curve proposte per le emissioni di N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veicoli merci pesanti di portata maggiore hanno emissioni di VOC minori a parità di altre condi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emissioni di CO dei motocicli a due tempi possono divenire negative a bassa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consumi delle autovetture a benzina divengono molto maggiori degli analoghi valori delle vetture diesel e GPL alle basse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E8A-2106-442C-8CFF-26F61162DA89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66680" y="1828800"/>
            <a:ext cx="79250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390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fronto correlazioni COPERT III con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 le autovetture EURO I  si hanno emissioni di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consumi minori alle basse ed alte velocità per COPERT III e maggiori alle velocità me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dibilità delle correl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sponibilità di metodi per creare nuove correlazioni per effettuare previsioni relative a interventi di introduzione di nuove tecnologie vei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canza di correlazioni per i ciclomotori dipendenti dalla velocità che possono dare indicazioni del tutto falsate nel contesto in e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08A-ACD1-4754-B716-FF7BFBFFF81B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33720" y="304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l modello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276720"/>
            <a:ext cx="2133720" cy="104112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sti e valutazione di traf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scelta modale basata su costo generalizza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505320"/>
            <a:ext cx="2133360" cy="61524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rco veico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variazione composizi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3505320"/>
            <a:ext cx="2133720" cy="70776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Emissioni e consu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0481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manda di trasp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380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687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0481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sizione del p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19810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locità e fattori di ca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1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1430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438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390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49068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Emiss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4267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5720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nsumo di carb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343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mposizione del p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343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66680" y="4343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06668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57040" y="4724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447560" y="510552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44792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7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D55-090D-4A3A-9599-4F34F15E352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7816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Obiettivi e strument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495360" y="380880"/>
            <a:ext cx="177480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1143000"/>
            <a:ext cx="6827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Tahoma"/>
              </a:rPr>
              <a:t>Il modello TREMOVE e il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83360" y="2362320"/>
            <a:ext cx="4127400" cy="13172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EMO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ated Transport Model</a:t>
            </a: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2920" y="1676520"/>
            <a:ext cx="9079920" cy="3963240"/>
            <a:chOff x="412920" y="1676520"/>
            <a:chExt cx="9079920" cy="3963240"/>
          </a:xfrm>
        </p:grpSpPr>
        <p:sp>
          <p:nvSpPr>
            <p:cNvPr id="126" name=""/>
            <p:cNvSpPr/>
            <p:nvPr/>
          </p:nvSpPr>
          <p:spPr>
            <a:xfrm>
              <a:off x="412920" y="1676520"/>
              <a:ext cx="907992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ASE CASE (1990-202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920" y="2356920"/>
              <a:ext cx="1776240" cy="536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ices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 (tax exclude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2920" y="3491280"/>
              <a:ext cx="1742040" cy="536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el prices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tax exclude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2920" y="3037680"/>
              <a:ext cx="177624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ax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920" y="4247280"/>
              <a:ext cx="174204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el tax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2920" y="4625640"/>
              <a:ext cx="1742040" cy="1014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age tax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urance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&amp;M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11200" y="2356920"/>
              <a:ext cx="2778840" cy="778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raffic demand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km, tkm, v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ad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11200" y="4625640"/>
              <a:ext cx="2754720" cy="1014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ther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S fu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 valu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ed-flow fu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11200" y="3264480"/>
              <a:ext cx="2754720" cy="1249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tock  &amp; technology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ission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cons.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spe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PEFE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0120" y="4038480"/>
            <a:ext cx="9105480" cy="2178000"/>
            <a:chOff x="330120" y="4038480"/>
            <a:chExt cx="9105480" cy="2178000"/>
          </a:xfrm>
        </p:grpSpPr>
        <p:sp>
          <p:nvSpPr>
            <p:cNvPr id="136" name=""/>
            <p:cNvSpPr/>
            <p:nvPr/>
          </p:nvSpPr>
          <p:spPr>
            <a:xfrm>
              <a:off x="5282640" y="4038480"/>
              <a:ext cx="2517480" cy="16095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1213"/>
                </a:spcBef>
                <a:spcAft>
                  <a:spcPts val="938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licy Op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hicle 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&amp;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n-Technical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scal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0120" y="5908680"/>
              <a:ext cx="9105480" cy="307800"/>
            </a:xfrm>
            <a:prstGeom prst="rect">
              <a:avLst/>
            </a:prstGeom>
            <a:solidFill>
              <a:srgbClr val="ffff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LICY SCENARIOS  (2000-202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924680" y="4038480"/>
            <a:ext cx="1487160" cy="1603440"/>
            <a:chOff x="7924680" y="4038480"/>
            <a:chExt cx="1487160" cy="1603440"/>
          </a:xfrm>
        </p:grpSpPr>
        <p:sp>
          <p:nvSpPr>
            <p:cNvPr id="139" name=""/>
            <p:cNvSpPr/>
            <p:nvPr/>
          </p:nvSpPr>
          <p:spPr>
            <a:xfrm>
              <a:off x="7924680" y="4038480"/>
              <a:ext cx="148572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Emiss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4648320"/>
              <a:ext cx="148572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Co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4680" y="5334120"/>
              <a:ext cx="148716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Side effec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4B08-02A1-42F8-ACF6-442A71BCF1D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14600" y="6094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utput di TREMOVE (per domini e catego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676520"/>
            <a:ext cx="68580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nsumo di carbur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missioni di CO, NO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, Particolato, C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, VOC,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missioni di CO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Parco veicolare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tà dei veicol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Traffico annuale in milioni di veicoli-km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Traffico annuale in milioni di passeggeri-km e tonnellate-km (per class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Fattori di carico (pass/veh o tonn/ve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Velocità medie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trasporto passegger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trasporto merc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del Trasporto Pub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A3F-C052-4ED4-8C83-1E5738D4BA2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304920"/>
            <a:ext cx="6705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Tahoma"/>
              </a:rPr>
              <a:t>Costi - efficacia provvedimenti P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1143000"/>
            <a:ext cx="9296640" cy="5257800"/>
            <a:chOff x="380880" y="1143000"/>
            <a:chExt cx="9296640" cy="5257800"/>
          </a:xfrm>
        </p:grpSpPr>
        <p:sp>
          <p:nvSpPr>
            <p:cNvPr id="147" name=""/>
            <p:cNvSpPr/>
            <p:nvPr/>
          </p:nvSpPr>
          <p:spPr>
            <a:xfrm>
              <a:off x="4800600" y="1676520"/>
              <a:ext cx="4191120" cy="1981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Evitar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Incremento Emissioni + Cos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3809880"/>
              <a:ext cx="3962520" cy="21337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"Attuare sempr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Riduzione Emissioni + Benefici economi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1676520"/>
              <a:ext cx="3962520" cy="1981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Teoricamente possibile ma da selezionare con cautela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Incremento Emissioni + Benefici economi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3809880"/>
              <a:ext cx="4191120" cy="21337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Situazione probabile con scelta delle soluzioni più efficaci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Riduzione Emissioni + Cos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33520" y="3733560"/>
              <a:ext cx="9144000" cy="612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724280" y="1219320"/>
              <a:ext cx="0" cy="495288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0" y="594360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Riduzione Emissio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%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880" y="3809880"/>
              <a:ext cx="27432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Risparmi per la socie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MEuro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11430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ncremento Emissio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%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34320" y="3200400"/>
              <a:ext cx="266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sti per la socie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MEuro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95360" y="380880"/>
            <a:ext cx="177480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7EA-F9D5-4123-A281-B4F54CF2FC78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1447920"/>
            <a:ext cx="85345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Le ipotesi adottate per lo scenario di riferimento (evoluzione natur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Scenario di evoluzione naturale del tipo "Business as Usual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Scenario evolutivo di riferimento pre-Ky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Crescita annuale media del PIL pari al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819520"/>
            <a:ext cx="876312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Aggiornamenti rispetto ad AUTOOIL II</a:t>
            </a:r>
            <a:r>
              <a:rPr b="0" lang="it-IT" sz="1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o assetto del parco veicolare sia come composizione, sia come età dei veicol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a imposizione fiscale sui veicoli, soprattutto per le autovetture a gasol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percorrenze veicolari annuali per ogni classe di veicol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quadratura della domanda del trasporto di persone e di merci con i dati del Conto Nazionale Trasport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e tariffe unitarie per il calcolo del costo del tempo e dei trasporti delle merc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nuovi coefficienti per le funzioni di congestione, tarati sull’assetto effettivo del traffico veicol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257800"/>
            <a:ext cx="76201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tiliz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*  Calibrazione del mod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*  Confronto per gli scenari risultanti dall’applicazione delle nuove poli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80880"/>
            <a:ext cx="662940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Lo scenario naturale italiano per le analisi P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(base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A5E-9B36-4E5E-B593-31E23063755F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072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 previsioni dello scenario di riferimento al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1676520"/>
          <a:ext cx="9144000" cy="47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914400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47B-082F-4456-9F34-92C78A1EB66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14400" y="1447920"/>
          <a:ext cx="8305920" cy="464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305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emissioni dello scenario di rife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F30-52FE-4002-9A00-F1ADD9DC714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8:52:59Z</dcterms:created>
  <dc:creator>Snake</dc:creator>
  <dc:description/>
  <dc:language>en-US</dc:language>
  <cp:lastModifiedBy>idefix</cp:lastModifiedBy>
  <dcterms:modified xsi:type="dcterms:W3CDTF">2000-11-08T16:58:15Z</dcterms:modified>
  <cp:revision>93</cp:revision>
  <dc:subject/>
  <dc:title>Nessun titolo diapositiva</dc:title>
</cp:coreProperties>
</file>