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842-5CAA-45D0-A2BB-C6417A69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438-F798-4BEC-861B-A4E570FC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965-3876-4A7C-A289-64406C48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EEF-D43D-4431-B1E5-BE2059A3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DD8-3D85-4B60-B5BE-25A4956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F5B1-E78B-43AC-95C5-9CA2F40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62EE-29B2-4677-B905-0389EFDC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898-75F0-4DE1-B62D-A1F8B4C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EC6B-BE48-4D35-9D41-26A0493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75B1-3E53-4A45-B374-BCC6420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9796-73CA-4CA7-91F2-D5FA104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F34-8A63-4042-9058-B9DFEB5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966-2077-4739-9A57-C30A957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A212-D3BC-43F8-BD28-4906349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1CB1-6DF8-4225-8674-23638FF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F749-BF6F-455E-95BD-24B758F1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B3F-D4DA-41D2-9C55-4E0C7794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FB1-ADAD-4D2D-999B-20BBD30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F92-56FB-4816-B897-92CC1175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034-3305-4679-A53E-BEE43197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B56-9CB7-4B12-BC12-BA5B95DA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19E-928D-43AF-9F1F-48FAFC9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85A-3C10-427B-BBA5-EA64483B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A66-0E02-4F85-9A35-A59F8E5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1000"/>
          </a:bodyPr>
          <a:p>
            <a:pPr marL="334440" indent="-334440">
              <a:spcBef>
                <a:spcPts val="9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725040" indent="-279000">
              <a:spcBef>
                <a:spcPts val="97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45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0600" indent="-222120">
              <a:spcBef>
                <a:spcPts val="975"/>
              </a:spcBef>
              <a:buClr>
                <a:srgbClr val="333333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4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5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6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A14B4CFE-A3FF-460D-B4CE-89E89D71996D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6F5B050D-6D3F-4617-9920-D3508AF8EB8C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6160" y="3340080"/>
            <a:ext cx="861084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EF28DDEF-74DD-4D9E-9945-E637325A0A85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65F3E75E-7818-4A92-B3F8-68400BFEFEB1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550800" indent="0" algn="ctr">
              <a:spcBef>
                <a:spcPts val="85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1600" algn="ctr">
              <a:spcBef>
                <a:spcPts val="726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lvl="3" marL="165276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203560" algn="ctr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10287000" cy="289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imes New Roman"/>
              </a:rPr>
              <a:t>Codice TEE :  Trasporti Energia Emissioni</a:t>
            </a:r>
            <a:br>
              <a:rPr sz="32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E. Negrenti  - ENEA</a:t>
            </a: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it-IT" sz="2900" spc="-1" strike="noStrike">
                <a:solidFill>
                  <a:srgbClr val="a50021"/>
                </a:solidFill>
                <a:latin typeface="Times New Roman"/>
              </a:rPr>
              <a:t>ANPA  -  9 Novembre  2000</a:t>
            </a:r>
            <a:r>
              <a:rPr b="0" lang="en-GB" sz="3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5.   THE  KINEMATICS  CORRECTION FACTOR  (KCF) APPROACH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67752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5000"/>
          </a:bodyPr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MISSIONS ON NETWORK LINKS ARE NORMALLY CALCULATED FROM AVERAGE SPEED, BUT LINKS WITH  THE SAME AVERAGE SPEED CAN SHOW VERY DIFFERENT VEHICLE KINEMATICS, AND VERY DIFFERENT EMISS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ORRECT THE ‘AVERAGE SPEED EMISSION’ WITH A FACTOR INCLUDING THE EFFECT OF SPEED VARIABILITY ALONG THE LINK CAN REDUCE EMISSION UNCERTAIN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‘KCF’ CAN BE EXPRESSED AS A FUNCTION OF TRAFFIC DENSITY, GREEN TIME %, LINK LENGTH AND AVERAGE SPEED AND CALCULATED BY THE RECONSTRUCTION OF THE SPEED CYCL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0">
              <a:spcBef>
                <a:spcPts val="6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8A4-C39B-4EA9-87FE-89E8F6E055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1CECD-572D-4A2E-B5EE-A132C79DF6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280" y="101520"/>
          <a:ext cx="10134720" cy="6756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1520"/>
                    <a:ext cx="1013472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87A-AF95-4AAE-AFDD-677B0FB6CB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B511-7461-410D-BA2A-B3386EDCF6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28880" y="0"/>
          <a:ext cx="8229600" cy="55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0"/>
                    <a:ext cx="822960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65400" y="5183280"/>
            <a:ext cx="79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IG. 2 : SPEED CYCLE RECONSTRUCTION : TIME FRACTIONS OF KINEMATIC PHASES   VS  NORMALISED TRAFFIC DENSITY (QUALITATIVE CURVES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247-F0EF-4B70-8C5E-9BF8A8E3B5B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7E0E7-DFEA-428D-860D-E18C279E9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41600" y="182520"/>
          <a:ext cx="7240320" cy="54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82520"/>
                    <a:ext cx="724032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57400" y="5411880"/>
            <a:ext cx="63309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GURE 3 : TYPICAL  RECONSTRUCTED SPEED CYC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8D5-A773-4F0E-9374-1180722F2DC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46DA-A8BC-4B17-B461-2374CD7CB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10287000" cy="5257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5.1  RESULTS  FROM  DG XII  ESTEEM  PROJECT</a:t>
            </a:r>
            <a:br>
              <a:rPr sz="2800"/>
            </a:b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       KCF =  KCF0 * d(D) * g(G) * l(L) * v(V)</a:t>
            </a:r>
            <a:br>
              <a:rPr sz="2800"/>
            </a:br>
            <a:r>
              <a:rPr b="1" lang="en-GB" sz="2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for Fuel Consumption (c1 to c14 are optimised coefficients) 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(D) =  c1 (D &lt; 30) ,   c2 * D + c3   (30 &lt; D &lt; 90),   c4-c5*D   ( D&gt;90)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g(G) =  c6 ,for G &lt; 0.9 ,  and  c7 - c8 * G  for 0.9 &lt; G &lt; 1.0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v(V) = c12 + c13 * exp (-V/c14)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for CO emissions  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d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(D) = c1 + c2 * exp (D/c3)  (D&lt;90),  and   d(D) = c4-c5*D (D&gt;90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(G) = c6 + c7 * exp (-G/c8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v(V) = c12 - c13 * exp (-V/c14</a:t>
            </a:r>
            <a:r>
              <a:rPr b="1" lang="en-GB" sz="29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F90-A0B4-48FC-A697-A6E3C2D519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0217B-17E0-4221-B01B-C836320C7C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8fc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382680"/>
            <a:ext cx="807120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ctr">
            <a:noAutofit/>
          </a:bodyPr>
          <a:p>
            <a:pPr algn="ctr"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G . 4 : KCF  for  Fuel  Consump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ull range density profile (10  to 110 vehicles/K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6800" y="3083040"/>
          <a:ext cx="5213520" cy="214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3083040"/>
                    <a:ext cx="5213520" cy="21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54040" y="1554120"/>
          <a:ext cx="9337680" cy="461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1554120"/>
                    <a:ext cx="9337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78F-F133-4BB2-B53F-CA945544732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B247-CECB-4951-95D1-6FFE73DBA0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870120" y="501480"/>
          <a:ext cx="8546760" cy="468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0120" y="501480"/>
                    <a:ext cx="85467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28880" y="5486400"/>
            <a:ext cx="83088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igure 5 : Measured, calculated (shaded area) and extrapolated CO level at Corso Francia site, for business da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CC7-5D12-4B1A-88AB-D56671B14B8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7E99A-CE93-486F-ADFC-D0CF6684D4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91404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AIN  CONTENT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EHICLES  KINEMA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MODELLED F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ARKING PROCESS S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KINEMATICS CORREC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256-0757-43E7-B9CA-5C1BA2D5A2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C17D-168F-4991-B826-EB666B50D1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aee"/>
            </a:gs>
            <a:gs pos="100000">
              <a:srgbClr val="ebf7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1) OBJECTIVES OF TEE MODE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0000"/>
          </a:bodyPr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Link by link emission calcul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lexible kinematics descri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Modelling all factors affecting emiss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Separated analysis of parking proce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ntegration of the micro module (one link - one hour) in a year - network framewor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omplete spatial-temporal flex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0">
              <a:spcBef>
                <a:spcPts val="9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553-17DF-4B97-A329-E1D705D12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E537C-1630-4F6A-8F5E-03C6075FE4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2.   TEE  MODEL  KINEMATIC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743680" cy="4572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VARIABLE KINEMATICS APPRO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TRATEGIC  COUPLING WITH ANY TRAFFIC MODEL OR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VERAGE SPEED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CYCLE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ETAILED SPEED CYCLE O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KINEMATICS CORRECTION FACTOR APPROACH (1998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F1E-CFC6-43F2-9CF1-39F43417E3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88168-C7E8-4089-8DAE-5BC20DD78F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Times New Roman"/>
              </a:rPr>
              <a:t>3.   MODELLED   FACTOR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1120" y="1523520"/>
            <a:ext cx="8744040" cy="4573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NGINE TEMPERATURE (LOCAL COLD VEHICLES  FRAC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ROAD GRADIENT (SLOP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AINTEN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L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ISTINCT  PARKING 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DE4-09D8-4B27-B97E-7922A72051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45A5E-66AB-4232-86C4-B100E3730E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 PARKING   PROCESS   SIMULATION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744040" cy="47246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ARKING  AND INSERTING FLOWS FOR EACH LINK (‘P’ AND ‘I’ MOD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AND  DISTRIBUTED PARKING  ARE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 CYCLES  FOR  PARKING INLET  AND  OUT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 : DECELL.,   SEARCH,   PAR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  : WARM UP,   EXIT,   INSE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D4E-6E30-4946-B829-E89A5094B2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8A730-71AD-442C-9414-179F74EDAA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6098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1  PARKING  MODELL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7000"/>
          </a:bodyPr>
          <a:p>
            <a:pPr marL="358920" indent="-358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PARKINGS     STATIC  CHARACTER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ARKING INVENTORY (MAX. N. OF VEHICLES  AND MACRO  CATEGORIES  ALLOW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ISTANCE FROM  LINK  INLET TO  PARKING PLACE - AND FROM PARKING TO LINK OUTL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INKS  OF INLET(S) AND OUTLET(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COORDINATES OF PARKING AREA CENTRE FOR  GIS REPRESEN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82E-5B82-4A87-ACCC-2B77B74A23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F11E7-F75E-4C40-A68B-B109EEE84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2   DISTRIBUTED   PARKINGS</a:t>
            </a:r>
            <a:br>
              <a:rPr sz="3200"/>
            </a:b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STATIC   CHARACTERISATION</a:t>
            </a:r>
            <a:r>
              <a:rPr b="0" lang="en-GB" sz="53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DENSITY OF PARKING PLACES (VEH/KM) ALONG ROAD SIDES  - DEFAULT CAN BE AROUND 200 V/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0">
              <a:spcBef>
                <a:spcPts val="700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ACRO CATEGORIES  ALLOWED TO PARK ALONG THE ROAD CONSIDERED (e.g. : Passenger Cars, 2 Wheelers, coach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B5D-7C15-45A1-86FC-B62A3BC320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FAC5A-6BCB-4490-ABA5-872C391A4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743680" cy="12952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004c2b"/>
                </a:solidFill>
                <a:latin typeface="Times New Roman"/>
              </a:rPr>
              <a:t>4.3 </a:t>
            </a: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Dynamic Description  of  Parking Areas (Concentrated or Distributed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Occupation profile in 24h (from 0 to 1 of local inventor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put and Output flows (veh/hr) to-from linked vehicular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rom Concentrated parking : data from monitored par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or Distributed parking : a  fixed % of the hourly transit flow (1999….  What in 2000?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9B4-0A26-4455-9604-69828C0B0B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037D2-E877-41E0-BE32-B761B048E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Negrenti</dc:creator>
  <dc:description/>
  <dc:language>en-US</dc:language>
  <cp:lastModifiedBy>emanuele negrenti</cp:lastModifiedBy>
  <cp:lastPrinted>2000-11-08T18:29:40Z</cp:lastPrinted>
  <dcterms:modified xsi:type="dcterms:W3CDTF">2000-11-08T23:29:38Z</dcterms:modified>
  <cp:revision>136</cp:revision>
  <dc:subject/>
  <dc:title>Nessun titolo diapositiva</dc:title>
</cp:coreProperties>
</file>