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62C91-8E4E-46B5-A376-2224AA50EA93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7E590-F762-4E8A-8518-0CC5BE82CA19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301760" y="804960"/>
            <a:ext cx="4255920" cy="319068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52760"/>
            <a:ext cx="5029200" cy="40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5C3C-8046-4D44-B5E6-1C7F25069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C503-2C44-4149-8A4E-7C7D3BD65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C9A3-659E-4CD3-A34C-0C1170008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7A9A-7712-4B7B-9DD1-FAF1DAEEE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AC334-FDE1-49BB-81C3-7A653BFC5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56460-BAC6-4628-A522-F3A4AA266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4E13C-3FF2-4391-BA1F-7746430B6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DB7AE-6858-4EAC-828E-CD62B3DB2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FD777-D853-4000-8B66-4B2C7B2F2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7C7F3-C227-4E79-A05B-A55FA5F88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1ED9E-19A5-4A12-8CCB-91D9F305B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A280-3FA2-4D28-B064-5A129DF6A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A9B62-12A5-4899-A188-FE6857061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D4DFE-8F8A-4747-90DE-B98DC89B0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0181A-6AEA-4E59-B435-FB96C7468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E3FDD-ED4D-4E85-8F07-8A4DD997C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C5AE0-40ED-4172-9063-E4AF3EB9D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FDE9-30D1-44CF-B496-E77B0E56B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B999-BF4E-425C-8A5C-12417932A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91C5-1A43-473E-978B-438216046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496C-31B9-4183-8A3D-58FF1C5AB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97D1-E694-47EA-9C40-FE2C03CAF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4C34-2C37-4D7E-A475-F254CAD05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FDA2-16B1-4665-A83E-02DC0E7A0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D8DD0-7442-4288-B5DD-F2AC4BD97D88}" type="datetime">
              <a:rPr b="0" lang="en-US" sz="1400" spc="-1" strike="noStrike">
                <a:solidFill>
                  <a:srgbClr val="ffffcc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FBF0D-F380-4D94-B235-EB827BE6E4B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AC66F-108D-4A8D-8CB0-F51A2411CA53}" type="datetime">
              <a:rPr b="0" lang="en-US" sz="1400" spc="-1" strike="noStrike">
                <a:solidFill>
                  <a:srgbClr val="ffffcc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70087-80A3-478B-9D1A-A75AFBA3DFF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128600" y="1036800"/>
            <a:ext cx="6553440" cy="48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COMMUTE</a:t>
            </a:r>
            <a:r>
              <a:rPr b="1" lang="en-GB" sz="3200" spc="-1" strike="noStrike">
                <a:solidFill>
                  <a:srgbClr val="ffffcc"/>
                </a:solidFill>
                <a:latin typeface="Times New Roman"/>
              </a:rPr>
              <a:t>  </a:t>
            </a:r>
            <a:br>
              <a:rPr sz="3200"/>
            </a:b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Common Methodology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for Multi-Modal Transpor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Environmental Impact Assessment</a:t>
            </a:r>
            <a:br>
              <a:rPr sz="2800"/>
            </a:br>
            <a:br>
              <a:rPr sz="2800"/>
            </a:b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Strategic Research Programme  of  E.C.   DGVI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ff33"/>
                </a:solidFill>
                <a:latin typeface="Times New Roman"/>
              </a:rPr>
              <a:t>Presented by  E. Negrenti   ENE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PA                    9  Novembre  200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2C07-C2F6-4A50-B1D4-9570C3DE499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351C0C-FFE5-41B2-A060-03191798B17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"/>
          <p:cNvGrpSpPr/>
          <p:nvPr/>
        </p:nvGrpSpPr>
        <p:grpSpPr>
          <a:xfrm>
            <a:off x="0" y="2287440"/>
            <a:ext cx="9326160" cy="2993760"/>
            <a:chOff x="0" y="2287440"/>
            <a:chExt cx="9326160" cy="2993760"/>
          </a:xfrm>
        </p:grpSpPr>
        <p:graphicFrame>
          <p:nvGraphicFramePr>
            <p:cNvPr id="116" name=""/>
            <p:cNvGraphicFramePr/>
            <p:nvPr/>
          </p:nvGraphicFramePr>
          <p:xfrm>
            <a:off x="2880" y="2287440"/>
            <a:ext cx="9323280" cy="299376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11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880" y="2287440"/>
                      <a:ext cx="9323280" cy="2993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8" name=""/>
            <p:cNvSpPr/>
            <p:nvPr/>
          </p:nvSpPr>
          <p:spPr>
            <a:xfrm>
              <a:off x="0" y="2301120"/>
              <a:ext cx="1440" cy="276012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0" y="11286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BS" sz="3200" spc="-1" strike="noStrike">
                <a:solidFill>
                  <a:srgbClr val="99ff33"/>
                </a:solidFill>
                <a:latin typeface="Times New Roman"/>
              </a:rPr>
              <a:t>Micro and Macro vehicle categories across mod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PA                    9  Novembre  200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7F4A-FE45-4103-82D4-30718E40571F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C57621-FD8F-47BA-8F13-D822C3435FE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38120" y="1162080"/>
            <a:ext cx="8307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BS" sz="3200" spc="-1" strike="noStrike">
                <a:solidFill>
                  <a:srgbClr val="ffcc66"/>
                </a:solidFill>
                <a:latin typeface="Arial"/>
              </a:rPr>
              <a:t>Pilot SEA: Assessment of  Impacts of Transport Trans-European Networks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01640" y="2529000"/>
            <a:ext cx="8139240" cy="37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BS" sz="2400" spc="-1" strike="noStrike">
                <a:solidFill>
                  <a:srgbClr val="ffffcc"/>
                </a:solidFill>
                <a:latin typeface="Arial"/>
              </a:rPr>
              <a:t>Objective: estimate impacts  in 2010 for four case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B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BS" sz="2400" spc="-1" strike="noStrike">
                <a:solidFill>
                  <a:srgbClr val="ffffcc"/>
                </a:solidFill>
                <a:latin typeface="Arial"/>
              </a:rPr>
              <a:t>All TEN-T (all modes, with policy measure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B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BS" sz="2400" spc="-1" strike="noStrike">
                <a:solidFill>
                  <a:srgbClr val="ffffcc"/>
                </a:solidFill>
                <a:latin typeface="Arial"/>
              </a:rPr>
              <a:t>No TEN-T (current network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BS" sz="2400" spc="-1" strike="noStrike">
                <a:solidFill>
                  <a:srgbClr val="ffffcc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B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BS" sz="2400" spc="-1" strike="noStrike">
                <a:solidFill>
                  <a:srgbClr val="ffffcc"/>
                </a:solidFill>
                <a:latin typeface="Arial"/>
              </a:rPr>
              <a:t>two policy scenarios: Reference and Common </a:t>
            </a:r>
            <a:r>
              <a:rPr b="0" lang="en-B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B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BS" sz="2400" spc="-1" strike="noStrike">
                <a:solidFill>
                  <a:srgbClr val="ffffcc"/>
                </a:solidFill>
                <a:latin typeface="Arial"/>
              </a:rPr>
              <a:t>Transport Policies (Policies Harmonisation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PA                    9  Novembre  200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8D92-E2D5-4E20-B7B0-E94FD5E2BA0C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E73265-0C13-425E-B852-F7CEE3E1E50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39720" y="456840"/>
            <a:ext cx="7772400" cy="74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BS" sz="4400" spc="-1" strike="noStrike">
                <a:solidFill>
                  <a:srgbClr val="ffcc66"/>
                </a:solidFill>
                <a:latin typeface="Times New Roman"/>
              </a:rPr>
              <a:t>Pilot  SEA  Project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92120" y="1881360"/>
            <a:ext cx="8001000" cy="436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98360">
              <a:lnSpc>
                <a:spcPct val="120000"/>
              </a:lnSpc>
              <a:spcAft>
                <a:spcPts val="1500"/>
              </a:spcAft>
              <a:buClr>
                <a:srgbClr val="ffffcc"/>
              </a:buClr>
              <a:buFont typeface="Arial"/>
              <a:buChar char="•"/>
              <a:tabLst>
                <a:tab algn="l" pos="198360"/>
                <a:tab algn="l" pos="1150920"/>
                <a:tab algn="l" pos="2301840"/>
                <a:tab algn="l" pos="3452760"/>
                <a:tab algn="l" pos="4603680"/>
                <a:tab algn="l" pos="5754600"/>
                <a:tab algn="l" pos="6905520"/>
                <a:tab algn="l" pos="8056440"/>
                <a:tab algn="l" pos="9207360"/>
                <a:tab algn="l" pos="10358280"/>
              </a:tabLst>
            </a:pPr>
            <a:r>
              <a:rPr b="0" lang="en-JM" sz="2400" spc="-1" strike="noStrike">
                <a:solidFill>
                  <a:srgbClr val="ffffcc"/>
                </a:solidFill>
                <a:latin typeface="Arial"/>
              </a:rPr>
              <a:t>common co-operation plan with COMMUTE, </a:t>
            </a:r>
            <a:r>
              <a:rPr b="0" lang="en-JM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JM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JM" sz="2400" spc="-1" strike="noStrike">
                <a:solidFill>
                  <a:srgbClr val="ffffcc"/>
                </a:solidFill>
                <a:latin typeface="Arial"/>
              </a:rPr>
              <a:t>STREAMS, SCENARIOS and MEET projects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indent="198360">
              <a:lnSpc>
                <a:spcPct val="120000"/>
              </a:lnSpc>
              <a:spcAft>
                <a:spcPts val="1500"/>
              </a:spcAft>
              <a:buClr>
                <a:srgbClr val="ffffcc"/>
              </a:buClr>
              <a:buFont typeface="Arial"/>
              <a:buChar char="•"/>
              <a:tabLst>
                <a:tab algn="l" pos="198360"/>
                <a:tab algn="l" pos="1150920"/>
                <a:tab algn="l" pos="2301840"/>
                <a:tab algn="l" pos="3452760"/>
                <a:tab algn="l" pos="4603680"/>
                <a:tab algn="l" pos="5754600"/>
                <a:tab algn="l" pos="6905520"/>
                <a:tab algn="l" pos="8056440"/>
                <a:tab algn="l" pos="9207360"/>
                <a:tab algn="l" pos="10358280"/>
              </a:tabLst>
            </a:pPr>
            <a:r>
              <a:rPr b="0" lang="en-JM" sz="2400" spc="-1" strike="noStrike">
                <a:solidFill>
                  <a:srgbClr val="ffffcc"/>
                </a:solidFill>
                <a:latin typeface="Arial"/>
              </a:rPr>
              <a:t>definition of scenarios (reference, CTP) between </a:t>
            </a:r>
            <a:r>
              <a:rPr b="0" lang="en-JM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JM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JM" sz="2400" spc="-1" strike="noStrike">
                <a:solidFill>
                  <a:srgbClr val="ffffcc"/>
                </a:solidFill>
                <a:latin typeface="Arial"/>
              </a:rPr>
              <a:t>STREAMS and SCENARI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indent="198360">
              <a:lnSpc>
                <a:spcPct val="120000"/>
              </a:lnSpc>
              <a:spcAft>
                <a:spcPts val="1500"/>
              </a:spcAft>
              <a:buClr>
                <a:srgbClr val="ffffcc"/>
              </a:buClr>
              <a:buFont typeface="Arial"/>
              <a:buChar char="•"/>
              <a:tabLst>
                <a:tab algn="l" pos="198360"/>
                <a:tab algn="l" pos="1150920"/>
                <a:tab algn="l" pos="2301840"/>
                <a:tab algn="l" pos="3452760"/>
                <a:tab algn="l" pos="4603680"/>
                <a:tab algn="l" pos="5754600"/>
                <a:tab algn="l" pos="6905520"/>
                <a:tab algn="l" pos="8056440"/>
                <a:tab algn="l" pos="9207360"/>
                <a:tab algn="l" pos="10358280"/>
              </a:tabLst>
            </a:pPr>
            <a:r>
              <a:rPr b="0" lang="en-JM" sz="2400" spc="-1" strike="noStrike">
                <a:solidFill>
                  <a:srgbClr val="ffffcc"/>
                </a:solidFill>
                <a:latin typeface="Arial"/>
              </a:rPr>
              <a:t>Traffic modelling by STREAM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indent="198360">
              <a:lnSpc>
                <a:spcPct val="120000"/>
              </a:lnSpc>
              <a:spcAft>
                <a:spcPts val="1500"/>
              </a:spcAft>
              <a:buClr>
                <a:srgbClr val="ffffcc"/>
              </a:buClr>
              <a:buFont typeface="Arial"/>
              <a:buChar char="•"/>
              <a:tabLst>
                <a:tab algn="l" pos="198360"/>
                <a:tab algn="l" pos="1150920"/>
                <a:tab algn="l" pos="2301840"/>
                <a:tab algn="l" pos="3452760"/>
                <a:tab algn="l" pos="4603680"/>
                <a:tab algn="l" pos="5754600"/>
                <a:tab algn="l" pos="6905520"/>
                <a:tab algn="l" pos="8056440"/>
                <a:tab algn="l" pos="9207360"/>
                <a:tab algn="l" pos="10358280"/>
              </a:tabLst>
            </a:pPr>
            <a:r>
              <a:rPr b="0" lang="en-JM" sz="2400" spc="-1" strike="noStrike">
                <a:solidFill>
                  <a:srgbClr val="ffffcc"/>
                </a:solidFill>
                <a:latin typeface="Arial"/>
              </a:rPr>
              <a:t>Impact assessment by COMMUT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indent="198360">
              <a:lnSpc>
                <a:spcPct val="120000"/>
              </a:lnSpc>
              <a:spcAft>
                <a:spcPts val="1500"/>
              </a:spcAft>
              <a:buClr>
                <a:srgbClr val="ffffcc"/>
              </a:buClr>
              <a:buFont typeface="Arial"/>
              <a:buChar char="•"/>
              <a:tabLst>
                <a:tab algn="l" pos="198360"/>
                <a:tab algn="l" pos="1150920"/>
                <a:tab algn="l" pos="2301840"/>
                <a:tab algn="l" pos="3452760"/>
                <a:tab algn="l" pos="4603680"/>
                <a:tab algn="l" pos="5754600"/>
                <a:tab algn="l" pos="6905520"/>
                <a:tab algn="l" pos="8056440"/>
                <a:tab algn="l" pos="9207360"/>
                <a:tab algn="l" pos="10358280"/>
              </a:tabLst>
            </a:pPr>
            <a:r>
              <a:rPr b="0" lang="en-JM" sz="2400" spc="-1" strike="noStrike">
                <a:solidFill>
                  <a:srgbClr val="ffffcc"/>
                </a:solidFill>
                <a:latin typeface="Arial"/>
              </a:rPr>
              <a:t>harmonisation of STREAMS model output data with </a:t>
            </a:r>
            <a:r>
              <a:rPr b="0" lang="en-JM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JM" sz="2400" spc="-1" strike="noStrike">
                <a:solidFill>
                  <a:srgbClr val="ffffcc"/>
                </a:solidFill>
                <a:latin typeface="Arial"/>
              </a:rPr>
              <a:t>COMMUTE tool input data requirements</a:t>
            </a:r>
            <a:r>
              <a:rPr b="0" lang="en-JM" sz="2400" spc="-1" strike="noStrike">
                <a:solidFill>
                  <a:srgbClr val="ffffcc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PA                    9  Novembre  200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E19B-ABAD-4D6E-AF8C-9A15ECE5C5C9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4E62AB-74E4-4120-AED4-4DA5F153A1B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Times New Roman"/>
              </a:rPr>
              <a:t>Expected application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19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ff33"/>
                </a:solidFill>
                <a:latin typeface="Times New Roman"/>
              </a:rPr>
              <a:t>European and national network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ff33"/>
                </a:solidFill>
                <a:latin typeface="Times New Roman"/>
              </a:rPr>
              <a:t>Inventori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ff33"/>
                </a:solidFill>
                <a:latin typeface="Times New Roman"/>
              </a:rPr>
              <a:t>Regional Infrastructures Project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ff33"/>
                </a:solidFill>
                <a:latin typeface="Times New Roman"/>
              </a:rPr>
              <a:t>Local and Long Distance Corridor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PA                    9  Novembre  200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48F1-B087-4E05-9BD1-250183065E4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222544-5165-49E6-8E4E-14E7EC07877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4400" spc="-1" strike="noStrike">
                <a:solidFill>
                  <a:srgbClr val="99ff33"/>
                </a:solidFill>
                <a:latin typeface="Times New Roman"/>
              </a:rPr>
              <a:t>LIST OF CONTENT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901"/>
              </a:spcBef>
              <a:spcAft>
                <a:spcPts val="901"/>
              </a:spcAft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Times New Roman"/>
              </a:rPr>
              <a:t>COMMUTE Project Descripti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901"/>
              </a:spcBef>
              <a:spcAft>
                <a:spcPts val="901"/>
              </a:spcAft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Times New Roman"/>
              </a:rPr>
              <a:t>Consumption  and Emission Models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901"/>
              </a:spcBef>
              <a:spcAft>
                <a:spcPts val="901"/>
              </a:spcAft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Times New Roman"/>
              </a:rPr>
              <a:t>Pilot SE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PA                    9  Novembre  200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1A58-A823-4C60-8128-A4DE6BC5A10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E965FC-96C8-4E3B-AB93-7E58899037E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1680" y="473040"/>
            <a:ext cx="7772400" cy="54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ffcc66"/>
                </a:solidFill>
                <a:latin typeface="Times New Roman"/>
              </a:rPr>
              <a:t>COMMUTE     OUTLINE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19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15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</a:rPr>
              <a:t>36 Months project, 1996  to 1999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15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cc"/>
                </a:solidFill>
                <a:latin typeface="Arial"/>
              </a:rPr>
              <a:t>13 Partners from 8 European Countries: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cc"/>
                </a:solidFill>
                <a:latin typeface="Arial"/>
              </a:rPr>
              <a:t>CSST, ENEA, GOPA, INRETS, ISVR, ITS, </a:t>
            </a:r>
            <a:r>
              <a:rPr b="1" lang="en-GB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cc"/>
                </a:solidFill>
                <a:latin typeface="Arial"/>
              </a:rPr>
              <a:t>MARITERM, M+R, NUL, TÜV, TRL, TTR, VTT</a:t>
            </a:r>
            <a:r>
              <a:rPr b="1" lang="en-GB" sz="2400" spc="-1" strike="noStrike">
                <a:solidFill>
                  <a:srgbClr val="ffffcc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15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cc"/>
                </a:solidFill>
                <a:latin typeface="Arial"/>
              </a:rPr>
              <a:t>193 Men-months, 7 Work Packag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15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99ff33"/>
                </a:solidFill>
                <a:latin typeface="Arial"/>
              </a:rPr>
              <a:t>link with MEET Project on emission factor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15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cc"/>
                </a:solidFill>
                <a:latin typeface="Arial"/>
              </a:rPr>
              <a:t>link with Projects STREAMS and SCENARIOS for the </a:t>
            </a:r>
            <a:r>
              <a:rPr b="1" lang="en-GB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cc"/>
                </a:solidFill>
                <a:latin typeface="Arial"/>
              </a:rPr>
              <a:t> Pilot Strategic Environmental Analysis (SEA)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PA                    9  Novembre  200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2A8A-56CA-44ED-803E-8CC71AE6B94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0DDE35-3A09-43A2-897C-2A29C53FF2D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59880" y="652320"/>
            <a:ext cx="7737480" cy="78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JM" sz="3600" spc="-1" strike="noStrike">
                <a:solidFill>
                  <a:srgbClr val="99ff33"/>
                </a:solidFill>
                <a:latin typeface="Times New Roman"/>
              </a:rPr>
              <a:t>Main  COMMUTE  Objectives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74560" y="1865160"/>
            <a:ext cx="833616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500"/>
              </a:spcAft>
              <a:buClr>
                <a:srgbClr val="ffffcc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Arial"/>
              </a:rPr>
              <a:t>to define a methodology for strategic assessment of the impacts of EU transport policy option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500"/>
              </a:spcAft>
              <a:buClr>
                <a:srgbClr val="ffffcc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Arial"/>
              </a:rPr>
              <a:t>to develop a computer software that embodies the main aspects of the methodolog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500"/>
              </a:spcAft>
              <a:buClr>
                <a:srgbClr val="ffffcc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Arial"/>
              </a:rPr>
              <a:t>to demonstrate the validity of the main aspects of the methodology and the performance of  connected softwar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Arial"/>
              </a:rPr>
              <a:t>to assess the impacts on energy consumption, emissions and safety of TEN-T (pilot SEA)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PA                    9  Novembre  200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0321-2B9B-4505-B2EA-D7A71A4272CE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0656A7-BDB8-4AD5-B8EF-A5A3307334F7}" type="datetime1">
              <a:rPr lang="en-US"/>
              <a:t>07/31/26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c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793800" y="2025720"/>
            <a:ext cx="795492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9836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JM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JM" sz="2400" spc="-1" strike="noStrike">
                <a:solidFill>
                  <a:srgbClr val="ffff00"/>
                </a:solidFill>
                <a:latin typeface="Arial"/>
              </a:rPr>
              <a:t>energy, emissions, noise and safety across transport modes in each cell of the network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indent="19836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JM" sz="2400" spc="-1" strike="noStrike">
                <a:solidFill>
                  <a:srgbClr val="ffff00"/>
                </a:solidFill>
                <a:latin typeface="Arial"/>
              </a:rPr>
              <a:t>network approach (cells = links and node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indent="19836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JM" sz="2400" spc="-1" strike="noStrike">
                <a:solidFill>
                  <a:srgbClr val="ffff00"/>
                </a:solidFill>
                <a:latin typeface="Arial"/>
              </a:rPr>
              <a:t>different spatial scales (regional, national, european)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indent="19836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JM" sz="2400" spc="-1" strike="noStrike">
                <a:solidFill>
                  <a:srgbClr val="ffff00"/>
                </a:solidFill>
                <a:latin typeface="Arial"/>
              </a:rPr>
              <a:t>time horizon up to 2020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indent="19836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JM" sz="2400" spc="-1" strike="noStrike">
                <a:solidFill>
                  <a:srgbClr val="ffff00"/>
                </a:solidFill>
                <a:latin typeface="Arial"/>
              </a:rPr>
              <a:t>GIS-based (Map-Info)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indent="19836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JM" sz="2400" spc="-1" strike="noStrike">
                <a:solidFill>
                  <a:srgbClr val="ffff00"/>
                </a:solidFill>
                <a:latin typeface="Arial"/>
              </a:rPr>
              <a:t>flexible evaluation of result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11120" y="974880"/>
            <a:ext cx="646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cc"/>
                </a:solidFill>
                <a:latin typeface="Times New Roman"/>
              </a:rPr>
              <a:t>COMMUTE   TOOL   RESULT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PA                    9  Novembre  200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2653-C3F2-485D-9F93-AAE6CC3DBFD5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5E0204-E61B-476C-B77C-B5AB711B62E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ffcc66"/>
                </a:solidFill>
                <a:latin typeface="Times New Roman"/>
              </a:rPr>
              <a:t>ROAD  EMISSIONS  MODELLING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38080" y="1920960"/>
            <a:ext cx="748368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8360" indent="-198360">
              <a:lnSpc>
                <a:spcPct val="100000"/>
              </a:lnSpc>
              <a:spcAft>
                <a:spcPts val="1500"/>
              </a:spcAft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ccecff"/>
                </a:solidFill>
                <a:latin typeface="Arial"/>
              </a:rPr>
              <a:t>average speed approach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spcAft>
                <a:spcPts val="1500"/>
              </a:spcAft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ccecff"/>
                </a:solidFill>
                <a:latin typeface="Arial"/>
              </a:rPr>
              <a:t>over 100 vehicle categories aggregated in PC, LDV, HDV, Buses  and Two-wheeler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spcAft>
                <a:spcPts val="1500"/>
              </a:spcAft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ccecff"/>
                </a:solidFill>
                <a:latin typeface="Arial"/>
              </a:rPr>
              <a:t>hot emissions and fuel consump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spcAft>
                <a:spcPts val="1500"/>
              </a:spcAft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ccecff"/>
                </a:solidFill>
                <a:latin typeface="Arial"/>
              </a:rPr>
              <a:t>cold start emission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spcAft>
                <a:spcPts val="1500"/>
              </a:spcAft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ccecff"/>
                </a:solidFill>
                <a:latin typeface="Arial"/>
              </a:rPr>
              <a:t>road gradient influenc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spcAft>
                <a:spcPts val="1500"/>
              </a:spcAft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ccecff"/>
                </a:solidFill>
                <a:latin typeface="Arial"/>
              </a:rPr>
              <a:t>evaporative emissions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PA                    9  Novembre  200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AD62-FFEA-43D8-8E68-7226A978E9C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2586E2-B2FB-4641-B8FD-E0C74DEBB43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717480" y="2652840"/>
            <a:ext cx="762012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98360" algn="just">
              <a:lnSpc>
                <a:spcPct val="100000"/>
              </a:lnSpc>
              <a:spcAft>
                <a:spcPts val="1500"/>
              </a:spcAft>
              <a:buClr>
                <a:srgbClr val="ccecff"/>
              </a:buClr>
              <a:buFont typeface="Arial"/>
              <a:buChar char="•"/>
              <a:tabLst>
                <a:tab algn="l" pos="198360"/>
                <a:tab algn="l" pos="66996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</a:tabLst>
            </a:pPr>
            <a:r>
              <a:rPr b="1" lang="en-GB" sz="2400" spc="-1" strike="noStrike">
                <a:solidFill>
                  <a:srgbClr val="ccecff"/>
                </a:solidFill>
                <a:latin typeface="Arial"/>
              </a:rPr>
              <a:t>Over 30 aircraft types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indent="198360" algn="just">
              <a:lnSpc>
                <a:spcPct val="100000"/>
              </a:lnSpc>
              <a:spcAft>
                <a:spcPts val="1500"/>
              </a:spcAft>
              <a:buClr>
                <a:srgbClr val="ccecff"/>
              </a:buClr>
              <a:buFont typeface="Arial"/>
              <a:buChar char="•"/>
              <a:tabLst>
                <a:tab algn="l" pos="198360"/>
                <a:tab algn="l" pos="66996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</a:tabLst>
            </a:pPr>
            <a:r>
              <a:rPr b="1" lang="en-GB" sz="2400" spc="-1" strike="noStrike">
                <a:solidFill>
                  <a:srgbClr val="ccecff"/>
                </a:solidFill>
                <a:latin typeface="Arial"/>
              </a:rPr>
              <a:t>flight mission divided into standardised operating </a:t>
            </a:r>
            <a:r>
              <a:rPr b="1" lang="en-GB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ccecff"/>
                </a:solidFill>
                <a:latin typeface="Arial"/>
              </a:rPr>
              <a:t>conditions: taxi out, take off, climb out, climb, cruise,</a:t>
            </a:r>
            <a:r>
              <a:rPr b="1" lang="en-GB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ccecff"/>
                </a:solidFill>
                <a:latin typeface="Arial"/>
              </a:rPr>
              <a:t>descent, approach, taxi i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indent="198360" algn="just">
              <a:lnSpc>
                <a:spcPct val="100000"/>
              </a:lnSpc>
              <a:spcAft>
                <a:spcPts val="1500"/>
              </a:spcAft>
              <a:buClr>
                <a:srgbClr val="ccecff"/>
              </a:buClr>
              <a:buFont typeface="Arial"/>
              <a:buChar char="•"/>
              <a:tabLst>
                <a:tab algn="l" pos="198360"/>
                <a:tab algn="l" pos="66996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</a:tabLst>
            </a:pPr>
            <a:r>
              <a:rPr b="1" lang="en-GB" sz="2400" spc="-1" strike="noStrike">
                <a:solidFill>
                  <a:srgbClr val="ccecff"/>
                </a:solidFill>
                <a:latin typeface="Arial"/>
              </a:rPr>
              <a:t>distinction between in-flight emissions and emissions </a:t>
            </a:r>
            <a:r>
              <a:rPr b="1" lang="en-GB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ccecff"/>
                </a:solidFill>
                <a:latin typeface="Arial"/>
              </a:rPr>
              <a:t>in the vicinity of airport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98360"/>
                <a:tab algn="l" pos="66996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08200" y="838080"/>
            <a:ext cx="736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cc"/>
                </a:solidFill>
                <a:latin typeface="Times New Roman"/>
              </a:rPr>
              <a:t>AIR   EMISSIONS   MODELLING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PA                    9  Novembre  200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D2F8-B731-40D1-AF72-986167CAD283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E3219C-03C0-4D3D-8CB5-5BCA36C4EC0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51000" y="669960"/>
            <a:ext cx="844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ccecff"/>
                </a:solidFill>
                <a:latin typeface="Times New Roman"/>
              </a:rPr>
              <a:t>RAIL   EMISSIONS   MODELLING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84160" y="1951200"/>
            <a:ext cx="733104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98360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BS" sz="2400" spc="-1" strike="noStrike">
                <a:solidFill>
                  <a:srgbClr val="ffffcc"/>
                </a:solidFill>
                <a:latin typeface="Arial"/>
              </a:rPr>
              <a:t>4 Train categories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indent="198360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BS" sz="2400" spc="-1" strike="noStrike">
                <a:solidFill>
                  <a:srgbClr val="ffffcc"/>
                </a:solidFill>
                <a:latin typeface="Arial"/>
              </a:rPr>
              <a:t>Maximum and average spee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indent="198360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BS" sz="2400" spc="-1" strike="noStrike">
                <a:solidFill>
                  <a:srgbClr val="ffffcc"/>
                </a:solidFill>
                <a:latin typeface="Arial"/>
              </a:rPr>
              <a:t>Number of stop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indent="198360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BS" sz="2400" spc="-1" strike="noStrike">
                <a:solidFill>
                  <a:srgbClr val="ffffcc"/>
                </a:solidFill>
                <a:latin typeface="Arial"/>
              </a:rPr>
              <a:t>Weight of trai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indent="198360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BS" sz="2400" spc="-1" strike="noStrike">
                <a:solidFill>
                  <a:srgbClr val="ffffcc"/>
                </a:solidFill>
                <a:latin typeface="Arial"/>
              </a:rPr>
              <a:t>Emissions based on consump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indent="198360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BS" sz="2400" spc="-1" strike="noStrike">
                <a:solidFill>
                  <a:srgbClr val="ffffcc"/>
                </a:solidFill>
                <a:latin typeface="Arial"/>
              </a:rPr>
              <a:t>Electric and dies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indent="198360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BS" sz="2400" spc="-1" strike="noStrike">
                <a:solidFill>
                  <a:srgbClr val="ffffcc"/>
                </a:solidFill>
                <a:latin typeface="Arial"/>
              </a:rPr>
              <a:t>Focus on fuel life cyc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PA                    9  Novembre  200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1655-F8C9-4984-A9F5-7A407FB803BB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220888-2224-4026-8898-B15D20B286E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471600" y="105264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cc"/>
                </a:solidFill>
                <a:latin typeface="Times New Roman"/>
              </a:rPr>
              <a:t>WATER   EMISSIONS   MODELLING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43000" y="2300400"/>
            <a:ext cx="649116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98360">
              <a:lnSpc>
                <a:spcPct val="100000"/>
              </a:lnSpc>
              <a:spcBef>
                <a:spcPts val="1500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JM" sz="2400" spc="-1" strike="noStrike">
                <a:solidFill>
                  <a:srgbClr val="99ff33"/>
                </a:solidFill>
                <a:latin typeface="Arial"/>
              </a:rPr>
              <a:t>80 ship categories (type by size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indent="198360">
              <a:lnSpc>
                <a:spcPct val="100000"/>
              </a:lnSpc>
              <a:spcBef>
                <a:spcPts val="1500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JM" sz="2400" spc="-1" strike="noStrike">
                <a:solidFill>
                  <a:srgbClr val="99ff33"/>
                </a:solidFill>
                <a:latin typeface="Arial"/>
              </a:rPr>
              <a:t>Average speed approach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indent="198360">
              <a:lnSpc>
                <a:spcPct val="100000"/>
              </a:lnSpc>
              <a:spcBef>
                <a:spcPts val="1500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JM" sz="2400" spc="-1" strike="noStrike">
                <a:solidFill>
                  <a:srgbClr val="99ff33"/>
                </a:solidFill>
                <a:latin typeface="Arial"/>
              </a:rPr>
              <a:t>Number of ships for each categor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indent="198360">
              <a:lnSpc>
                <a:spcPct val="100000"/>
              </a:lnSpc>
              <a:spcBef>
                <a:spcPts val="1500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JM" sz="2400" spc="-1" strike="noStrike">
                <a:solidFill>
                  <a:srgbClr val="99ff33"/>
                </a:solidFill>
                <a:latin typeface="Arial"/>
              </a:rPr>
              <a:t>Gross tonnag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indent="198360">
              <a:lnSpc>
                <a:spcPct val="100000"/>
              </a:lnSpc>
              <a:spcBef>
                <a:spcPts val="1500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JM" sz="2400" spc="-1" strike="noStrike">
                <a:solidFill>
                  <a:srgbClr val="99ff33"/>
                </a:solidFill>
                <a:latin typeface="Arial"/>
              </a:rPr>
              <a:t>Emissions based on consump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PA                    9  Novembre  200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C3E7-6577-4A56-94BD-72377E9E9E5D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BF1B14-B015-4262-94CD-6A3A077750E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01T11:00:12Z</dcterms:created>
  <dc:creator>Negrenti</dc:creator>
  <dc:description/>
  <dc:language>en-US</dc:language>
  <cp:lastModifiedBy>emanuele negrenti</cp:lastModifiedBy>
  <cp:lastPrinted>2000-05-17T09:29:42Z</cp:lastPrinted>
  <dcterms:modified xsi:type="dcterms:W3CDTF">2000-11-08T23:49:16Z</dcterms:modified>
  <cp:revision>23</cp:revision>
  <dc:subject/>
  <dc:title>Titolo da impatto</dc:title>
</cp:coreProperties>
</file>