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BE48-7423-4041-9EFF-100DC0EF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406476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8A55-F56E-4385-A52E-CF0BE97A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AFD6-F936-42C6-B04C-C89717381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BAF2-9582-41BE-BBA1-AF0729E04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DCCB-DB79-42FC-8AEF-B593859DB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99A3-B313-4B9F-B81C-06EDFF39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688D-F3BF-4671-8046-AA74150F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45C8-4F34-4A7A-8953-2774553A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0FC0-95D4-4932-81CE-FB891630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905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8850-0502-4C5F-BB15-5DEE38CD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AA35-8E43-4BED-BD90-65441816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E234-7DDC-449A-9BCF-7E5F9814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28B7-E9F7-4026-94B3-86182C50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CD58-EAB8-4E75-AFBE-FC337848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406476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93EF-BA4B-472B-ABEF-7139E558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45B7-173E-4EDC-B26D-A9A366A3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BE7A-9D0B-4DF8-B71B-C0B3F295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DCC3-8702-4EE9-A2ED-84557947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0D44-EBBA-4835-8E01-5CCAEB74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384B-6BF1-4DF6-950F-DA76B51F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905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B471-D02D-48CC-B6E9-0928C840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3470-693B-4F9C-8D27-8D633DAF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5939-8893-40F5-AF6C-C284A90C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9D59-21B3-4712-A344-5C9BA742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2944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2944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91440" y="622944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352C-F550-489D-AEE5-983C6CD511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90720" y="1314360"/>
            <a:ext cx="89154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360" y="609120"/>
            <a:ext cx="885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1CA8-092A-4912-905C-7C9A105EC8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89154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3733920"/>
            <a:ext cx="7924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tonio MATTUCCI - Domenico PALAM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A Dip. Ener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8088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2057400"/>
            <a:ext cx="6858000" cy="703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Analisi delle correlazioni COPERT III</a:t>
            </a:r>
            <a:r>
              <a:rPr b="1" lang="it-IT" sz="2400" spc="-1" strike="noStrike">
                <a:solidFill>
                  <a:srgbClr val="0099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8D14-CD0D-489D-9F93-33E59961517B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362320" y="6094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I consumi specifici delle autovetture EUR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9037440" cy="508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819520" y="23623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rrelazioni COPERT III (a cal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D6B4-14D0-4328-A261-632DBA283BC1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60948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missioni specifiche di CO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delle autovetture EUR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961480" cy="50832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819520" y="25146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rrelazioni COPERT III (a cal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334E-B6F2-426E-B25D-4D8E232F70C4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6094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missioni specifiche VOC delle autovetture EUR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9037440" cy="5083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819520" y="23623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rrelazioni COPERT III (a cal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8001-26F0-49B1-AEE9-D10319AE8108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62320" y="6094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nsumi specifici dei veicoli merci legger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9067680" cy="50832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971800" y="23623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rrelazioni COPERT III (a cal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2FD4-9635-4E79-BD2F-E81DB0696D91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62320" y="609480"/>
            <a:ext cx="655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Le emissioni di NO</a:t>
            </a:r>
            <a:r>
              <a:rPr b="1" lang="it-IT" sz="2400" spc="-1" strike="noStrike" baseline="-25000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 per i veicoli merci legg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9067680" cy="50072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666880" y="18288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rrelazioni COPERT III (a cal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C7D6-B148-4DE6-9CFD-8550F3FFDAD9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09680" y="609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missioni di VOC dei veicoli merci pesanti Eur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9067680" cy="50072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819520" y="23623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rrelazioni COPERT III (a cal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A0AA-3F85-44F1-A508-BD70845F0A40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096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missioni di CO dei motocic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9113760" cy="5083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819520" y="23623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rrelazioni COPERT III (a cal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78C7-057A-48C2-AA10-CE4F449FBCF1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60948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Emissioni di NO</a:t>
            </a:r>
            <a:r>
              <a:rPr b="1" lang="it-IT" sz="2400" spc="-1" strike="noStrike" baseline="-25000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 dei motocic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991720" cy="50832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828800" y="24382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rrelazioni COPERT III (a cal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28D7-C54A-4FC1-B7EB-8CDC33F196A9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590920" y="609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fferenze tra COPERT III e T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686800" cy="5083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590920" y="2209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nsumi specifici autovetture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A15F-7937-4A69-A524-E0173068E2D1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590920" y="609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 differenze tra COPERT III e T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33360" y="1219320"/>
            <a:ext cx="9237600" cy="50832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590920" y="2209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nsumi specifici autovetture benz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C98E-1656-43AE-A090-ACEC372A5B02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66680" y="1828800"/>
            <a:ext cx="792504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 basi di part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Verifica ambientale del Piano Generale dei Traspor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Uso del  modello T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’oggetto dell’anali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Esame di anomalie riscontrate sulle previsioni delle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emissioni (emissioni negative, discontinuità tra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previsioni temporali successive, ec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Individuazione delle differenze più significative tra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COPERT III e le correlazioni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380880"/>
            <a:ext cx="6134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nte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063C-CF0B-43F6-BDA9-DD00D4B84FFC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590920" y="609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 differenze tra COPERT III e T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9067680" cy="50832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828800" y="2438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missioni specifiche CO autovetture benz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E6B9-D529-4326-B8CA-3322AF17AAB8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590920" y="609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 differenze tra COPERT III e T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9067680" cy="50072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600200" y="2286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missioni specifiche PM autovetture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B74C-F79C-4223-900C-BEB13356E51B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066680" y="1828800"/>
            <a:ext cx="7925040" cy="35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54080" indent="-39060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alizzate problematiche COPERT III per previsioni dell’evoluzione del trasporto strad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4080" indent="-39060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8000"/>
                </a:solidFill>
                <a:uFillTx/>
                <a:latin typeface="Times New Roman"/>
              </a:rPr>
              <a:t>Elementi considerati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4080" indent="-3906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omalie correlazioni COPERT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4080" indent="-3906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ronto correlazioni COPERT III con TREMOVE (COPERT II migliorat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4080" indent="-3906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sponibilità di formule per evoluzioni tecnolog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380880"/>
            <a:ext cx="6134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onclus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5A4F-8D82-445F-AD39-7A2759B8EF02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762120" y="1523880"/>
            <a:ext cx="8229600" cy="49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3480" indent="-3744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Problemi delle correlazioni COPERT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3480" indent="-3744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e correlazioni della CO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er le autovetture catalizzate, rispetto a quelle “convenzionali”, hanno valori maggiori alle basse velocità e minori sopra i 50 km/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3480" indent="-3744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e correlazioni della CO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er i veicoli merci leggeri Euro I danno valori circa 3 volte maggiori degli analoghi convenzion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3480" indent="-3744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 convertitori catalitici per i veicoli merci leggeri non sembrano avere comportamenti assimilabili alle curve proposte per le emissioni di NO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3480" indent="-3744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 veicoli merci pesanti di portata maggiore hanno emissioni di VOC minori a parità di altre condi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3480" indent="-3744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e emissioni di CO dei motocicli a due tempi possono divenire negative a bassa veloc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3480" indent="-3744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 consumi delle autovetture a benzina divengono molto maggiori degli analoghi valori delle vetture diesel e GPL alle basse veloc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5120" y="380880"/>
            <a:ext cx="6134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onclus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4510-E748-4DC6-9B08-1CA37DE11503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066680" y="1828800"/>
            <a:ext cx="792504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54080" indent="-3906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fronto correlazioni COPERT III con T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4080" indent="-3906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 le autovetture EURO I  si hanno emissioni di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e consumi minori alle basse ed alte velocità per COPERT III e maggiori alle velocità med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54080" indent="-3906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54080" indent="-3906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tendibilità delle correl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4080" indent="-3906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disponibilità di metodi per creare nuove correlazioni per effettuare previsioni relative a interventi di introduzione di nuove tecnologie veicol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54080" indent="-3906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canza di correlazioni per i ciclomotori dipendenti dalla velocità che possono dare indicazioni del tutto falsate nel contesto in es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380880"/>
            <a:ext cx="6134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onclus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D073-1437-4979-8FB3-4D959BBD98E4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133720" y="3049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l modello T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3276720"/>
            <a:ext cx="2133720" cy="1041120"/>
          </a:xfrm>
          <a:prstGeom prst="rect">
            <a:avLst/>
          </a:prstGeom>
          <a:solidFill>
            <a:srgbClr val="d1ec86"/>
          </a:solidFill>
          <a:ln w="936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Costi e valutazione di traff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(scelta modale basata su costo generalizza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3505320"/>
            <a:ext cx="2133360" cy="615240"/>
          </a:xfrm>
          <a:prstGeom prst="rect">
            <a:avLst/>
          </a:prstGeom>
          <a:solidFill>
            <a:srgbClr val="d1ec86"/>
          </a:solidFill>
          <a:ln w="936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arco veicol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(variazione composizi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86600" y="3505320"/>
            <a:ext cx="2133720" cy="707760"/>
          </a:xfrm>
          <a:prstGeom prst="rect">
            <a:avLst/>
          </a:prstGeom>
          <a:solidFill>
            <a:srgbClr val="d1ec86"/>
          </a:solidFill>
          <a:ln w="936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Emissioni e consu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30481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manda di traspor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3809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3962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3581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36878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15000" y="304812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osizione del par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19810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elocità e fattori di car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133720" y="2514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2514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4872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14300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24382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Cos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839080" y="4267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49068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Emiss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924680" y="42670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34320" y="4572000"/>
            <a:ext cx="106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Consumo di carb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4191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43434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Composizione del par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43434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U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066680" y="43430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066680" y="54864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057040" y="47242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447560" y="510552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447920" y="4343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05740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2107-38E2-418B-B175-069514AFAABA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14600" y="304920"/>
            <a:ext cx="678168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Obiettivi e strumenti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495360" y="380880"/>
            <a:ext cx="177480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1143000"/>
            <a:ext cx="68277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Tahoma"/>
              </a:rPr>
              <a:t>Il modello TREMOVE e il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83360" y="2362320"/>
            <a:ext cx="4127400" cy="131724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85000"/>
              </a:lnSpc>
              <a:spcBef>
                <a:spcPts val="462"/>
              </a:spcBef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62"/>
              </a:spcBef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REMOV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62"/>
              </a:spcBef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62"/>
              </a:spcBef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tegrated Transport Model</a:t>
            </a:r>
            <a:r>
              <a:rPr b="0" lang="en-US" sz="1500" spc="-1" strike="noStrike">
                <a:solidFill>
                  <a:srgbClr val="5e574e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62"/>
              </a:spcBef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12920" y="1676520"/>
            <a:ext cx="9079920" cy="3963240"/>
            <a:chOff x="412920" y="1676520"/>
            <a:chExt cx="9079920" cy="3963240"/>
          </a:xfrm>
        </p:grpSpPr>
        <p:sp>
          <p:nvSpPr>
            <p:cNvPr id="126" name=""/>
            <p:cNvSpPr/>
            <p:nvPr/>
          </p:nvSpPr>
          <p:spPr>
            <a:xfrm>
              <a:off x="412920" y="1676520"/>
              <a:ext cx="9079920" cy="3078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ASE CASE (1990-2020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2920" y="2356920"/>
              <a:ext cx="1776240" cy="5360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Vehicle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rices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, (tax excluded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2920" y="3491280"/>
              <a:ext cx="1742040" cy="5360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Fuel prices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(tax excluded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2920" y="3037680"/>
              <a:ext cx="1776240" cy="3078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Vehicle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ax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2920" y="4247280"/>
              <a:ext cx="1742040" cy="3078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Fuel tax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2920" y="4625640"/>
              <a:ext cx="1742040" cy="10141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ost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age tax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surance cos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&amp;M cos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11200" y="2356920"/>
              <a:ext cx="2778840" cy="778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raffic demand da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km, tkm, vk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ad fac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11200" y="4625640"/>
              <a:ext cx="2754720" cy="10141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Other da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ES fun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me valu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eed-flow fun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11200" y="3264480"/>
              <a:ext cx="2754720" cy="12495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tock  &amp; technology da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mission fac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el cons. fac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el spe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PEFE equ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30120" y="4038480"/>
            <a:ext cx="9105480" cy="2178000"/>
            <a:chOff x="330120" y="4038480"/>
            <a:chExt cx="9105480" cy="2178000"/>
          </a:xfrm>
        </p:grpSpPr>
        <p:sp>
          <p:nvSpPr>
            <p:cNvPr id="136" name=""/>
            <p:cNvSpPr/>
            <p:nvPr/>
          </p:nvSpPr>
          <p:spPr>
            <a:xfrm>
              <a:off x="5282640" y="4038480"/>
              <a:ext cx="2517480" cy="16095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1213"/>
                </a:spcBef>
                <a:spcAft>
                  <a:spcPts val="938"/>
                </a:spcAft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olicy Option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43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hicle techn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43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el Qua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43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&amp;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43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n-Technical Measu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43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scal Measu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0120" y="5908680"/>
              <a:ext cx="9105480" cy="307800"/>
            </a:xfrm>
            <a:prstGeom prst="rect">
              <a:avLst/>
            </a:prstGeom>
            <a:solidFill>
              <a:srgbClr val="ffff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OLICY SCENARIOS  (2000-2020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7924680" y="4038480"/>
            <a:ext cx="1487160" cy="1603440"/>
            <a:chOff x="7924680" y="4038480"/>
            <a:chExt cx="1487160" cy="1603440"/>
          </a:xfrm>
        </p:grpSpPr>
        <p:sp>
          <p:nvSpPr>
            <p:cNvPr id="139" name=""/>
            <p:cNvSpPr/>
            <p:nvPr/>
          </p:nvSpPr>
          <p:spPr>
            <a:xfrm>
              <a:off x="7924680" y="4038480"/>
              <a:ext cx="1485720" cy="307800"/>
            </a:xfrm>
            <a:prstGeom prst="rect">
              <a:avLst/>
            </a:prstGeom>
            <a:solidFill>
              <a:srgbClr val="cc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"/>
                </a:rPr>
                <a:t>Emission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24680" y="4648320"/>
              <a:ext cx="1485720" cy="307800"/>
            </a:xfrm>
            <a:prstGeom prst="rect">
              <a:avLst/>
            </a:prstGeom>
            <a:solidFill>
              <a:srgbClr val="cc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"/>
                </a:rPr>
                <a:t>Cost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24680" y="5334120"/>
              <a:ext cx="1487160" cy="307800"/>
            </a:xfrm>
            <a:prstGeom prst="rect">
              <a:avLst/>
            </a:prstGeom>
            <a:solidFill>
              <a:srgbClr val="cc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"/>
                </a:rPr>
                <a:t>Side effect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7463-B7AC-479F-9613-AFBFEA0BB98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14600" y="60948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Output di TREMOVE (per domini e categori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1676520"/>
            <a:ext cx="685800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Consumo di carbur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Emissioni di CO, NO</a:t>
            </a:r>
            <a:r>
              <a:rPr b="1" i="1" lang="it-IT" sz="1600" spc="-1" strike="noStrike" baseline="-25000">
                <a:solidFill>
                  <a:srgbClr val="0000ff"/>
                </a:solidFill>
                <a:latin typeface="Times New Roman"/>
              </a:rPr>
              <a:t>x</a:t>
            </a: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, Particolato, C</a:t>
            </a:r>
            <a:r>
              <a:rPr b="1" i="1" lang="it-IT" sz="1600" spc="-1" strike="noStrike" baseline="-25000">
                <a:solidFill>
                  <a:srgbClr val="0000ff"/>
                </a:solidFill>
                <a:latin typeface="Times New Roman"/>
              </a:rPr>
              <a:t>6</a:t>
            </a: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i="1" lang="it-IT" sz="1600" spc="-1" strike="noStrike" baseline="-25000">
                <a:solidFill>
                  <a:srgbClr val="0000ff"/>
                </a:solidFill>
                <a:latin typeface="Times New Roman"/>
              </a:rPr>
              <a:t>6</a:t>
            </a: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, VOC,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Emissioni di CO</a:t>
            </a:r>
            <a:r>
              <a:rPr b="1" i="1" lang="it-IT" sz="1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Parco veicolare (per class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Età dei veicoli (per class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Traffico annuale in milioni di veicoli-km (per class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Traffico annuale in milioni di passeggeri-km e tonnellate-km (per classi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Fattori di carico (pass/veh o tonn/ve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Velocità medie (per class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Costo trasporto passeggeri (per class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Costo trasporto merci (per class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Costo del Trasporto Pubbl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38088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225B-2690-4217-91B0-2F8127FC9C61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304920"/>
            <a:ext cx="67057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Tahoma"/>
              </a:rPr>
              <a:t>Costi - efficacia provvedimenti P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80880" y="1143000"/>
            <a:ext cx="9296640" cy="5257800"/>
            <a:chOff x="380880" y="1143000"/>
            <a:chExt cx="9296640" cy="5257800"/>
          </a:xfrm>
        </p:grpSpPr>
        <p:sp>
          <p:nvSpPr>
            <p:cNvPr id="147" name=""/>
            <p:cNvSpPr/>
            <p:nvPr/>
          </p:nvSpPr>
          <p:spPr>
            <a:xfrm>
              <a:off x="4800600" y="1676520"/>
              <a:ext cx="4191120" cy="1981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”</a:t>
              </a: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Evitare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Incremento Emissioni + Cost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5800" y="3809880"/>
              <a:ext cx="3962520" cy="21337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Tahoma"/>
                </a:rPr>
                <a:t>"Attuare sempre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Tahoma"/>
                </a:rPr>
                <a:t>Riduzione Emissioni + Benefici economi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5800" y="1676520"/>
              <a:ext cx="3962520" cy="1981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”</a:t>
              </a: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Teoricamente possibile ma da selezionare con cautela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Incremento Emissioni + Benefici economi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00600" y="3809880"/>
              <a:ext cx="4191120" cy="21337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”</a:t>
              </a: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Situazione probabile con scelta delle soluzioni più efficaci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Riduzione Emissioni + Cost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533520" y="3733560"/>
              <a:ext cx="9144000" cy="6120"/>
            </a:xfrm>
            <a:prstGeom prst="line">
              <a:avLst/>
            </a:prstGeom>
            <a:ln w="7632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4724280" y="1219320"/>
              <a:ext cx="0" cy="4952880"/>
            </a:xfrm>
            <a:prstGeom prst="line">
              <a:avLst/>
            </a:prstGeom>
            <a:ln w="7632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86000" y="5943600"/>
              <a:ext cx="2438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Riduzione Emissio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% rapportati al caso bas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0880" y="3809880"/>
              <a:ext cx="274320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Risparmi per la societ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MEuro rapportati al caso bas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86000" y="1143000"/>
              <a:ext cx="2438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Incremento Emissio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% rapportati al caso bas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34320" y="3200400"/>
              <a:ext cx="2666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Costi per la societ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MEuro rapportati al caso bas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95360" y="380880"/>
            <a:ext cx="177480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78DA-7AD1-40F6-8B76-E8D1FA9FF49A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38080" y="1447920"/>
            <a:ext cx="853452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Times New Roman"/>
              </a:rPr>
              <a:t>Le ipotesi adottate per lo scenario di riferimento (evoluzione natura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*  Scenario di evoluzione naturale del tipo "Business as Usual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*  Scenario evolutivo di riferimento pre-Kyo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*  Crescita annuale media del PIL pari al 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2819520"/>
            <a:ext cx="8763120" cy="22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it-IT" sz="1800" spc="-1" strike="noStrike">
                <a:solidFill>
                  <a:srgbClr val="008000"/>
                </a:solidFill>
                <a:latin typeface="Times New Roman"/>
              </a:rPr>
              <a:t>Aggiornamenti rispetto ad AUTOOIL II</a:t>
            </a:r>
            <a:r>
              <a:rPr b="0" lang="it-IT" sz="1800" spc="-1" strike="noStrike">
                <a:solidFill>
                  <a:srgbClr val="008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* diverso assetto del parco veicolare sia come composizione, sia come età dei veicol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* diversa imposizione fiscale sui veicoli, soprattutto per le autovetture a gasoli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* percorrenze veicolari annuali per ogni classe di veicol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* quadratura della domanda del trasporto di persone e di merci con i dati del Conto Nazionale Trasport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* diverse tariffe unitarie per il calcolo del costo del tempo e dei trasporti delle merc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* nuovi coefficienti per le funzioni di congestione, tarati sull’assetto effettivo del traffico veicola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38088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5257800"/>
            <a:ext cx="7620120" cy="8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Utilizz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*  Calibrazione del model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*  Confronto per gli scenari risultanti dall’applicazione delle nuove politi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380880"/>
            <a:ext cx="662940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Lo scenario naturale italiano per le analisi PG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(basecas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B827-F003-46A1-95BF-7BD95BEC6373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90720" y="457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Le previsioni dello scenario di riferimento al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09480" y="1676520"/>
          <a:ext cx="9144000" cy="472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9144000" cy="47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ED0F-9A0B-415C-807E-3BD83F4B8D1B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914400" y="1447920"/>
          <a:ext cx="8305920" cy="464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83059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2590920" y="609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 emissioni dello scenario di rifer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117C-4405-4B9F-AA73-086835007AFD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08:52:59Z</dcterms:created>
  <dc:creator>Snake</dc:creator>
  <dc:description/>
  <dc:language>en-US</dc:language>
  <cp:lastModifiedBy>idefix</cp:lastModifiedBy>
  <dcterms:modified xsi:type="dcterms:W3CDTF">2000-11-08T16:58:15Z</dcterms:modified>
  <cp:revision>93</cp:revision>
  <dc:subject/>
  <dc:title>Nessun titolo diapositiva</dc:title>
</cp:coreProperties>
</file>