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288588" cy="6858000"/>
  <p:notesSz cx="9856788" cy="6786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FD7-FFFF-4D43-BC88-A8D83084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2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37C-6514-4B5D-9999-B62D5A65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097-A812-4449-A19D-E0A5FF4A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1B7-37EC-4883-8CEC-DF3B9678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EB43-1CDB-4695-BCF7-0EC9D624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F92B-A808-4B81-B94A-F1C7E7A1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797D-8ECE-49BE-B6AF-65498731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A64C-5AD9-43AB-8289-B10B806E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F3A6-2EEE-4F92-A6CF-AE4B4C91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71120" y="45684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4656-9DA4-438C-8287-05BC1C65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091E-AFFF-4AD7-97CF-3EB85ACE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A10-661F-4B02-A8FA-A14DDCA1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5204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847E-AA70-4071-9AD9-96E9BDBC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5904-3E7F-41F2-85EF-11D315B4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71120" y="4132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121E-CDCA-48F1-AB43-B03F2D46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5204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1360-5329-48D0-9074-555AFA90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2744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8376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7112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2744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8376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A0BE-E029-46CB-9259-8723E925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2908-15EB-44E3-BFF2-8F073193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8DF-276A-44A2-9BE1-B594CE26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68A-1DFC-47B7-AE12-0C50FEFC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45684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9CB-54E9-447F-8CC0-55FB0988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013-D4B6-40C8-AAAC-E3D5FBAC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C33-615F-42A2-9753-6BED6270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513-875B-479D-9B06-233814E1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53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81000"/>
          </a:bodyPr>
          <a:p>
            <a:pPr marL="334440" indent="-334440">
              <a:spcBef>
                <a:spcPts val="97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1" marL="725040" indent="-279000">
              <a:spcBef>
                <a:spcPts val="975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4560" indent="-222480">
              <a:spcBef>
                <a:spcPts val="975"/>
              </a:spcBef>
              <a:buClr>
                <a:srgbClr val="333333"/>
              </a:buClr>
              <a:buFont typeface="Times New Roman"/>
              <a:buChar char="•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3" marL="1560600" indent="-222120">
              <a:spcBef>
                <a:spcPts val="975"/>
              </a:spcBef>
              <a:buClr>
                <a:srgbClr val="333333"/>
              </a:buClr>
              <a:buFont typeface="Times New Roman"/>
              <a:buChar char="–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4" marL="2007360" indent="-222480">
              <a:spcBef>
                <a:spcPts val="975"/>
              </a:spcBef>
              <a:buClr>
                <a:srgbClr val="333333"/>
              </a:buClr>
              <a:buFont typeface="Times New Roman"/>
              <a:buChar char="»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5" marL="2007360" indent="-222480">
              <a:spcBef>
                <a:spcPts val="975"/>
              </a:spcBef>
              <a:buClr>
                <a:srgbClr val="333333"/>
              </a:buClr>
              <a:buFont typeface="Times New Roman"/>
              <a:buChar char="»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6" marL="2007360" indent="-222480">
              <a:spcBef>
                <a:spcPts val="975"/>
              </a:spcBef>
              <a:buClr>
                <a:srgbClr val="333333"/>
              </a:buClr>
              <a:buFont typeface="Times New Roman"/>
              <a:buChar char="»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67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88B19CAE-F917-4BF9-80CE-938F94A03FE7}" type="datetime"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07/31/26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67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ct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67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A22F74C7-B978-4C4E-95A0-97E593CC3777}" type="slidenum"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76160" y="3340080"/>
            <a:ext cx="861084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1120" y="2285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53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1120" y="62467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16826369-8151-4AB7-9D14-E15C7395E424}" type="datetime"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07/31/26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14320" y="62467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ct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372080" y="62467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8EA96AFE-F094-451E-A4C7-A4811B44AD4E}" type="slidenum"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1" marL="550800" indent="0" algn="ctr">
              <a:spcBef>
                <a:spcPts val="850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01600" algn="ctr">
              <a:spcBef>
                <a:spcPts val="726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lvl="3" marL="165276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203560" algn="ctr"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2203560"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2203560"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0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10287000" cy="28954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it-IT" sz="3200" spc="-1" strike="noStrike">
                <a:solidFill>
                  <a:srgbClr val="a50021"/>
                </a:solidFill>
                <a:latin typeface="Times New Roman"/>
              </a:rPr>
              <a:t>Codice TEE :  Trasporti Energia Emissioni</a:t>
            </a:r>
            <a:br>
              <a:rPr sz="3200"/>
            </a:br>
            <a:r>
              <a:rPr b="1" lang="en-GB" sz="29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2900"/>
            </a:br>
            <a:r>
              <a:rPr b="1" lang="en-GB" sz="2900" spc="-1" strike="noStrike">
                <a:solidFill>
                  <a:srgbClr val="a50021"/>
                </a:solidFill>
                <a:latin typeface="Times New Roman"/>
              </a:rPr>
              <a:t>E. Negrenti  - ENEA</a:t>
            </a:r>
            <a:br>
              <a:rPr sz="2900"/>
            </a:br>
            <a:br>
              <a:rPr sz="2900"/>
            </a:br>
            <a:r>
              <a:rPr b="1" lang="en-GB" sz="29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it-IT" sz="2900" spc="-1" strike="noStrike">
                <a:solidFill>
                  <a:srgbClr val="a50021"/>
                </a:solidFill>
                <a:latin typeface="Times New Roman"/>
              </a:rPr>
              <a:t>ANPA  -  9 Novembre  2000</a:t>
            </a:r>
            <a:r>
              <a:rPr b="0" lang="en-GB" sz="3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5.   THE  KINEMATICS  CORRECTION FACTOR  (KCF) APPROACH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967752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95000"/>
          </a:bodyPr>
          <a:p>
            <a:pPr marL="392040" indent="-392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MISSIONS ON NETWORK LINKS ARE NORMALLY CALCULATED FROM AVERAGE SPEED, BUT LINKS WITH  THE SAME AVERAGE SPEED CAN SHOW VERY DIFFERENT VEHICLE KINEMATICS, AND VERY DIFFERENT EMISSION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O CORRECT THE ‘AVERAGE SPEED EMISSION’ WITH A FACTOR INCLUDING THE EFFECT OF SPEED VARIABILITY ALONG THE LINK CAN REDUCE EMISSION UNCERTAIN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HE ‘KCF’ CAN BE EXPRESSED AS A FUNCTION OF TRAFFIC DENSITY, GREEN TIME %, LINK LENGTH AND AVERAGE SPEED AND CALCULATED BY THE RECONSTRUCTION OF THE SPEED CYCL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0">
              <a:spcBef>
                <a:spcPts val="601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ED2-2E37-43D0-BF64-0B97525258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90EEF-3B4E-48C1-951C-83B0F19DA4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52280" y="101520"/>
          <a:ext cx="10134720" cy="67564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01520"/>
                    <a:ext cx="1013472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67A-9BA7-4300-BC55-96E302B48CF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8105E-B26A-409F-BE7A-9D6A28ED3F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28880" y="0"/>
          <a:ext cx="8229600" cy="556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8880" y="0"/>
                    <a:ext cx="822960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265400" y="5183280"/>
            <a:ext cx="7993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IG. 2 : SPEED CYCLE RECONSTRUCTION : TIME FRACTIONS OF KINEMATIC PHASES   VS  NORMALISED TRAFFIC DENSITY (QUALITATIVE CURVES)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C84-DF4D-4DF0-A74B-7045E4C5049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18A6B-FF35-45DD-90DE-A22CF86740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641600" y="182520"/>
          <a:ext cx="7240320" cy="5450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1600" y="182520"/>
                    <a:ext cx="724032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057400" y="5411880"/>
            <a:ext cx="633096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GURE 3 : TYPICAL  RECONSTRUCTED SPEED CYC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F1F-EAB2-4392-8333-C12E18B84C0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F4DA4-3E2B-4A26-89E6-22657CC45B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10287000" cy="5257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5.1  RESULTS  FROM  DG XII  ESTEEM  PROJECT</a:t>
            </a:r>
            <a:br>
              <a:rPr sz="2800"/>
            </a:b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       KCF =  KCF0 * d(D) * g(G) * l(L) * v(V)</a:t>
            </a:r>
            <a:br>
              <a:rPr sz="2800"/>
            </a:br>
            <a:r>
              <a:rPr b="1" lang="en-GB" sz="29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for Fuel Consumption (c1 to c14 are optimised coefficients) </a:t>
            </a:r>
            <a:br>
              <a:rPr sz="2400"/>
            </a:b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d(D) =  c1 (D &lt; 30) ,   c2 * D + c3   (30 &lt; D &lt; 90),   c4-c5*D   ( D&gt;90)</a:t>
            </a:r>
            <a:br>
              <a:rPr sz="2400"/>
            </a:b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g(G) =  c6 ,for G &lt; 0.9 ,  and  c7 - c8 * G  for 0.9 &lt; G &lt; 1.0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l(L) = c9 + c10 * exp (-L/c11)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v(V) = c12 + c13 * exp (-V/c14)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for CO emissions  </a:t>
            </a:r>
            <a:br>
              <a:rPr sz="2400"/>
            </a:b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d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(D) = c1 + c2 * exp (D/c3)  (D&lt;90),  and   d(D) = c4-c5*D (D&gt;90)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g(G) = c6 + c7 * exp (-G/c8)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l(L) = c9 + c10 * exp (-L/c11)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v(V) = c12 - c13 * exp (-V/c14</a:t>
            </a:r>
            <a:r>
              <a:rPr b="1" lang="en-GB" sz="29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2C3-9AFC-420B-BBB7-574E4088DD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2F39F-FCF7-4014-A806-5094EA9F0C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1b3"/>
            </a:gs>
            <a:gs pos="100000">
              <a:srgbClr val="f8fc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87280" y="382680"/>
            <a:ext cx="8071200" cy="1143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880" rIns="110880" tIns="55440" bIns="55440" anchor="ctr">
            <a:noAutofit/>
          </a:bodyPr>
          <a:p>
            <a:pPr algn="ctr"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IG . 4 : KCF  for  Fuel  Consumption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ull range density profile (10  to 110 vehicles/K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836800" y="3083040"/>
          <a:ext cx="5213520" cy="214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6800" y="3083040"/>
                    <a:ext cx="5213520" cy="21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54040" y="1554120"/>
          <a:ext cx="9337680" cy="461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040" y="1554120"/>
                    <a:ext cx="93376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6E7B-4564-48E9-99FB-550AB3D150A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B5CE8-D98A-4426-8590-CC48270B1F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870120" y="501480"/>
          <a:ext cx="8546760" cy="4681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0120" y="501480"/>
                    <a:ext cx="854676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028880" y="5486400"/>
            <a:ext cx="83088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Figure 5 : Measured, calculated (shaded area) and extrapolated CO level at Corso Francia site, for business day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A92-948E-4FB3-A4BB-9140D6D4FDA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78499-DE1F-4F39-B73D-04A0CEB49A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120" y="91404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MAIN  CONTENT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VEHICLES  KINEMATIC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MODELLED FAC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PARKING PROCESS SIMUL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HE KINEMATICS CORRECTION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782-7C59-47C9-AC03-CA5CE496AB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01EC7-3FDC-48A9-BE70-3C3B2B7CA5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aee"/>
            </a:gs>
            <a:gs pos="100000">
              <a:srgbClr val="ebf7e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743680" cy="8380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600" spc="-1" strike="noStrike">
                <a:solidFill>
                  <a:srgbClr val="004c2b"/>
                </a:solidFill>
                <a:latin typeface="Times New Roman"/>
              </a:rPr>
              <a:t>1) OBJECTIVES OF TEE MODE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90000"/>
          </a:bodyPr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Link by link emission calcul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Flexible kinematics descrip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Modelling all factors affecting emiss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Separated analysis of parking proces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Integration of the micro module (one link - one hour) in a year - network framework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Complete spatial-temporal flexibil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0">
              <a:spcBef>
                <a:spcPts val="901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0D8-07A7-4945-947A-04785C2528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4B1B1-F5E9-40E5-90A0-ED43F76223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1b3"/>
            </a:gs>
            <a:gs pos="100000">
              <a:srgbClr val="ebf7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743680" cy="8380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600" spc="-1" strike="noStrike">
                <a:solidFill>
                  <a:srgbClr val="004c2b"/>
                </a:solidFill>
                <a:latin typeface="Times New Roman"/>
              </a:rPr>
              <a:t>2.   TEE  MODEL  KINEMATIC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743680" cy="4572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VARIABLE KINEMATICS APPRO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STRATEGIC  COUPLING WITH ANY TRAFFIC MODEL OR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AVERAGE SPEED O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SIMPLIFIED CYCLE O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DETAILED SPEED CYCLE O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KINEMATICS CORRECTION FACTOR APPROACH (1998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6B0-576B-4742-84BA-42E65E9C63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F2A18-E8A1-40BE-814F-D56C245893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ebf7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743680" cy="7617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4000" spc="-1" strike="noStrike">
                <a:solidFill>
                  <a:srgbClr val="004c2b"/>
                </a:solidFill>
                <a:latin typeface="Times New Roman"/>
              </a:rPr>
              <a:t>3.   MODELLED   FACTOR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1120" y="1523520"/>
            <a:ext cx="8744040" cy="4573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ENGINE TEMPERATURE (LOCAL COLD VEHICLES  FRACT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ROAD GRADIENT (SLOP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MAINTENANC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AG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ALTITU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DISTINCT  PARKING  FLO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583-8C1C-419C-83DC-AF615BA64F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2072B-0814-4743-B720-618C837746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1b3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1120" y="457200"/>
            <a:ext cx="8744040" cy="8380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4. PARKING   PROCESS   SIMULATION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744040" cy="47246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ARKING  AND INSERTING FLOWS FOR EACH LINK (‘P’ AND ‘I’ MOD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NCENTRATED  AND  DISTRIBUTED PARKING  ARE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SIMPLIFIED  CYCLES  FOR  PARKING INLET  AND  OUTL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 : DECELL.,   SEARCH,   PARK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I  : WARM UP,   EXIT,   INSER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09B-6A6A-4734-A3E7-3FCAC23A9F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0F0F6-393E-4793-8083-D71020D0C7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743680" cy="6098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4.1  PARKING  MODELLING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87000"/>
          </a:bodyPr>
          <a:p>
            <a:pPr marL="358920" indent="-358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9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NCENTRATED  PARKINGS     STATIC  CHARACTER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78680" indent="-29952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PARKING INVENTORY (MAX. N. OF VEHICLES  AND MACRO  CATEGORIES  ALLOWE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8680" indent="-29952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DISTANCE FROM  LINK  INLET TO  PARKING PLACE - AND FROM PARKING TO LINK OUTL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8680" indent="-29952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LINKS  OF INLET(S) AND OUTLET(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8680" indent="-29952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COORDINATES OF PARKING AREA CENTRE FOR  GIS REPRESENT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21A-8DF1-4718-8771-37282B0033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6B428-16D9-417B-938C-2D0AA179B4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4.2   DISTRIBUTED   PARKINGS</a:t>
            </a:r>
            <a:br>
              <a:rPr sz="3200"/>
            </a:b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STATIC   CHARACTERISATION</a:t>
            </a:r>
            <a:r>
              <a:rPr b="0" lang="en-GB" sz="53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DENSITY OF PARKING PLACES (VEH/KM) ALONG ROAD SIDES  - DEFAULT CAN BE AROUND 200 V/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0">
              <a:spcBef>
                <a:spcPts val="700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MACRO CATEGORIES  ALLOWED TO PARK ALONG THE ROAD CONSIDERED (e.g. : Passenger Cars, 2 Wheelers, coach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BC4-B007-415A-96E7-F8B2A4E6D6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ED039-C808-46AF-8617-B7E689C17E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743680" cy="12952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004c2b"/>
                </a:solidFill>
                <a:latin typeface="Times New Roman"/>
              </a:rPr>
              <a:t>4.3 </a:t>
            </a:r>
            <a:r>
              <a:rPr b="1" lang="en-GB" sz="3600" spc="-1" strike="noStrike">
                <a:solidFill>
                  <a:srgbClr val="004c2b"/>
                </a:solidFill>
                <a:latin typeface="Times New Roman"/>
              </a:rPr>
              <a:t>Dynamic Description  of  Parking Areas (Concentrated or Distributed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Occupation profile in 24h (from 0 to 1 of local inventory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Input and Output flows (veh/hr) to-from linked vehicular flo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95320" indent="-3445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from Concentrated parking : data from monitored park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95320" indent="-3445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for Distributed parking : a  fixed % of the hourly transit flow (1999….  What in 2000?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303-E236-46A8-95DE-985E963F7E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B643F-BF94-4BC0-8A13-87EBDE03AC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23Z</dcterms:created>
  <dc:creator>Negrenti</dc:creator>
  <dc:description/>
  <dc:language>en-US</dc:language>
  <cp:lastModifiedBy>emanuele negrenti</cp:lastModifiedBy>
  <cp:lastPrinted>2000-11-08T18:29:40Z</cp:lastPrinted>
  <dcterms:modified xsi:type="dcterms:W3CDTF">2000-11-08T23:29:38Z</dcterms:modified>
  <cp:revision>136</cp:revision>
  <dc:subject/>
  <dc:title>Nessun titolo diapositiva</dc:title>
</cp:coreProperties>
</file>