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4150-2C08-4727-9939-F35821AE11C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EAAD-AC3A-4391-BAE9-E9F1E289559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01760" y="804960"/>
            <a:ext cx="4255920" cy="3190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40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CC3-B0AA-46E2-B1B6-899B2DA6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D34-D9BE-49AF-A6B7-082B1ED7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F13-0C2D-4426-8676-4A966D7C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4AF-5EF0-4A0F-941F-3EA4A8C8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20E2-ECB7-4DB0-9812-2D07BF06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4C1F-0918-47CD-BC75-5F5E527B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4A23-E320-4A35-A80E-83D6DFF7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F0E8-F4A7-4EC6-8FD7-91A447EA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8154-F5B9-435F-B3E6-3F780D3F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F063-033A-4089-AAB3-4FFF9E6B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1DB7-5798-4D1F-A853-C79B0C7A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EB2-06C4-411A-B283-5BBB30C8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9995-3315-4F91-8470-A1947509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6D9C-F471-4BCB-898B-FDB0BE3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5C22-8D6F-40CF-943E-78969094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5360-C6A5-43F4-ACBE-801967CA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1811-E16E-4311-B25A-D491CB33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A88-63CA-4DC0-93D6-16C695F3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538-8CFA-4258-9B21-F02BAF26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982-601C-45C6-B140-06FC49E5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57E-AE5F-4133-A3B3-3D4A1F5C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051-761B-4E71-9759-F9E6DCAF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105-4548-4344-9DE2-5792E12D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96D-A57A-432B-A117-C7358B4E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26DF-2CEA-4468-9006-7999EFE4DC1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93C4-2343-4AF3-805E-2230E32088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FFD8-1332-47D8-A0A4-EA734BD4F82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F071-4F32-48BF-AB5A-9B5F8F058A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28600" y="1036800"/>
            <a:ext cx="655344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MMUTE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mmon Methodolog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or Multi-Modal Transpor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Environmental Impact Assessment</a:t>
            </a:r>
            <a:br>
              <a:rPr sz="2800"/>
            </a:br>
            <a:br>
              <a:rPr sz="2800"/>
            </a:b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trategic Research Programme  of  E.C.   DGVI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33"/>
                </a:solidFill>
                <a:latin typeface="Times New Roman"/>
              </a:rPr>
              <a:t>Presented by  E. Negrenti   EN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4A8-12B5-4F78-9C4D-0401D2E250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3DEC3-A7AE-4B07-A43F-3F6E88D376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2287440"/>
            <a:ext cx="9326160" cy="2993760"/>
            <a:chOff x="0" y="2287440"/>
            <a:chExt cx="9326160" cy="2993760"/>
          </a:xfrm>
        </p:grpSpPr>
        <p:graphicFrame>
          <p:nvGraphicFramePr>
            <p:cNvPr id="116" name=""/>
            <p:cNvGraphicFramePr/>
            <p:nvPr/>
          </p:nvGraphicFramePr>
          <p:xfrm>
            <a:off x="2880" y="2287440"/>
            <a:ext cx="9323280" cy="2993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80" y="2287440"/>
                      <a:ext cx="9323280" cy="299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0" y="2301120"/>
              <a:ext cx="1440" cy="27601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11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3200" spc="-1" strike="noStrike">
                <a:solidFill>
                  <a:srgbClr val="99ff33"/>
                </a:solidFill>
                <a:latin typeface="Times New Roman"/>
              </a:rPr>
              <a:t>Micro and Macro vehicle categories across mo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01CC-896E-4B85-811D-17A4659F7FF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C7D59-D59A-4225-B032-DA689FFF47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8120" y="1162080"/>
            <a:ext cx="8307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BS" sz="3200" spc="-1" strike="noStrike">
                <a:solidFill>
                  <a:srgbClr val="ffcc66"/>
                </a:solidFill>
                <a:latin typeface="Arial"/>
              </a:rPr>
              <a:t>Pilot SEA: Assessment of  Impacts of Transport Trans-European Network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640" y="2529000"/>
            <a:ext cx="8139240" cy="37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Objective: estimate impacts  in 2010 for four cas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All TEN-T (all modes, with policy measur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No TEN-T (current network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two policy scenarios: Reference and Common 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Transport Policies (Policies Harmonisat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28A-9EDB-48A2-83A7-2CE890BE51D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98A86-6BDE-45CC-A305-9B15E3264E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9720" y="45684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4400" spc="-1" strike="noStrike">
                <a:solidFill>
                  <a:srgbClr val="ffcc66"/>
                </a:solidFill>
                <a:latin typeface="Times New Roman"/>
              </a:rPr>
              <a:t>Pilot  SEA  Proj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2120" y="1881360"/>
            <a:ext cx="800100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common co-operation plan with COMMUTE, 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STREAMS, SCENARIOS and MEET project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definition of scenarios (reference, CTP) between 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STREAMS and SCE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Traffic modelling by STREA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Impact assessment by COMMU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harmonisation of STREAMS model output data with 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COMMUTE tool input data requirements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62D-5FA5-4D2C-AD3A-E61F5A4C413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39CE1-1BBA-4B21-8FC5-C0154F2D68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Expected applic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1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33"/>
                </a:solidFill>
                <a:latin typeface="Times New Roman"/>
              </a:rPr>
              <a:t>European and national networ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33"/>
                </a:solidFill>
                <a:latin typeface="Times New Roman"/>
              </a:rPr>
              <a:t>Invento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33"/>
                </a:solidFill>
                <a:latin typeface="Times New Roman"/>
              </a:rPr>
              <a:t>Regional Infrastructures Proj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33"/>
                </a:solidFill>
                <a:latin typeface="Times New Roman"/>
              </a:rPr>
              <a:t>Local and Long Distance Corrid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900-7CF2-4BC5-B63C-D18B59D475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E6BB4-2EC5-42DA-A13B-798F31F947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99ff33"/>
                </a:solidFill>
                <a:latin typeface="Times New Roman"/>
              </a:rPr>
              <a:t>LIST OF CONT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imes New Roman"/>
              </a:rPr>
              <a:t>COMMUTE Project Descrip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imes New Roman"/>
              </a:rPr>
              <a:t>Consumption  and Emission Model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imes New Roman"/>
              </a:rPr>
              <a:t>Pilot SE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7F0-0564-4D4E-A36C-BE3102CDC9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DD1BD-94FB-4E76-AACD-B8FB3CA186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47304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cc66"/>
                </a:solidFill>
                <a:latin typeface="Times New Roman"/>
              </a:rPr>
              <a:t>COMMUTE     OUTLIN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1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6 Months project, 1996  to 199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13 Partners from 8 European Countrie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CSST, ENEA, GOPA, INRETS, ISVR, ITS,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MARITERM, M+R, NUL, TÜV, TRL, TTR, VTT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193 Men-months, 7 Work Pack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ff33"/>
                </a:solidFill>
                <a:latin typeface="Arial"/>
              </a:rPr>
              <a:t>link with MEET Project on emission fact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link with Projects STREAMS and SCENARIOS for the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Pilot Strategic Environmental Analysis (SEA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25B9-F6F4-4D2F-B298-1BCCB82329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D95D5-91D0-4BE8-9AF6-BD0C556C41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9880" y="652320"/>
            <a:ext cx="773748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3600" spc="-1" strike="noStrike">
                <a:solidFill>
                  <a:srgbClr val="99ff33"/>
                </a:solidFill>
                <a:latin typeface="Times New Roman"/>
              </a:rPr>
              <a:t>Main  COMMUTE  Objectiv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4560" y="1865160"/>
            <a:ext cx="83361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 define a methodology for strategic assessment of the impacts of EU transport policy o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 develop a computer software that embodies the main aspects of the methodolog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 demonstrate the validity of the main aspects of the methodology and the performance of  connected softw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 assess the impacts on energy consumption, emissions and safety of TEN-T (pilot SEA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816-DA6E-457E-9E7B-FC4B3B9B6C7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76C7D-8729-479D-A995-890D474B16BC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93800" y="2025720"/>
            <a:ext cx="79549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energy, emissions, noise and safety across transport modes in each cell of the 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network approach (cells = links and nod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different spatial scales (regional, national, european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time horizon up to 2020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GIS-based (Map-Info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flexible evaluation of resul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11120" y="974880"/>
            <a:ext cx="64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Times New Roman"/>
              </a:rPr>
              <a:t>COMMUTE   TOOL  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027-B8E0-4DFB-9216-4E2D90E438F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EB8CB-09B5-43A3-A97A-0F9022962E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cc66"/>
                </a:solidFill>
                <a:latin typeface="Times New Roman"/>
              </a:rPr>
              <a:t>ROAD  EMISSIONS  MODELLING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920960"/>
            <a:ext cx="74836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average speed approa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over 100 vehicle categories aggregated in PC, LDV, HDV, Buses  and Two-wheel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hot emissions and fuel consum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cold start emis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road gradient influ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evaporative emission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EB5-A110-481D-A70F-3CF1D6A110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74063-79B9-48AF-AA22-1095141149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17480" y="265284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 algn="just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198360"/>
                <a:tab algn="l" pos="66996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Over 30 aircraft typ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 algn="just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198360"/>
                <a:tab algn="l" pos="66996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flight mission divided into standardised operating 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conditions: taxi out, take off, climb out, climb, cruise,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descent, approach, taxi 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 algn="just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198360"/>
                <a:tab algn="l" pos="66996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distinction between in-flight emissions and emissions 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in the vicinity of airpor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8360"/>
                <a:tab algn="l" pos="66996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200" y="838080"/>
            <a:ext cx="73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cc"/>
                </a:solidFill>
                <a:latin typeface="Times New Roman"/>
              </a:rPr>
              <a:t>AIR   EMISSIONS   MODELL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E5A-A4FB-41D1-A2DE-42E416AD1A4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B8F4E-F384-45A9-9903-977C83B0C3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51000" y="669960"/>
            <a:ext cx="84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Times New Roman"/>
              </a:rPr>
              <a:t>RAIL   EMISSIONS   MODELL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84160" y="1951200"/>
            <a:ext cx="7331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4 Train categori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Maximum and average spe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Number of sto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Weight of tra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Emissions based on consum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Electric and dies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Focus on fuel life cyc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0B3-D234-4FC1-96AA-3744D530E8F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2243D-8A84-4F46-8100-0A47E911AC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1600" y="10526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cc"/>
                </a:solidFill>
                <a:latin typeface="Times New Roman"/>
              </a:rPr>
              <a:t>WATER   EMISSIONS   MODELL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00400"/>
            <a:ext cx="6491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80 ship categories (type by siz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Average speed approa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Number of ships for each catego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Gross tonn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Emissions based on consum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308-EA77-4BBC-A05E-C59E689712A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703F9-B03B-44F9-A3BD-C3CC0A167D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1T11:00:12Z</dcterms:created>
  <dc:creator>Negrenti</dc:creator>
  <dc:description/>
  <dc:language>en-US</dc:language>
  <cp:lastModifiedBy>emanuele negrenti</cp:lastModifiedBy>
  <cp:lastPrinted>2000-05-17T09:29:42Z</cp:lastPrinted>
  <dcterms:modified xsi:type="dcterms:W3CDTF">2000-11-08T23:49:16Z</dcterms:modified>
  <cp:revision>23</cp:revision>
  <dc:subject/>
  <dc:title>Titolo da impatto</dc:title>
</cp:coreProperties>
</file>