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FC4-96DE-40B3-B331-E4A14BA4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402-364E-41C4-B0B7-8EA7C0C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64A-5127-4798-A5D1-B1FCB3ED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F3E-3469-45F8-B30D-1AE38B9C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994-D12B-477E-8ECF-0BC6416C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EFC-D1C9-4D92-9E36-79CB119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11E7-6B9A-4658-A445-A0CDFAC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57B-8590-4CA0-9FE9-BCEB9144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BE0-66F3-42BB-BE15-E6CE026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4B9E-B4E8-406A-AAA1-60ADB17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A6E3-2AE6-49BA-B9BA-49F5E80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C14-D279-4ACC-85EA-18542E4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98C-12C5-4DFD-A820-3576848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88B0-7B79-4C2A-A9BF-9B979EE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B36-B59E-44E2-8224-5FCE2DDE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4F4-98DD-4EAF-90AA-CB5A6300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37D-DE94-480C-8C3E-D1B94421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BEB-6388-4447-9AC6-2B8CDE3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7CB-D7F7-4FEB-9688-AA6CFFE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D53-B24C-4D8B-8CB5-E517919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069-2C67-4D77-A8B9-832D1F6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134-142F-4887-9839-B7EDBA9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EAF-8C11-452D-84DD-BD52870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3A5-F159-44AA-9927-B0D61C0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E76-2301-45F4-BD31-6A9959EF9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85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B73D-ADF9-4826-ADBA-D3BBAA121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3733920"/>
            <a:ext cx="7924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onio MATTUCCI - Domenico PALA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A Dip.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057400"/>
            <a:ext cx="685800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alisi delle correlazioni COPERT III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767-ED74-4E25-B595-F9BEA502EAF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623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 consumi specifici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551-10D8-4F71-A0EF-C1C85C25D14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di 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961480" cy="5083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514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156-C51A-4500-BB38-46CA46D126B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609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VOC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A48-39BD-4EEC-A406-579711CBFD9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umi specifici dei veicoli merci legg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C91-1097-49EE-8FE0-B8369DD6306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6094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Le 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per i veicoli merci legg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668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AAE-A31E-4808-B419-9CC10F9E5A5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VOC dei veicoli merci pesanti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8E3-175F-4DE5-A151-E4391DEA823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CO dei motocic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113760" cy="508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C1A-9EBF-4F28-8E34-322BC5A0BB0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dei moto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991720" cy="5083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438-6E7D-46BE-9E74-F2952950E11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686800" cy="508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FA0-6D3A-4C8F-865D-6D5C8336584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3360" y="1219320"/>
            <a:ext cx="9237600" cy="5083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699-6C01-49DB-A9EE-0A4B10AE13B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828800"/>
            <a:ext cx="79250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basi di 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erifica ambientale del Piano Generale dei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so del 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’oggetto dell’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ame di anomalie riscontrate sulle previsioni dell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missioni (emissioni negative, discontinuità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revisioni temporali successive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dividuazione delle differenze più significative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PERT III e le correlazioni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t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B98-A302-4832-9FEA-2396F87FF0C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CO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14A-B930-481F-9D7F-C817F0C9B01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00200" y="2286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PM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D7D-7291-41FC-87B6-40235BE85EC9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1828800"/>
            <a:ext cx="792504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izzate problematiche COPERT III per previsioni dell’evoluzione del trasporto stra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Elementi considerat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mali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ronto correlazioni COPERT III con TREMOVE (COPERT II miglio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sponibilità di formule per evoluzioni tecn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348-63B0-4AF9-B03F-C359E0D5210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1523880"/>
            <a:ext cx="822960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37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roblemi dell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e autovetture catalizzate, rispetto a quelle “convenzionali”, hanno valori maggiori alle basse velocità e minori sopra i 5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 veicoli merci leggeri Euro I danno valori circa 3 volte maggiori degli analoghi conven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vertitori catalitici per i veicoli merci leggeri non sembrano avere comportamenti assimilabili alle curve proposte per le emissioni di N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veicoli merci pesanti di portata maggiore hanno emissioni di VOC minori a parità di altre cond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emissioni di CO dei motocicli a due tempi possono divenire negative a bassa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sumi delle autovetture a benzina divengono molto maggiori degli analoghi valori delle vetture diesel e GPL alle basse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216-793E-4DF4-B8AD-DD44053FFDD1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1828800"/>
            <a:ext cx="79250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fronto correlazioni COPERT III con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le autovetture EURO I  si hanno emissioni di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consumi minori alle basse ed alte velocità per COPERT III e maggiori alle velocità m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dibilità delle cor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sponibilità di metodi per creare nuove correlazioni per effettuare previsioni relative a interventi di introduzione di nuove tecnologie ve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canza di correlazioni per i ciclomotori dipendenti dalla velocità che possono dare indicazioni del tutto falsate nel contesto in 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B75-1E40-41DC-9016-43920957E4BF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337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l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76720"/>
            <a:ext cx="2133720" cy="104112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sti e valutazione di traf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scelta modale basata su costo generalizza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505320"/>
            <a:ext cx="2133360" cy="61524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rco veico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variazione composizi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505320"/>
            <a:ext cx="2133720" cy="70776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Emissioni 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di trasp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68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048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ità e fattori di ca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1430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4906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miss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4267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572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343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666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560" y="51055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44792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EFA-6784-49E9-A4A7-EC356124128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781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Obiettivi e strumen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143000"/>
            <a:ext cx="682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Il modello TREMOVE e i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83360" y="2362320"/>
            <a:ext cx="4127400" cy="1317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Transport Model</a:t>
            </a: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920" y="1676520"/>
            <a:ext cx="9079920" cy="3963240"/>
            <a:chOff x="412920" y="1676520"/>
            <a:chExt cx="9079920" cy="3963240"/>
          </a:xfrm>
        </p:grpSpPr>
        <p:sp>
          <p:nvSpPr>
            <p:cNvPr id="126" name=""/>
            <p:cNvSpPr/>
            <p:nvPr/>
          </p:nvSpPr>
          <p:spPr>
            <a:xfrm>
              <a:off x="412920" y="1676520"/>
              <a:ext cx="907992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SE CASE (199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920" y="2356920"/>
              <a:ext cx="17762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920" y="3491280"/>
              <a:ext cx="17420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2920" y="3037680"/>
              <a:ext cx="17762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920" y="4247280"/>
              <a:ext cx="17420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2920" y="4625640"/>
              <a:ext cx="174204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ge tax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anc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11200" y="2356920"/>
              <a:ext cx="2778840" cy="778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ffic demand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km, tkm, v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ad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1200" y="4625640"/>
              <a:ext cx="275472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S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valu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ed-flow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11200" y="3264480"/>
              <a:ext cx="2754720" cy="1249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tock  &amp; technology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ission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cons.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sp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EFE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120" y="4038480"/>
            <a:ext cx="9105480" cy="2178000"/>
            <a:chOff x="330120" y="4038480"/>
            <a:chExt cx="9105480" cy="2178000"/>
          </a:xfrm>
        </p:grpSpPr>
        <p:sp>
          <p:nvSpPr>
            <p:cNvPr id="136" name=""/>
            <p:cNvSpPr/>
            <p:nvPr/>
          </p:nvSpPr>
          <p:spPr>
            <a:xfrm>
              <a:off x="5282640" y="4038480"/>
              <a:ext cx="2517480" cy="1609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213"/>
                </a:spcBef>
                <a:spcAft>
                  <a:spcPts val="938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Op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hicle 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Techni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120" y="5908680"/>
              <a:ext cx="9105480" cy="307800"/>
            </a:xfrm>
            <a:prstGeom prst="rect">
              <a:avLst/>
            </a:prstGeom>
            <a:solidFill>
              <a:srgbClr val="ff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SCENARIOS  (200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924680" y="4038480"/>
            <a:ext cx="1487160" cy="1603440"/>
            <a:chOff x="7924680" y="4038480"/>
            <a:chExt cx="1487160" cy="1603440"/>
          </a:xfrm>
        </p:grpSpPr>
        <p:sp>
          <p:nvSpPr>
            <p:cNvPr id="139" name=""/>
            <p:cNvSpPr/>
            <p:nvPr/>
          </p:nvSpPr>
          <p:spPr>
            <a:xfrm>
              <a:off x="7924680" y="403848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Emis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464832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148716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Side effec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453-81C0-4046-A909-447A505D76D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14600" y="609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utput di TREMOVE (per domini e catego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676520"/>
            <a:ext cx="6858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, N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Particolato, C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VOC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Parco veicolar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tà dei veicol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veicoli-km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passeggeri-km e tonnellate-km (per class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Fattori di carico (pass/veh o tonn/ve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Velocità medi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passegger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merc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del Trasporto Pub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63E-AD98-466F-BB64-F2436FDD7E5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304920"/>
            <a:ext cx="670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Costi - efficacia provvedimenti P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143000"/>
            <a:ext cx="9296640" cy="5257800"/>
            <a:chOff x="380880" y="1143000"/>
            <a:chExt cx="9296640" cy="5257800"/>
          </a:xfrm>
        </p:grpSpPr>
        <p:sp>
          <p:nvSpPr>
            <p:cNvPr id="147" name=""/>
            <p:cNvSpPr/>
            <p:nvPr/>
          </p:nvSpPr>
          <p:spPr>
            <a:xfrm>
              <a:off x="4800600" y="1676520"/>
              <a:ext cx="419112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ita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3809880"/>
              <a:ext cx="3962520" cy="21337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"Attuare semp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Riduzione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1676520"/>
              <a:ext cx="3962520" cy="1981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Teoricamente possibile ma da selezionare con cautel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809880"/>
              <a:ext cx="4191120" cy="2133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Situazione probabile con scelta delle soluzioni più efficaci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Riduzione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3520" y="3733560"/>
              <a:ext cx="9144000" cy="6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724280" y="1219320"/>
              <a:ext cx="0" cy="495288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59436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duzione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880" y="3809880"/>
              <a:ext cx="27432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sparm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remento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320040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st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072-DF1E-4795-B536-94013E778EA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1447920"/>
            <a:ext cx="85345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Le ipotesi adottate per lo scenario di riferimento (evoluzione natu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di evoluzione naturale del tipo "Business as Usua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evolutivo di riferimento pre-Ky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Crescita annuale media del PIL pari al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87631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Aggiornamenti rispetto ad AUTOOIL II</a:t>
            </a:r>
            <a:r>
              <a:rPr b="0" lang="it-IT" sz="1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o assetto del parco veicolare sia come composizione, sia come età de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a imposizione fiscale sui veicoli, soprattutto per le autovetture a gaso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percorrenze veicolari annuali per ogni classe d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quadratura della domanda del trasporto di persone e di merci con i dati del Conto Nazionale Trasport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e tariffe unitarie per il calcolo del costo del tempo e dei trasporti delle merc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nuovi coefficienti per le funzioni di congestione, tarati sull’assetto effettivo del traffico veicol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76201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tili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alibrazione del mod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onfronto per gli scenari risultanti dall’applicazione delle nuove poli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80880"/>
            <a:ext cx="66294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Lo scenario naturale italiano per le analisi P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(base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101-4237-4BBB-A8D1-43F2213B807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 previsioni dello scenario di riferimento a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676520"/>
          <a:ext cx="914400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914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241-0B20-4877-A98A-A0D8E38B69E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14400" y="1447920"/>
          <a:ext cx="830592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emissioni dello scenario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59B-FBCF-4B73-80A2-33E1F4830CA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8:52:59Z</dcterms:created>
  <dc:creator>Snake</dc:creator>
  <dc:description/>
  <dc:language>en-US</dc:language>
  <cp:lastModifiedBy>idefix</cp:lastModifiedBy>
  <dcterms:modified xsi:type="dcterms:W3CDTF">2000-11-08T16:58:15Z</dcterms:modified>
  <cp:revision>93</cp:revision>
  <dc:subject/>
  <dc:title>Nessun titolo diapositiva</dc:title>
</cp:coreProperties>
</file>