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9856788" cy="678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F99-21E8-43F8-985D-3156928C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773-2D67-4327-B28D-AE3DEFB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EB6-16F4-4075-9142-0C80F3E2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EE5-61D4-4C57-AA3B-EC48CC59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4CCA-413C-4F87-A09B-6ADEC412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FECF-4B81-4B66-B8C3-08CA4848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E11D-7238-40C4-85D3-88A81E3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35A0-DC4F-48F6-9DD6-0F55A4B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9A8A-8BD6-49AA-9DAE-D3915B4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C9B-9587-4BCB-A0CE-3A60635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3BF-03F4-4276-8195-1B83BDD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2BA-26C2-438D-9C11-78FDAD37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22B2-5E65-46EB-A5B2-CE6D50BF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EE07-F4F1-48E3-8D15-10A88B2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C8CB-AE6C-4204-B9E7-17FA187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356-0373-4772-BDB4-5542ECCF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DF35-32B1-40BF-ADE3-B82DE315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7F5-8779-4DAF-84B7-1423F6C6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93D-0272-47B1-A04E-53224584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F7F-55F9-4394-A334-1B9E32C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5E5-779D-4B97-B25A-70A9BE16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293-04D6-421B-8BBE-60CAC58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413-8E38-4CCF-81B9-7D5AE58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870-3F79-479A-825D-40EDDAEA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1000"/>
          </a:bodyPr>
          <a:p>
            <a:pPr marL="334440" indent="-334440">
              <a:spcBef>
                <a:spcPts val="9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725040" indent="-279000">
              <a:spcBef>
                <a:spcPts val="97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45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•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0600" indent="-222120">
              <a:spcBef>
                <a:spcPts val="975"/>
              </a:spcBef>
              <a:buClr>
                <a:srgbClr val="333333"/>
              </a:buClr>
              <a:buFont typeface="Times New Roman"/>
              <a:buChar char="–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4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5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6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8E252B2B-533B-4AEF-B717-1F85549FE2C4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4D1DA016-6BDA-42C6-B7FB-B429EA453FD5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6160" y="3340080"/>
            <a:ext cx="861084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AE23FE94-19BB-48ED-A0E6-706944AE2998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1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E685851B-3D09-4BFE-9F50-90D935C404A0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550800" indent="0" algn="ctr">
              <a:spcBef>
                <a:spcPts val="85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1600" algn="ctr">
              <a:spcBef>
                <a:spcPts val="726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lvl="3" marL="165276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203560" algn="ctr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10287000" cy="289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imes New Roman"/>
              </a:rPr>
              <a:t>Codice TEE :  Trasporti Energia Emissioni</a:t>
            </a:r>
            <a:br>
              <a:rPr sz="32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E. Negrenti  - ENEA</a:t>
            </a: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it-IT" sz="2900" spc="-1" strike="noStrike">
                <a:solidFill>
                  <a:srgbClr val="a50021"/>
                </a:solidFill>
                <a:latin typeface="Times New Roman"/>
              </a:rPr>
              <a:t>ANPA  -  9 Novembre  2000</a:t>
            </a:r>
            <a:r>
              <a:rPr b="0" lang="en-GB" sz="3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5.   THE  KINEMATICS  CORRECTION FACTOR  (KCF) APPROACH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967752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5000"/>
          </a:bodyPr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MISSIONS ON NETWORK LINKS ARE NORMALLY CALCULATED FROM AVERAGE SPEED, BUT LINKS WITH  THE SAME AVERAGE SPEED CAN SHOW VERY DIFFERENT VEHICLE KINEMATICS, AND VERY DIFFERENT EMISS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CORRECT THE ‘AVERAGE SPEED EMISSION’ WITH A FACTOR INCLUDING THE EFFECT OF SPEED VARIABILITY ALONG THE LINK CAN REDUCE EMISSION UNCERTAIN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‘KCF’ CAN BE EXPRESSED AS A FUNCTION OF TRAFFIC DENSITY, GREEN TIME %, LINK LENGTH AND AVERAGE SPEED AND CALCULATED BY THE RECONSTRUCTION OF THE SPEED CYCL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0">
              <a:spcBef>
                <a:spcPts val="6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608-DB76-450B-B686-BFF363A5FD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F802-0C8D-4CC2-B5E6-80A62648AE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2280" y="101520"/>
          <a:ext cx="10134720" cy="6756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1520"/>
                    <a:ext cx="1013472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A75-7EBF-4584-80DF-2F39EA0A78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45E49-5750-4C81-915C-C582435513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28880" y="0"/>
          <a:ext cx="8229600" cy="55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8880" y="0"/>
                    <a:ext cx="822960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265400" y="5183280"/>
            <a:ext cx="79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IG. 2 : SPEED CYCLE RECONSTRUCTION : TIME FRACTIONS OF KINEMATIC PHASES   VS  NORMALISED TRAFFIC DENSITY (QUALITATIVE CURVES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3B7-D71F-43DE-A9A1-7FC4974F25D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3EB23-5DD8-494A-8048-A224C264F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41600" y="182520"/>
          <a:ext cx="7240320" cy="54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82520"/>
                    <a:ext cx="724032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057400" y="5411880"/>
            <a:ext cx="633096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GURE 3 : TYPICAL  RECONSTRUCTED SPEED CYC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6C0-9482-449C-840A-75526278997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6CB1A-221F-4A7B-96D8-0D0044F157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10287000" cy="5257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5.1  RESULTS  FROM  DG XII  ESTEEM  PROJECT</a:t>
            </a:r>
            <a:br>
              <a:rPr sz="2800"/>
            </a:b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       KCF =  KCF0 * d(D) * g(G) * l(L) * v(V)</a:t>
            </a:r>
            <a:br>
              <a:rPr sz="2800"/>
            </a:br>
            <a:r>
              <a:rPr b="1" lang="en-GB" sz="2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for Fuel Consumption (c1 to c14 are optimised coefficients) 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(D) =  c1 (D &lt; 30) ,   c2 * D + c3   (30 &lt; D &lt; 90),   c4-c5*D   ( D&gt;90)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g(G) =  c6 ,for G &lt; 0.9 ,  and  c7 - c8 * G  for 0.9 &lt; G &lt; 1.0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v(V) = c12 + c13 * exp (-V/c14)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for CO emissions  </a:t>
            </a: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d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(D) = c1 + c2 * exp (D/c3)  (D&lt;90),  and   d(D) = c4-c5*D (D&gt;90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(G) = c6 + c7 * exp (-G/c8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v(V) = c12 - c13 * exp (-V/c14</a:t>
            </a:r>
            <a:r>
              <a:rPr b="1" lang="en-GB" sz="29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C0C-A932-4594-A0B2-74765FDB9B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9368A-5742-4980-AFDC-398EC7624F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8fc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382680"/>
            <a:ext cx="807120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ctr">
            <a:noAutofit/>
          </a:bodyPr>
          <a:p>
            <a:pPr algn="ctr"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G . 4 : KCF  for  Fuel  Consump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ull range density profile (10  to 110 vehicles/K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36800" y="3083040"/>
          <a:ext cx="5213520" cy="214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6800" y="3083040"/>
                    <a:ext cx="5213520" cy="21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54040" y="1554120"/>
          <a:ext cx="9337680" cy="461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1554120"/>
                    <a:ext cx="9337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17C-AC9A-4D5C-AD2B-6B8479A6F8C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2DBBF-064F-4661-9147-949CEDA334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870120" y="501480"/>
          <a:ext cx="8546760" cy="468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0120" y="501480"/>
                    <a:ext cx="85467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28880" y="5486400"/>
            <a:ext cx="83088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igure 5 : Measured, calculated (shaded area) and extrapolated CO level at Corso Francia site, for business da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EDC-E589-44E4-8CB3-DFB811EADCF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D63FD-15AC-4416-BB75-0E47FE881F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91404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AIN  CONTENT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EHICLES  KINEMATIC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MODELLED F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ARKING PROCESS SIMU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KINEMATICS CORREC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180-2DA6-4C96-B65E-210204EB5A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B6D26-0B99-496C-B900-6A9B835E94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aee"/>
            </a:gs>
            <a:gs pos="100000">
              <a:srgbClr val="ebf7e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1) OBJECTIVES OF TEE MODE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0000"/>
          </a:bodyPr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Link by link emission calcul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Flexible kinematics descri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Modelling all factors affecting emiss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Separated analysis of parking proce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Integration of the micro module (one link - one hour) in a year - network framewor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Complete spatial-temporal flex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0">
              <a:spcBef>
                <a:spcPts val="9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4B5-44C4-4D45-9A1F-8A39A3FC4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BF9F7-E382-4210-ACB0-BA167D5C38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2.   TEE  MODEL  KINEMATIC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743680" cy="4572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VARIABLE KINEMATICS APPRO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TRATEGIC  COUPLING WITH ANY TRAFFIC MODEL OR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VERAGE SPEED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CYCLE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ETAILED SPEED CYCLE O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KINEMATICS CORRECTION FACTOR APPROACH (1998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F78-C7D4-4687-B6B1-9BB9089BC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724A4-1BDF-4341-B890-8B126BD11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3680" cy="7617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Times New Roman"/>
              </a:rPr>
              <a:t>3.   MODELLED   FACTOR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1120" y="1523520"/>
            <a:ext cx="8744040" cy="4573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ENGINE TEMPERATURE (LOCAL COLD VEHICLES  FRAC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ROAD GRADIENT (SLOP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AINTENA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LTITU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ISTINCT  PARKING 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4BF-0ABB-45BC-8AB2-6DD7B53819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A1742-0F14-4CF2-8FAB-055BB0EBE3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 PARKING   PROCESS   SIMULATION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744040" cy="47246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ARKING  AND INSERTING FLOWS FOR EACH LINK (‘P’ AND ‘I’ MOD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AND  DISTRIBUTED PARKING  ARE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 CYCLES  FOR  PARKING INLET  AND  OUTL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 : DECELL.,   SEARCH,   PARK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  : WARM UP,   EXIT,   INSE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E96-913A-484C-B409-F6F1214787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F4F08-2D8E-48C7-9DDD-F79D31E9F5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43680" cy="6098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1  PARKING  MODELLING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7000"/>
          </a:bodyPr>
          <a:p>
            <a:pPr marL="358920" indent="-358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PARKINGS     STATIC  CHARACTER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ARKING INVENTORY (MAX. N. OF VEHICLES  AND MACRO  CATEGORIES  ALLOWE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ISTANCE FROM  LINK  INLET TO  PARKING PLACE - AND FROM PARKING TO LINK OUTL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INKS  OF INLET(S) AND OUTLET(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COORDINATES OF PARKING AREA CENTRE FOR  GIS REPRESEN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930-252D-4C17-AFB9-20449C2351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F2565-AD29-4FCA-B1C6-3B80CCE838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2   DISTRIBUTED   PARKINGS</a:t>
            </a:r>
            <a:br>
              <a:rPr sz="3200"/>
            </a:b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STATIC   CHARACTERISATION</a:t>
            </a:r>
            <a:r>
              <a:rPr b="0" lang="en-GB" sz="53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DENSITY OF PARKING PLACES (VEH/KM) ALONG ROAD SIDES  - DEFAULT CAN BE AROUND 200 V/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0">
              <a:spcBef>
                <a:spcPts val="700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ACRO CATEGORIES  ALLOWED TO PARK ALONG THE ROAD CONSIDERED (e.g. : Passenger Cars, 2 Wheelers, coach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239-2010-4A01-BEE9-E455836E89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11594-19B2-40A0-A0BC-B718E35205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743680" cy="12952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004c2b"/>
                </a:solidFill>
                <a:latin typeface="Times New Roman"/>
              </a:rPr>
              <a:t>4.3 </a:t>
            </a: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Dynamic Description  of  Parking Areas (Concentrated or Distributed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Occupation profile in 24h (from 0 to 1 of local inventory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put and Output flows (veh/hr) to-from linked vehicular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rom Concentrated parking : data from monitored park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or Distributed parking : a  fixed % of the hourly transit flow (1999….  What in 2000?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39D-0658-4E96-85E3-6794695CE9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3B418-CB34-482C-8677-10364C65AB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Negrenti</dc:creator>
  <dc:description/>
  <dc:language>en-US</dc:language>
  <cp:lastModifiedBy>emanuele negrenti</cp:lastModifiedBy>
  <cp:lastPrinted>2000-11-08T18:29:40Z</cp:lastPrinted>
  <dcterms:modified xsi:type="dcterms:W3CDTF">2000-11-08T23:29:38Z</dcterms:modified>
  <cp:revision>136</cp:revision>
  <dc:subject/>
  <dc:title>Nessun titolo diapositiva</dc:title>
</cp:coreProperties>
</file>