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81788" cy="9958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D6E9-37C6-4377-B8C5-0BDFFD452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E63A-E8D4-4855-8389-7996C2F5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5F81-8C1E-4798-855D-4CCE0968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BBA4-2770-4411-AA42-2F8CA097B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F49B-2687-4320-A3E1-993F7F59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E405-302B-4D73-A044-3048FD9F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FD15-789D-4D61-B7A2-E1017EAD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3A88-D40A-4F58-955C-AD9BB2BB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548F-79C8-46FA-BAC7-41EF20AD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95480" y="151920"/>
            <a:ext cx="60199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E616-DF39-4417-85B5-BCC7777E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250D-7043-477D-BC0D-1452A2C4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A784-546B-4F9B-A31B-2F609596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C368-F5F6-43F7-9904-5447EF67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53D4-2BDF-4028-92E4-B6CBF61D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34BC-C407-4A48-B876-585A1D65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72E8-AA0D-4B42-A54A-6335132F7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402C-B3E8-4BE0-8E75-D159F705E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E3AA-88DC-4493-B030-C22EB5C9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E190-E09A-458B-9A8D-5052B310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8821-2713-4ECE-B9EF-65F417ED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95480" y="151920"/>
            <a:ext cx="60199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2545-90F1-4F5F-BF09-EECF1A9F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FFD1-314F-4880-9812-FEF7B492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540C-EFFE-4111-828B-7084974B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3A28-5D8F-45F0-AC2D-02A9ED1E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9B55-D590-4B52-B30C-3683A7BFE66B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2A50-332D-47E4-B100-8D72D89B98F0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228240"/>
            <a:ext cx="6400800" cy="172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1ACB-53E5-4199-8EB5-CB83E0B6B4A5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0615-EEF1-4FB6-8FC5-9B8F4B73BA20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76720" y="3580920"/>
            <a:ext cx="4952880" cy="172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000000"/>
                </a:solidFill>
                <a:latin typeface="Arial Narrow"/>
              </a:rPr>
              <a:t>ANALISI FATTORI EMISSIONE CO</a:t>
            </a:r>
            <a:r>
              <a:rPr b="1" lang="it-IT" sz="6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1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E061-F316-45F3-BD25-1F64C65B4AD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FA649E4-69DF-4689-9CE9-48D7A9FB71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Arial Narrow"/>
              </a:rPr>
              <a:t>Introduzion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attore emissione CO 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da diverse fon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evisione Fattore emissione CO 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PERT per le benzine ( che trascura la presenza di composti ossigenat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99C9-80DC-4FD6-A37B-1F63ADB5AC4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902ABC-63B5-44DC-AB14-312B2A44EE4B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885080" cy="9372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0D43-782D-4E58-AF6F-32BB512EB7C9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32648E3-2C7E-496A-B1C6-3054D4FF85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523880" y="-3886200"/>
            <a:ext cx="6170760" cy="967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1DB1-AE2C-4196-9DF0-1829FF1F4C06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2FA2D8-DA87-4659-B48C-17215B166C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ORMULA COPERT C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ORMULA COPERT RIVI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1637-FC58-49C9-9CCD-C8C0690028F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14829-CF34-4F33-B7E7-5108DF9A00B4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24080" y="304920"/>
            <a:ext cx="60199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 Narrow"/>
              </a:rPr>
              <a:t>CO</a:t>
            </a:r>
            <a:r>
              <a:rPr b="1" lang="it-IT" sz="3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it-IT" sz="3600" spc="-1" strike="noStrike">
                <a:solidFill>
                  <a:srgbClr val="000000"/>
                </a:solidFill>
                <a:latin typeface="Arial Narrow"/>
              </a:rPr>
              <a:t>     COPERT 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Arial Narrow"/>
              </a:rPr>
              <a:t>FORMULA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243828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895480" y="2438280"/>
                <a:ext cx="518184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CALC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  = 44,011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,01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,008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: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048120" y="3962520"/>
                <a:ext cx="6858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: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3962520" y="3962520"/>
            <a:ext cx="487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porto tra numero di  atomi di  idrogeno e  carbonio nel combustibil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51814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o combustib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048120" y="5943600"/>
                <a:ext cx="914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CALC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4038480" y="5943600"/>
            <a:ext cx="510552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r" pos="86832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Emissioni calcolate d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86832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86832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86832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4376-5651-480F-8FBB-B95B88517950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07BACC-37AC-49FA-B487-EC28E825628F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895480" y="3123720"/>
            <a:ext cx="60199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905120" y="1828800"/>
                <a:ext cx="70102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CALC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  = 44,011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,01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,008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:C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99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:C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6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: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124080" y="3352680"/>
                <a:ext cx="8827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: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200400" y="4572000"/>
                <a:ext cx="8380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: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321000" y="5638680"/>
                <a:ext cx="7495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: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3886200" y="3581280"/>
            <a:ext cx="922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rapporto H/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472428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rapporto O/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5715000"/>
            <a:ext cx="922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rapporto S/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228600"/>
            <a:ext cx="4800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 Narrow"/>
              </a:rPr>
              <a:t>CO</a:t>
            </a:r>
            <a:r>
              <a:rPr b="1" lang="it-IT" sz="3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it-IT" sz="3600" spc="-1" strike="noStrike">
                <a:solidFill>
                  <a:srgbClr val="000000"/>
                </a:solidFill>
                <a:latin typeface="Arial Narrow"/>
              </a:rPr>
              <a:t>     COPERT 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Arial Narrow"/>
              </a:rPr>
              <a:t>FORMULA RIVIS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9CA2-7C4B-49B9-AE86-5F5C3F202303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7B8FA6-382E-471B-B468-324F0B4F4588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6095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nte: elaborazioni ANPA su dati Tittarelli, COPER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800" y="358920"/>
            <a:ext cx="8077320" cy="570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F84B-4024-47AF-B61A-2D27FA40E04E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9BC80-0F8E-44C1-9CEB-EEC6AD10C8DE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Arial Narrow"/>
              </a:rPr>
              <a:t>CONCLUSIONI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PERT SOVRASTIMA LE EMISSIONI DI C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(A PARITA’ DI CONSUMO DI BENZINA) DI 14 g/Kg benzina consum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brevemente le azioni che si intende intraprendere di perso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CCAF-18CF-4F84-A964-685FB8EA7AA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C20600-C704-4150-BBF3-354EF0937ED9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PA</cp:lastModifiedBy>
  <dcterms:modified xsi:type="dcterms:W3CDTF">2001-06-13T12:43:16Z</dcterms:modified>
  <cp:revision>10</cp:revision>
  <dc:subject/>
  <dc:title>Presentazione di PowerPoint</dc:title>
</cp:coreProperties>
</file>