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9A9-7E2E-4C1A-B8A9-533EE008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37A-F869-4FC2-B628-9374C82C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497-314F-4B24-8A12-0588EF11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25E-9CD5-4B6C-972E-07F577BB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9BCE-607C-4783-B2E7-9EC8AA10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B59B-80EB-4798-90EC-6AC78B26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9593-A675-41C5-B080-B81BE97A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01F3-6739-41A0-8C1B-71703A39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AFCF-D5C1-4FDC-A072-5B6FC5F7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F9BC-5FBF-4A54-83F3-21C1FA2E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8A69-D1BF-4317-8A31-0723DF0D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494-E089-4E8F-88CC-6528D6B4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FD8C-30FE-4E41-9F9D-B0A4B9D9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5324-ADCD-43BC-B048-1579A014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8CF2-F61B-4FE1-B3C8-582120D4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15B2-4D98-405C-83D0-90F65932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F1EA-A862-428F-9517-CFEEC80B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D09-966A-4D4E-A162-00EE539A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D9C-162C-4292-83EE-9AE0D5DC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7D6-7210-487A-A251-168B3399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73B-1F0A-4E89-8FD4-358FC935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F69-57D7-4E63-AA0D-C7B22102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2E4-996E-4546-8169-DFA4A7B8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FF5-7652-4D17-AB98-698F4C51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B01F-B49B-4E98-92AD-4C22822B0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23D9-F949-4181-B32E-659D0E387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modello Copert per la stima delle emissioni da trasporto stradale a livello provinciale e urb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243792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iglioramento della metodologia Top-Down Corinair mediante tecniche di analisi statistica multivari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th International Symposium “Transport and Air Pollution”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7-19, 2001 – Boulder, Colorado, USA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495680"/>
            <a:ext cx="8382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lvatore Saija, Daniela Ro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PA – Unità Interdipartimentale Censimento delle Fonti di Emiss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5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 Confronto delle sti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arti percentuali per categoria veicolare e ciclo di g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2133720"/>
          <a:ext cx="8229600" cy="412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822960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200"/>
            <a:ext cx="8153280" cy="16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.3 Confronto delle stime </a:t>
            </a:r>
            <a:br>
              <a:rPr sz="44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efficienti di variazione per cluster e categoria SN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04920" y="1981080"/>
          <a:ext cx="853416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5341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Correzione delle stime provinciali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23520" y="22856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emissione “standard” della provincia i (i = 1,…, 103) per la categoria veicolare k (k = 1,…, 5),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048120" y="1295280"/>
                <a:ext cx="29718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066680" y="2209680"/>
                <a:ext cx="365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505320" y="3581280"/>
            <a:ext cx="5257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efficiente di variazione dell’emissione delle province del cluster c (c = 1,…, 4) per la categ. veic. k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 = numerosità cluster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001000" y="380880"/>
                <a:ext cx="574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079640" y="5410080"/>
                <a:ext cx="504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523880" y="548640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emissione del cluster c per la categ. veic. k, stimata dal COPERT del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" y="3352680"/>
                <a:ext cx="281952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Stima delle emissioni nei grandi comu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186 comuni con più di 40.000 abitant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saggregazione della quota urbana delle emissioni provinciali corrette, usando come proxy la popolazione residente nel comu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5. Stima delle emissioni nei grandi comuni – N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2057400"/>
          <a:ext cx="8153280" cy="442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15328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5. Stima delle emissioni nei grandi comuni – N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520" y="2100240"/>
          <a:ext cx="807696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00240"/>
                    <a:ext cx="807696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’informazione fornita dalla cluster analisys consente di caratterizzare e differenziare localmente le stime COPERT, in maniera coerente con il dimensionamento del modello a livello naz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contenuto informativo degli scarti per cluster viene esteso alle stime provinci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proxy popolazione sembra adeguata per disaggregare le stime provinciali a livello urb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viluppi metodologici legati alla possibilità di estendere coerentemente la metodologia a tutti i comuni con più di 20.000 abitanti e di integrarla con la stima delle emissioni in area extraurbana e sulle autost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iet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3 livell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aratterizzazione delle stime per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cro-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iglioramento della metodologia CORINAIR di stima delle emissioni a livello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vinc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Validazione di una metodologia di stima delle emissioni nelle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ee urba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c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ecniche di A.S.M. per la caratterizzazione di unità territoriali (cluster) omogenee rispetto ad un set di indicatori socio-economici e di mobilità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PERT per Clust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5 inquinanti (NOx, NMVOC, CO, CO2, PM), confronto delle stime delle emissioni dei cluster (COPERT) con quelle stimate attraverso la metodologia Corinair (TOP-DOWN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dividuazione di coefficienti di variazione (scarti) delle emissioni per le province dello stesso cluster e correzione delle stim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tima delle emissioni nei grandi comuni attraverso la disaggregazione della quota urbana delle emissioni provinciali corret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1. Individuazione dei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17 indicatori socio-economici e rappresentativi dell’attività dei trasporti stradal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.C.P. e cluster analisy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dividuazione di 4 gruppi di province omogenee rispetto alle caratteristiche sintetizzate dai fattori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610000" y="0"/>
          <a:ext cx="6522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0000" y="0"/>
                    <a:ext cx="6522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35053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1.1 Individuazione dei cluster - Risult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. COPERT per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tima del consumo provinciale di combustibile (venduto prov.) e riaggregazione per clust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4 Copert: quadratura del bilancio dei combustibili attraverso ipotesi sui parametri di input (percorrenze medie annue, ripartizione delle percorrenze per ciclo di guida) coerenti con le caratteristiche del clu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328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Confronto delle s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correnze nazionali come medie ponderate delle percorrenze dei clust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tima delle emissioni nazionali (COPERT Italia 1996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omogene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saggregazione provinciale delle emissioni nazionali (COPERT omogeneo) secondo la metodologia TOP-DOWN Corinair e riaggregazione delle stime per clust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fronto delle emissioni per cluster e dei totali (nazionali) corrispondent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Confronto delle stime (seg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scarto tra le emissioni totali (nazionali) si mantiene per tutti gli inquinanti considerati al di sotto dello 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981080" y="4038480"/>
                <a:ext cx="457200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Sup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  <m:e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467840" cy="4191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04640"/>
            <a:ext cx="8534160" cy="15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 Confronto delle sti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rti percentuali per categoria veico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9:32:12Z</dcterms:created>
  <dc:creator>Salvatore Saija</dc:creator>
  <dc:description/>
  <dc:language>en-US</dc:language>
  <cp:lastModifiedBy>Salvatore Saija</cp:lastModifiedBy>
  <dcterms:modified xsi:type="dcterms:W3CDTF">2001-06-13T13:09:48Z</dcterms:modified>
  <cp:revision>16</cp:revision>
  <dc:subject/>
  <dc:title>Stima delle emissioni da trasporto stradale a livello locale</dc:title>
</cp:coreProperties>
</file>