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648-B136-450A-9990-C6E1545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94-F9F1-4F74-B00E-A1E244F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577-259E-4332-A1DB-AEDE872E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0F5-E5B6-43AF-A4C7-D6199E95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584-0104-4BE6-B7CD-DE74DEC6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FD6-A6E9-4F55-B23C-33286F8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D98-3D00-433F-BB49-EE26D8E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D97-ADDF-4FC6-A59D-208A56C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688-D3E2-4BB9-9595-954E48E1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813-5B38-41E0-BF96-3F7E6C3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6B9-9807-449C-A5DE-4199240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AB4-5482-4D54-9A13-AA913F89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E6C-27B9-4B1E-B8FE-7A2A98AC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FLUENZA DEL PARAMETRO “l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“ SULLA STIMA DELLE EMI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8040" y="482760"/>
          <a:ext cx="8143920" cy="48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482760"/>
                    <a:ext cx="8143920" cy="48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143000"/>
          <a:ext cx="8145720" cy="46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14572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4582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458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952560"/>
          <a:ext cx="8572680" cy="46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52560"/>
                    <a:ext cx="857268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1066680"/>
          <a:ext cx="807732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773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3520" y="1143000"/>
          <a:ext cx="784836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8483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685800"/>
          <a:ext cx="815364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1536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76212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990720"/>
          <a:ext cx="815328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532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le emissioni a freddo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cold =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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Times New Roman"/>
              </a:rPr>
              <a:t>hot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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eho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–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cold = Emissioni a fre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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zione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lla percorrenza condotta con il motore freddo o con il catalizzatore operante al di sotto della temperatura di “light-off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Fattore di emissione a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Over-emission ratios per l’inquinant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=0,6474-0,0254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-(0.00974-0.00038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)*t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8 km&lt;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&lt;15 km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anche le emissioni evaporative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D14710_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2296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533520"/>
          <a:ext cx="8458200" cy="51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520" y="433440"/>
          <a:ext cx="8381880" cy="60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3440"/>
                    <a:ext cx="838188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782640"/>
          <a:ext cx="8077320" cy="51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82640"/>
                    <a:ext cx="807732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8040" y="746280"/>
          <a:ext cx="828180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46280"/>
                    <a:ext cx="82818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662040"/>
          <a:ext cx="883440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62040"/>
                    <a:ext cx="88344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762120"/>
          <a:ext cx="78487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8487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24:08Z</dcterms:created>
  <dc:creator>ENEA</dc:creator>
  <dc:description/>
  <dc:language>en-US</dc:language>
  <cp:lastModifiedBy>ENEA</cp:lastModifiedBy>
  <dcterms:modified xsi:type="dcterms:W3CDTF">2001-06-13T09:26:30Z</dcterms:modified>
  <cp:revision>17</cp:revision>
  <dc:subject/>
  <dc:title>INFLUENZA DEL PARAMETRO “ltrip “ SULLA STIMA DELLE EMISIONI</dc:title>
</cp:coreProperties>
</file>