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7B7-B114-422A-8D43-BB8BDA8A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6B1-BCC9-4D3E-BAC8-60EAE922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4DC-25D2-4B91-A236-A6DB0016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612-FB6B-4632-BCC0-6D1FF464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819-320A-4779-A70F-BE61C621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DA1-9866-468A-8EAA-0D77D8CB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C82-0B22-4499-A169-FF004E58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C41-A7B7-4BA7-B1F0-75349910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D74-12A4-4890-910E-DB241FED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1E1-FC05-4EFC-BF69-75AEB7FC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C0A-6B5F-4AC3-8457-0172BD8E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7A9-BB99-4792-B975-A5D2DCC5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F5DB-7A2C-4878-85CC-21BE4F5C8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ondo%20STA%20Proim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00_LOGO_PROIMO" descr=""/>
          <p:cNvPicPr/>
          <p:nvPr/>
        </p:nvPicPr>
        <p:blipFill>
          <a:blip r:embed="rId3"/>
          <a:stretch/>
        </p:blipFill>
        <p:spPr>
          <a:xfrm>
            <a:off x="76320" y="6126120"/>
            <a:ext cx="1295280" cy="39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 Black"/>
              </a:rPr>
              <a:t>Analisi delle percorrenze, delle velocità medie e delle emissioni inquinanti nell’area urbana di Ro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800600"/>
            <a:ext cx="8610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Sergio NEGRO - Anna Maria ATZORI - Pier Paolo CARTO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.O. Analisi Trasportistiche ed Ambientali - Area Pianificazione e Proget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Fabio NUSSIO - Michela DE PA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.O. Innovazione&amp;Sistemi - Progetti Europe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L_PRV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330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85920" y="6858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Flussi sulla rete di trasporto priv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219320"/>
            <a:ext cx="822960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Stima dei flussi di traffico attraverso il software di simulazione Trans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av_A1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36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21920" y="746280"/>
            <a:ext cx="55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Emissioni di CO all’interno del Comune di R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9840" y="68580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Flussi privati e velocità medie nell’area cent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lussi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17220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79720" y="746280"/>
            <a:ext cx="36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Emissioni per arco di CO (kg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emissioni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537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29000" y="5105520"/>
            <a:ext cx="3429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2 kg di CO emessi nell’ora di pu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124080" y="54097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0200" y="746280"/>
            <a:ext cx="55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Emissioni di CO all’interno dell’anello ferrov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Tav_C1" descr=""/>
          <p:cNvPicPr/>
          <p:nvPr/>
        </p:nvPicPr>
        <p:blipFill>
          <a:blip r:embed="rId1"/>
          <a:stretch/>
        </p:blipFill>
        <p:spPr>
          <a:xfrm>
            <a:off x="871560" y="1143000"/>
            <a:ext cx="7662960" cy="52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50840" y="225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8640" y="2743200"/>
            <a:ext cx="47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alisi della domanda di trasp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920" y="190512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alisi dell’offerta di trasp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4440" y="3581280"/>
            <a:ext cx="622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alisi degli indicatori sintetici di prest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(velocità, tempo, lunghezza dello spost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1640" y="5029200"/>
            <a:ext cx="690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etodologia per la stima delle emissioni inqui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dotte da traffico veico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83320" y="746280"/>
            <a:ext cx="49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Configurazione rete di trasporto pubbl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B_ATT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372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362320"/>
            <a:ext cx="8153640" cy="2228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Lunghezza rete metro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36 km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Lunghezza rete sistemi intermedi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40 km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Lunghezza rete FM-FS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         364 km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Lunghezza rete autobus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       1548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5320" y="746280"/>
            <a:ext cx="47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Configurazione rete di trasporto priv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GRf_reg" descr=""/>
          <p:cNvPicPr/>
          <p:nvPr/>
        </p:nvPicPr>
        <p:blipFill>
          <a:blip r:embed="rId1"/>
          <a:stretch/>
        </p:blipFill>
        <p:spPr>
          <a:xfrm>
            <a:off x="295200" y="1143000"/>
            <a:ext cx="839160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1905120"/>
            <a:ext cx="6705720" cy="283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autostrada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166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scorrimento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           48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interzonali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226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interquartiere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              144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quartiere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283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viabilità secondaria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402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5240" y="1143000"/>
            <a:ext cx="607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 Black"/>
              </a:rPr>
              <a:t>Ripartizione modale nell’ora di punta del matti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Intero territorio comu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0120" y="685800"/>
            <a:ext cx="634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Arial Black"/>
              </a:rPr>
              <a:t>Ripartizione mod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84280" y="1981080"/>
          <a:ext cx="8940600" cy="44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981080"/>
                    <a:ext cx="89406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379760" y="2197080"/>
          <a:ext cx="6440760" cy="1460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9760" y="2197080"/>
                    <a:ext cx="64407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7240" y="68580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Flussi passeggeri rete di trasporto pubblico </a:t>
            </a:r>
            <a:r>
              <a:rPr b="0" i="1" lang="en-US" sz="1800" spc="-1" strike="noStrike">
                <a:solidFill>
                  <a:srgbClr val="ff3300"/>
                </a:solidFill>
                <a:latin typeface="Arial Black"/>
              </a:rPr>
              <a:t>(fer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FL_PB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2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600200" y="1749600"/>
          <a:ext cx="7543800" cy="3203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749600"/>
                    <a:ext cx="7543800" cy="32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FL_PRV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330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85920" y="6858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Flussi sulla rete di trasporto priv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352520" y="2262240"/>
          <a:ext cx="7639200" cy="276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2520" y="2262240"/>
                    <a:ext cx="76392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52280" y="1143000"/>
            <a:ext cx="883944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 Black"/>
              </a:rPr>
              <a:t>Spostamenti interessanti il Comune di Ro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 Black"/>
              </a:rPr>
              <a:t>nell’ora di punta del mattin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10680" y="746280"/>
            <a:ext cx="377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Stima delle emissioni inquin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6040" y="4038480"/>
            <a:ext cx="85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territorio comunale è stato suddiviso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one “emissive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o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 di omogeneità territori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lativamente alle infrastrutture via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2952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È stata definita la composizione del parco comu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ircolante secondo la metodologi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PE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38800" y="2209680"/>
            <a:ext cx="67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no stati stimati i flussi di traffico sulla rete strad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raverso il software di simulazion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rans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3960" y="3124080"/>
            <a:ext cx="57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no stati calcolate le emissioni di inquin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condo la metodologi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PE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62960" y="5105520"/>
            <a:ext cx="60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Per ogni zona sono state stimate le emission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CO, VOC, PTS, NOx, benze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87000" y="74628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Parco circolante nel Comune di R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ARCO1" descr=""/>
          <p:cNvPicPr/>
          <p:nvPr/>
        </p:nvPicPr>
        <p:blipFill>
          <a:blip r:embed="rId1"/>
          <a:stretch/>
        </p:blipFill>
        <p:spPr>
          <a:xfrm>
            <a:off x="380880" y="1162080"/>
            <a:ext cx="8129880" cy="5081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280" y="624852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i ACI e ANCMA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14:15:02Z</dcterms:created>
  <dc:creator>mtamagnone</dc:creator>
  <dc:description/>
  <dc:language>en-US</dc:language>
  <cp:lastModifiedBy>pcartolano</cp:lastModifiedBy>
  <dcterms:modified xsi:type="dcterms:W3CDTF">2001-06-13T11:41:10Z</dcterms:modified>
  <cp:revision>78</cp:revision>
  <dc:subject/>
  <dc:title>Nessun titolo diapositiva</dc:title>
</cp:coreProperties>
</file>