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81788" cy="9958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80CF-6178-4CDA-AEB3-B992F6BB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C9F5-9E28-4DEC-BB35-46767B9D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360E-834E-4214-83FF-BDA0CCFD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047B-5A73-4A2E-84C8-260A46B3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F91A-5D6A-42D2-98F9-402D69EF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84DD-C55E-4E48-AD3F-36E0E98B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4E46-71A9-4A38-9135-06173B18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7419-1836-4876-8E30-F5745C03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BA0F-5BC1-4255-90BE-61CCD2F5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95480" y="151920"/>
            <a:ext cx="60199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50E8-C47D-49C7-9013-83266115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8859-B19D-43C2-887F-D8D8CAC3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48C5-BB27-4F08-B5DF-AD048CEA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8C69-ECF7-45E5-88E7-85FA5CF9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AB1B-45D1-4D4D-898A-1606A11B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D76C-7662-411E-A3E8-2DDE1D3B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D90C-FC07-489D-9680-16281099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D04E-AB32-4736-ABBD-70519865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A6EE-17E7-47F9-AD5E-259FB415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8454-92D0-4EB2-9385-1B942CEF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156C-3A41-463E-A020-17EBFC21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95480" y="151920"/>
            <a:ext cx="60199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8B61-5AA4-40D7-A6B0-06E8E543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B07F-F454-46B3-8AE6-C95F1CF6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F3E2-2047-4DE7-A2B5-F73FD970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9FB8-4CE9-425D-81A6-9077E18F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DEE0-054A-4C92-91BD-F2E6ABC57641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297B-FFF3-4F8E-880B-2455985F77FE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228240"/>
            <a:ext cx="6400800" cy="172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8C29-B82D-4EDC-B3CD-81BDA61BDD8E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31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F2FF-91EE-4B08-BC5E-F240DF05508B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76720" y="3580920"/>
            <a:ext cx="4952880" cy="172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0000"/>
                </a:solidFill>
                <a:latin typeface="Arial Narrow"/>
              </a:rPr>
              <a:t>ANALISI FATTORI EMISSIONE CO</a:t>
            </a:r>
            <a:r>
              <a:rPr b="1" lang="it-IT" sz="6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1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A991-CF87-4268-8DE8-BDE150E0CD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3504945-E5F1-43E8-A669-AE821FCE913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 Narrow"/>
              </a:rPr>
              <a:t>Introduzion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attore emissione CO 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a diverse fon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visione Fattore emissione CO 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PERT per le benzine ( che trascura la presenza di composti ossigenat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A4F3-373D-4A17-B4D7-0BF0C46CEA5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49A8E-417C-460C-BE3F-3E244F2A7F13}" type="datetime1">
              <a:rPr lang="en-US"/>
              <a:t>07/31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885080" cy="9372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C11C-BB5A-465A-947E-D68211788859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AF3A36F-D21A-4118-8D4B-4F9554391E7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23880" y="-3886200"/>
            <a:ext cx="6170760" cy="967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602-DEDF-419B-B4EA-CEAB927993DF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401CB-7C9B-4845-998F-6811FFDBFF2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ORMULA COPERT C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ORMULA COPERT RIV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645-889F-466C-ADA6-A3B7B37721D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F66B9-6251-430A-B68D-5EA61E6A388A}" type="datetime1">
              <a:rPr lang="en-US"/>
              <a:t>07/31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4080" y="304920"/>
            <a:ext cx="60199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 Narrow"/>
              </a:rPr>
              <a:t>CO</a:t>
            </a:r>
            <a:r>
              <a:rPr b="1" lang="it-IT" sz="3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it-IT" sz="3600" spc="-1" strike="noStrike">
                <a:solidFill>
                  <a:srgbClr val="000000"/>
                </a:solidFill>
                <a:latin typeface="Arial Narrow"/>
              </a:rPr>
              <a:t>     COPERT 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Arial Narrow"/>
              </a:rPr>
              <a:t>FORMULA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24382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895480" y="2438280"/>
                <a:ext cx="51818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CALC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 = 44,011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,01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,008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: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048120" y="3962520"/>
                <a:ext cx="6858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: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3962520" y="3962520"/>
            <a:ext cx="487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porto tra numero di  atomi di  idrogeno e  carbonio nel combustibil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51814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o combustib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048120" y="5943600"/>
                <a:ext cx="914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CALC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4038480" y="5943600"/>
            <a:ext cx="510552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r" pos="86832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Emissioni calcolate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86832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86832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86832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099F-A11E-4227-AC92-0291572F68F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08A6B-02D6-43C2-B3F5-D182820282FB}" type="datetime1">
              <a:rPr lang="en-US"/>
              <a:t>07/31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895480" y="3123720"/>
            <a:ext cx="60199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905120" y="1828800"/>
                <a:ext cx="70102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CALC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 = 44,011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,01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,008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:C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99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:C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6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: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124080" y="3352680"/>
                <a:ext cx="8827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: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200400" y="4572000"/>
                <a:ext cx="8380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: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321000" y="5638680"/>
                <a:ext cx="7495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: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3886200" y="3581280"/>
            <a:ext cx="92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rapporto H/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472428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rapporto O/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5715000"/>
            <a:ext cx="92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rapporto S/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228600"/>
            <a:ext cx="4800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 Narrow"/>
              </a:rPr>
              <a:t>CO</a:t>
            </a:r>
            <a:r>
              <a:rPr b="1" lang="it-IT" sz="3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it-IT" sz="3600" spc="-1" strike="noStrike">
                <a:solidFill>
                  <a:srgbClr val="000000"/>
                </a:solidFill>
                <a:latin typeface="Arial Narrow"/>
              </a:rPr>
              <a:t>     COPERT 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Arial Narrow"/>
              </a:rPr>
              <a:t>FORMULA RIVIS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80BA-0AFB-48F9-8BC8-74C8B90758D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48832-DBA0-47BD-9A97-57D7D32565CE}" type="datetime1">
              <a:rPr lang="en-US"/>
              <a:t>07/31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6095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te: elaborazioni ANPA su dati Tittarelli, COPE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358920"/>
            <a:ext cx="8077320" cy="57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5F7C-F3B5-4DBC-874C-888CD8086001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D8C93-4DEE-44C8-AFC3-A260B54DE5BD}" type="datetime1">
              <a:rPr lang="en-US"/>
              <a:t>07/31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 Narrow"/>
              </a:rPr>
              <a:t>CONCLUSIONI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PERT SOVRASTIMA LE EMISSIONI DI C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(A PARITA’ DI CONSUMO DI BENZINA) DI 14 g/Kg benzina consum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brevemente le azioni che si intende intraprendere di perso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3616-2D9C-4A69-81C3-3745BDA5052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17059-0D76-449C-ADF7-871ADD8B7BA0}" type="datetime1">
              <a:rPr lang="en-US"/>
              <a:t>07/31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PA</cp:lastModifiedBy>
  <dcterms:modified xsi:type="dcterms:W3CDTF">2001-06-13T12:43:16Z</dcterms:modified>
  <cp:revision>10</cp:revision>
  <dc:subject/>
  <dc:title>Presentazione di PowerPoint</dc:title>
</cp:coreProperties>
</file>