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2D0-4ECD-4F11-B2C2-160D1290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986-57A4-4355-A7B6-3A24397B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D29-0C53-4059-AEC5-2E06C51F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71D-80E5-48BB-B315-7C7E47A0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E026-18C9-4CD4-AD5F-C909F0D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C692-0396-4C9E-AE6E-B373C1B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203-C1B3-4B3B-B882-18675F47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45B9-53D3-436B-9AA3-40BF761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B1C0-5C13-4FAD-B90F-DF08667F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E5AF-0714-4BCB-AC42-3EF6F056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1DEA-5993-49E5-ADEE-52655B2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FD1-F9F4-4202-AC12-5D038917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30A5-0E83-4115-817C-C5397BAB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3D3F-41A8-475B-9A7C-51BA73F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3DC9-3DB7-419C-9BE8-90188F5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92E8-4F56-4C7A-82BE-D7964262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8CB9-4743-4C9B-85EE-21599C49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747-EC2F-4D55-B303-997401CA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3F2-DCE8-4F89-AAA5-1E9CAD4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F4E-F99C-4D81-9028-FE109BD4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BD6-EED2-4AB6-81BA-2465BF4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F11-EF5E-4B05-8A20-9229BC2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929-9177-4C66-BCE2-27673B1B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A74-B6A1-4E6B-A909-E9585D9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BD6E-125C-4A7B-99C0-38508C2E5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3FCB-0062-43ED-AF00-DA4D45E09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odello Copert per la stima delle emissioni da trasporto stradale a livello provinciale e urb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iglioramento della metodologia Top-Down Corinair mediante tecniche di analisi statistica multivari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th International Symposium “Transport and Air Pollution”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7-19, 2001 – Boulder, Colorado, US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49568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vatore Saija, Daniela Ro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PA – Unità Interdipartimentale Censimento delle Fonti di Emiss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Confronto delle s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arti percentuali per categoria veicolare e ciclo di 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133720"/>
          <a:ext cx="8229600" cy="41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153280" cy="16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3 Confronto delle stime 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efficienti di variazione per cluster e categoria S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04920" y="1981080"/>
          <a:ext cx="85341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534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rrezione delle stime provinciali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missione “standard” della provincia i (i = 1,…, 103) per la categoria veicolare k (k = 1,…, 5),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8120" y="1295280"/>
                <a:ext cx="2971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66680" y="2209680"/>
                <a:ext cx="365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505320" y="35812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efficiente di variazione dell’emissione delle province del cluster c (c = 1,…, 4) per la categ. veic. 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 = numerosità cluster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001000" y="380880"/>
                <a:ext cx="574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079640" y="5410080"/>
                <a:ext cx="504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3880" y="548640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emissione del cluster c per la categ. veic. k, stimata dal COPERT del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" y="3352680"/>
                <a:ext cx="281952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Stima delle emissioni nei grandi comu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86 comuni con più di 40.000 abita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aggregazione della quota urbana delle emissioni provinciali corrette, usando come proxy la popolazione residente nel com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. Stima delle emissioni nei grandi comuni – 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2057400"/>
          <a:ext cx="8153280" cy="442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15328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. Stima delle emissioni nei grandi comuni – N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100240"/>
          <a:ext cx="80769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00240"/>
                    <a:ext cx="80769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formazione fornita dalla cluster analisys consente di caratterizzare e differenziare localmente le stime COPERT, in maniera coerente con il dimensionamento del modello a livello 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ontenuto informativo degli scarti per cluster viene esteso alle stime provinc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roxy popolazione sembra adeguata per disaggregare le stime provinciali a livello ur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viluppi metodologici legati alla possibilità di estendere coerentemente la metodologia a tutti i comuni con più di 20.000 abitanti e di integrarla con la stima delle emissioni in area extraurbana e sulle autos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3 livelli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ratterizzazione delle stime per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cro-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glioramento della metodologia CORINAIR di stima delle emissioni a livell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vin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alidazione di una metodologia di stima delle emissioni nell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e urba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c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cniche di A.S.M. per la caratterizzazione di unità territoriali (cluster) omogenee rispetto ad un set di indicatori socio-economici e di mobilità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PERT per Clust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5 inquinanti (NOx, NMVOC, CO, CO2, PM), confronto delle stime delle emissioni dei cluster (COPERT) con quelle stimate attraverso la metodologia Corinair (TOP-DOW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dividuazione di coefficienti di variazione (scarti) delle emissioni per le province dello stesso cluster e correzione delle sti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ima delle emissioni nei grandi comuni attraverso la disaggregazione della quota urbana delle emissioni provinciali corre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. Individuazione dei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7 indicatori socio-economici e rappresentativi dell’attività dei trasporti stradal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.C.P. e cluster analisy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dividuazione di 4 gruppi di province omogenee rispetto alle caratteristiche sintetizzate dai fattori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610000" y="0"/>
          <a:ext cx="6522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0000" y="0"/>
                    <a:ext cx="6522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1.1 Individuazione dei cluster - Risul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 COPERT per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 consumo provinciale di combustibile (venduto prov.) e riaggregazione per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4 Copert: quadratura del bilancio dei combustibili attraverso ipotesi sui parametri di input (percorrenze medie annue, ripartizione delle percorrenze per ciclo di guida) coerenti con le caratteristiche del clu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ronto delle s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correnze nazionali come medie ponderate delle percorrenze dei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ima delle emissioni nazionali (COPERT Italia 1996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mogene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saggregazione provinciale delle emissioni nazionali (COPERT omogeneo) secondo la metodologia TOP-DOWN Corinair e riaggregazione delle stime per clus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fronto delle emissioni per cluster e dei totali (nazionali) corrispondent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ronto delle stime (seg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scarto tra le emissioni totali (nazionali) si mantiene per tutti gli inquinanti considerati al di sotto dello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81080" y="4038480"/>
                <a:ext cx="45720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6784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04640"/>
            <a:ext cx="8534160" cy="15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Confronto delle s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ti percentuali per categoria vei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9:32:12Z</dcterms:created>
  <dc:creator>Salvatore Saija</dc:creator>
  <dc:description/>
  <dc:language>en-US</dc:language>
  <cp:lastModifiedBy>Salvatore Saija</cp:lastModifiedBy>
  <dcterms:modified xsi:type="dcterms:W3CDTF">2001-06-13T13:09:48Z</dcterms:modified>
  <cp:revision>16</cp:revision>
  <dc:subject/>
  <dc:title>Stima delle emissioni da trasporto stradale a livello locale</dc:title>
</cp:coreProperties>
</file>