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E29-F88F-4331-B61A-D94DDEF0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F5F7-F69B-41D5-878D-02EAC2EF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3540-8492-4BFE-95BA-E1A5DFFC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920D-6CF0-4C67-8DF4-193C0619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0490-56D2-4316-8FF8-87DA1297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852C-0E3E-4C3F-AA63-0EC8D42D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315C-42DD-48EC-B91D-7B509E5C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9D07-D9E3-4DC2-92CF-21455C57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A1B4-ADD1-415D-8138-398E80E7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2734-ECE8-40C7-8C3F-8D9C92D8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4457-4A1B-427D-BE51-5EBF0852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838-612F-4536-9ACB-A9C19B3B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DB56-9855-44DA-931C-6A29FF2E5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143000" y="0"/>
            <a:ext cx="10287000" cy="7010280"/>
            <a:chOff x="-1143000" y="0"/>
            <a:chExt cx="10287000" cy="7010280"/>
          </a:xfrm>
        </p:grpSpPr>
        <p:pic>
          <p:nvPicPr>
            <p:cNvPr id="42" name="JonicaB" descr=""/>
            <p:cNvPicPr/>
            <p:nvPr/>
          </p:nvPicPr>
          <p:blipFill>
            <a:blip r:embed="rId1"/>
            <a:stretch/>
          </p:blipFill>
          <p:spPr>
            <a:xfrm>
              <a:off x="-1143000" y="0"/>
              <a:ext cx="10287000" cy="701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flipV="1">
              <a:off x="5029200" y="3428640"/>
              <a:ext cx="838080" cy="762120"/>
            </a:xfrm>
            <a:prstGeom prst="line">
              <a:avLst/>
            </a:prstGeom>
            <a:ln cap="rnd" w="63360">
              <a:solidFill>
                <a:srgbClr val="ff0000"/>
              </a:solidFill>
              <a:custDash>
                <a:ds d="100000" sp="1000"/>
              </a:custDash>
              <a:miter/>
              <a:headEnd len="sm" type="diamond" w="lg"/>
              <a:tailEnd len="sm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3048120" y="4267080"/>
              <a:ext cx="1904760" cy="236232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  <a:headEnd len="sm" type="diamond" w="lg"/>
              <a:tailEnd len="sm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5943600" y="1523880"/>
              <a:ext cx="2209680" cy="182880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  <a:headEnd len="sm" type="diamond" w="lg"/>
              <a:tailEnd len="sm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8800" y="6248520"/>
              <a:ext cx="990720" cy="30456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  <a:headEnd len="sm" type="diamond" w="lg"/>
              <a:tailEnd len="sm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96080" y="838080"/>
              <a:ext cx="381240" cy="45720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  <a:headEnd len="sm" type="diamond" w="lg"/>
              <a:tailEnd len="sm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52480" y="914400"/>
              <a:ext cx="5943600" cy="5257800"/>
            </a:xfrm>
            <a:custGeom>
              <a:avLst/>
              <a:gdLst/>
              <a:ahLst/>
              <a:rect l="l" t="t" r="r" b="b"/>
              <a:pathLst>
                <a:path w="3576" h="3144">
                  <a:moveTo>
                    <a:pt x="0" y="3144"/>
                  </a:moveTo>
                  <a:cubicBezTo>
                    <a:pt x="0" y="3132"/>
                    <a:pt x="0" y="3120"/>
                    <a:pt x="0" y="3108"/>
                  </a:cubicBezTo>
                  <a:lnTo>
                    <a:pt x="408" y="2064"/>
                  </a:lnTo>
                  <a:lnTo>
                    <a:pt x="1032" y="336"/>
                  </a:lnTo>
                  <a:lnTo>
                    <a:pt x="1272" y="240"/>
                  </a:lnTo>
                  <a:lnTo>
                    <a:pt x="3096" y="288"/>
                  </a:lnTo>
                  <a:lnTo>
                    <a:pt x="3576" y="0"/>
                  </a:lnTo>
                </a:path>
              </a:pathLst>
            </a:custGeom>
            <a:noFill/>
            <a:ln cap="rnd" w="63360">
              <a:solidFill>
                <a:srgbClr val="ffff00"/>
              </a:solidFill>
              <a:custDash>
                <a:ds d="100000" sp="1000"/>
              </a:custDash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152280"/>
              <a:ext cx="495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ff00"/>
                  </a:solidFill>
                  <a:latin typeface="Verdana"/>
                </a:rPr>
                <a:t>Adeguamento della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ff00"/>
                  </a:solidFill>
                  <a:latin typeface="Verdana"/>
                </a:rPr>
                <a:t>S.S. 106 "Jonica"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143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cc00"/>
                  </a:solidFill>
                  <a:latin typeface="Verdana"/>
                </a:rPr>
                <a:t>Tratto 4°</a:t>
              </a:r>
              <a:r>
                <a:rPr b="1" lang="it-IT" sz="2000" spc="-1" strike="noStrike">
                  <a:solidFill>
                    <a:srgbClr val="ffcc00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cc00"/>
                  </a:solidFill>
                  <a:latin typeface="Verdana"/>
                </a:rPr>
                <a:t>Squillace-Simeri Cricch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2514600"/>
              <a:ext cx="838080" cy="0"/>
            </a:xfrm>
            <a:prstGeom prst="line">
              <a:avLst/>
            </a:prstGeom>
            <a:ln cap="rnd" w="63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819520"/>
              <a:ext cx="838080" cy="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124080"/>
              <a:ext cx="838080" cy="0"/>
            </a:xfrm>
            <a:prstGeom prst="line">
              <a:avLst/>
            </a:prstGeom>
            <a:ln w="6336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47520" y="2286000"/>
              <a:ext cx="80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3300"/>
                  </a:solidFill>
                  <a:latin typeface="Verdana"/>
                </a:rPr>
                <a:t>Urb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50400" y="259092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66ff33"/>
                  </a:solidFill>
                  <a:latin typeface="Verdana"/>
                </a:rPr>
                <a:t>Ru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91720" y="2971800"/>
              <a:ext cx="107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Verdana"/>
                </a:rPr>
                <a:t>Highw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2680" y="1981080"/>
              <a:ext cx="200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cc"/>
                  </a:solidFill>
                  <a:latin typeface="Verdana"/>
                </a:rPr>
                <a:t>Modalità di guida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52480" y="6512040"/>
              <a:ext cx="71280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Verdana"/>
                </a:rPr>
                <a:t>2 k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28840" y="990720"/>
              <a:ext cx="6469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Verdana"/>
                </a:rPr>
                <a:t>1 k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530680" y="3809880"/>
              <a:ext cx="8179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Verdana"/>
                </a:rPr>
                <a:t>2,5 k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14280" y="5486400"/>
              <a:ext cx="6469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Verdana"/>
                </a:rPr>
                <a:t>5 k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62400" y="2666880"/>
              <a:ext cx="6469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Verdana"/>
                </a:rPr>
                <a:t>5 k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53840" y="1981080"/>
              <a:ext cx="76284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Verdana"/>
                </a:rPr>
                <a:t>16 k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04920" y="533520"/>
          <a:ext cx="8605800" cy="539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860580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405080" y="274680"/>
          <a:ext cx="6323040" cy="62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274680"/>
                    <a:ext cx="6323040" cy="62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45960" y="166680"/>
          <a:ext cx="8893440" cy="4894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5960" y="166680"/>
                    <a:ext cx="889344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447920" y="5181480"/>
          <a:ext cx="6296040" cy="1676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5181480"/>
                    <a:ext cx="62960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781200" y="752400"/>
          <a:ext cx="7583400" cy="53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752400"/>
                    <a:ext cx="75834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546120"/>
          <a:ext cx="9144000" cy="576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6120"/>
                    <a:ext cx="91440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10:46:53Z</dcterms:created>
  <dc:creator>R</dc:creator>
  <dc:description/>
  <dc:language>en-US</dc:language>
  <cp:lastModifiedBy>R</cp:lastModifiedBy>
  <dcterms:modified xsi:type="dcterms:W3CDTF">2001-06-12T10:47:37Z</dcterms:modified>
  <cp:revision>51</cp:revision>
  <dc:subject/>
  <dc:title>Presentazione di PowerPoint</dc:title>
</cp:coreProperties>
</file>