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1DE-D673-427C-BB73-801A4651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85C-D827-4B94-B12C-4BB9C585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EF8-EBA3-4505-96CF-1DC5ACA5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339-F4D0-4A13-A302-A7FD3167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F70-D633-4996-BBAA-58F3B47A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D5C-1D4D-43BB-ADB3-7511356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2FF-35DE-4EA3-A8AD-B6201A0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A98-303E-43C4-A51B-9CB86B2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35F-AC0A-44FE-A2BF-4903FF56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BAF-6E26-40AD-B317-4CE4C79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5EF-1CED-4921-B84C-F3BF12D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46D-C2B4-44BD-B6CF-7572895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6A9-0658-4258-BAF1-F36D4A2F6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FLUENZA DEL PARAMETRO “l</a:t>
            </a:r>
            <a:r>
              <a:rPr b="0" lang="it-IT" sz="44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“ SULLA STIMA DELLE EMI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8040" y="482760"/>
          <a:ext cx="8143920" cy="48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482760"/>
                    <a:ext cx="8143920" cy="48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143000"/>
          <a:ext cx="8145720" cy="46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145720" cy="46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45820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45820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952560"/>
          <a:ext cx="8572680" cy="46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952560"/>
                    <a:ext cx="857268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1066680"/>
          <a:ext cx="8077320" cy="479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773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33520" y="1143000"/>
          <a:ext cx="784836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84836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685800"/>
          <a:ext cx="815364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1536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762120"/>
          <a:ext cx="8229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229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990720"/>
          <a:ext cx="815328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532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le emissioni a freddo</a:t>
            </a:r>
            <a:br>
              <a:rPr sz="4000"/>
            </a:br>
            <a:br>
              <a:rPr sz="2400"/>
            </a:br>
            <a:br>
              <a:rPr sz="24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cold =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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it-IT" sz="3600" spc="-1" strike="noStrike" baseline="-25000">
                <a:solidFill>
                  <a:srgbClr val="000000"/>
                </a:solidFill>
                <a:latin typeface="Times New Roman"/>
              </a:rPr>
              <a:t>hot </a:t>
            </a: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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3600" spc="-1" strike="noStrike" baseline="30000">
                <a:solidFill>
                  <a:srgbClr val="000000"/>
                </a:solidFill>
                <a:latin typeface="Times New Roman"/>
              </a:rPr>
              <a:t>ehot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 –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cold = Emissioni a fred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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razione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lla percorrenza condotta con il motore freddo o con il catalizzatore operante al di sotto della temperatura di “light-off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Fattore di emissione a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COL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HO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Over-emission ratios per l’inquinante speci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=0,6474-0,0254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-(0.00974-0.000385*l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trip</a:t>
            </a:r>
            <a:r>
              <a:rPr b="1" i="1" lang="it-IT" sz="3000" spc="-1" strike="noStrike">
                <a:solidFill>
                  <a:srgbClr val="0033cc"/>
                </a:solidFill>
                <a:latin typeface="Times New Roman"/>
              </a:rPr>
              <a:t>)*t</a:t>
            </a:r>
            <a:r>
              <a:rPr b="1" i="1" lang="it-IT" sz="30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8 km&lt;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&lt;15 km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4000" spc="-1" strike="noStrike" baseline="-25000">
                <a:solidFill>
                  <a:srgbClr val="000000"/>
                </a:solidFill>
                <a:latin typeface="Times New Roman"/>
              </a:rPr>
              <a:t>trip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influenza anche le emissioni evaporative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D14710_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22960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533520"/>
          <a:ext cx="8458200" cy="51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520" y="433440"/>
          <a:ext cx="8381880" cy="602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3440"/>
                    <a:ext cx="838188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782640"/>
          <a:ext cx="8077320" cy="51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82640"/>
                    <a:ext cx="807732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08040" y="746280"/>
          <a:ext cx="828180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46280"/>
                    <a:ext cx="82818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662040"/>
          <a:ext cx="883440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62040"/>
                    <a:ext cx="88344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762120"/>
          <a:ext cx="78487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8487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9:24:08Z</dcterms:created>
  <dc:creator>ENEA</dc:creator>
  <dc:description/>
  <dc:language>en-US</dc:language>
  <cp:lastModifiedBy>ENEA</cp:lastModifiedBy>
  <dcterms:modified xsi:type="dcterms:W3CDTF">2001-06-13T09:26:30Z</dcterms:modified>
  <cp:revision>17</cp:revision>
  <dc:subject/>
  <dc:title>INFLUENZA DEL PARAMETRO “ltrip “ SULLA STIMA DELLE EMISIONI</dc:title>
</cp:coreProperties>
</file>