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5.wmf" ContentType="image/x-wmf"/>
  <Override PartName="/ppt/media/image10.wmf" ContentType="image/x-wmf"/>
  <Override PartName="/ppt/media/image4.jpeg" ContentType="image/jpeg"/>
  <Override PartName="/ppt/media/image6.wmf" ContentType="image/x-wmf"/>
  <Override PartName="/ppt/media/image7.png" ContentType="image/png"/>
  <Override PartName="/ppt/media/image1.jpeg" ContentType="image/jpeg"/>
  <Override PartName="/ppt/media/image12.jpeg" ContentType="image/jpeg"/>
  <Override PartName="/ppt/media/image8.wmf" ContentType="image/x-wmf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75E75-5C16-42B9-9966-4BC65DA3A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44CC4-550E-43E4-A60C-4067A62C5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DF2EB-B541-4FE2-83E9-782AF7E20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6E7F4-4916-4FE3-8D6B-F761475CC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0D14D-A5C8-40A3-B75B-BEA7EC25B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84268-9E72-4031-A3B1-707B88FAF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9FD73-6F3F-43EC-8596-DDA75D777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8EDCC-6634-4EA3-9FEE-89CFC3581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F1F07-8211-45CA-9DB4-42753EE0C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D5E11-CF93-4C5C-AC73-01F341C2B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3B452-F0B5-46BF-BE7D-1087476DB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BA55F-7997-4153-B6E2-E1DDBE954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541FE-5C47-4B99-8065-EFF6E539FE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fondo%20STA%20Proimo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" name="00_LOGO_PROIMO" descr=""/>
          <p:cNvPicPr/>
          <p:nvPr/>
        </p:nvPicPr>
        <p:blipFill>
          <a:blip r:embed="rId3"/>
          <a:stretch/>
        </p:blipFill>
        <p:spPr>
          <a:xfrm>
            <a:off x="76320" y="6126120"/>
            <a:ext cx="1295280" cy="393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80880" y="1905120"/>
            <a:ext cx="830592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ff"/>
                </a:solidFill>
                <a:latin typeface="Arial Black"/>
              </a:rPr>
              <a:t>Analisi delle percorrenze, delle velocità medie e delle emissioni inquinanti nell’area urbana di Rom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6019920"/>
            <a:ext cx="144792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6583320"/>
            <a:ext cx="899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00"/>
                </a:solidFill>
                <a:latin typeface="Times New Roman"/>
              </a:rPr>
              <a:t>Expert Panel - Emissioni da Trasporto su Strada</a:t>
            </a:r>
            <a:r>
              <a:rPr b="1" lang="it-IT" sz="1200" spc="-1" strike="noStrike">
                <a:solidFill>
                  <a:srgbClr val="ff3300"/>
                </a:solidFill>
                <a:latin typeface="Times New Roman"/>
              </a:rPr>
              <a:t>                                        </a:t>
            </a:r>
            <a:r>
              <a:rPr b="1" lang="it-IT" sz="12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it-IT" sz="12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it-IT" sz="12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it-IT" sz="1200" spc="-1" strike="noStrike">
                <a:solidFill>
                  <a:srgbClr val="ffff00"/>
                </a:solidFill>
                <a:latin typeface="Times New Roman"/>
              </a:rPr>
              <a:t>Roma 14 Giugno 20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4800600"/>
            <a:ext cx="861084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3300"/>
                </a:solidFill>
                <a:latin typeface="Times New Roman"/>
              </a:rPr>
              <a:t>Sergio NEGRO - Anna Maria ATZORI - Pier Paolo CARTOLA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Times New Roman"/>
              </a:rPr>
              <a:t>U.O. Analisi Trasportistiche ed Ambientali - Area Pianificazione e Progettazi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3300"/>
                </a:solidFill>
                <a:latin typeface="Times New Roman"/>
              </a:rPr>
              <a:t>Fabio NUSSIO - Michela DE PA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Times New Roman"/>
              </a:rPr>
              <a:t>U.O. Innovazione&amp;Sistemi - Progetti Europei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80880" y="1905120"/>
            <a:ext cx="830592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6019920"/>
            <a:ext cx="144792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6583320"/>
            <a:ext cx="899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00"/>
                </a:solidFill>
                <a:latin typeface="Times New Roman"/>
              </a:rPr>
              <a:t>Expert Panel - Emissioni da Trasporto su Strada</a:t>
            </a:r>
            <a:r>
              <a:rPr b="1" lang="it-IT" sz="1200" spc="-1" strike="noStrike">
                <a:solidFill>
                  <a:srgbClr val="ff3300"/>
                </a:solidFill>
                <a:latin typeface="Times New Roman"/>
              </a:rPr>
              <a:t>                                        </a:t>
            </a:r>
            <a:r>
              <a:rPr b="1" lang="it-IT" sz="12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it-IT" sz="12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it-IT" sz="12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it-IT" sz="1200" spc="-1" strike="noStrike">
                <a:solidFill>
                  <a:srgbClr val="ffff00"/>
                </a:solidFill>
                <a:latin typeface="Times New Roman"/>
              </a:rPr>
              <a:t>Roma 14 Giugno 20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FL_PRV" descr=""/>
          <p:cNvPicPr/>
          <p:nvPr/>
        </p:nvPicPr>
        <p:blipFill>
          <a:blip r:embed="rId1"/>
          <a:stretch/>
        </p:blipFill>
        <p:spPr>
          <a:xfrm>
            <a:off x="457200" y="1219320"/>
            <a:ext cx="8153280" cy="5330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2185920" y="685800"/>
            <a:ext cx="41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Arial Black"/>
              </a:rPr>
              <a:t>Flussi sulla rete di trasporto priv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1219320"/>
            <a:ext cx="8229600" cy="7038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3300"/>
                </a:solidFill>
                <a:latin typeface="Times New Roman"/>
              </a:rPr>
              <a:t>Stima dei flussi di traffico attraverso il software di simulazione TransC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80880" y="1905120"/>
            <a:ext cx="830592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6019920"/>
            <a:ext cx="144792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6583320"/>
            <a:ext cx="899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00"/>
                </a:solidFill>
                <a:latin typeface="Times New Roman"/>
              </a:rPr>
              <a:t>Expert Panel - Emissioni da Trasporto su Strada</a:t>
            </a:r>
            <a:r>
              <a:rPr b="1" lang="it-IT" sz="1200" spc="-1" strike="noStrike">
                <a:solidFill>
                  <a:srgbClr val="ff3300"/>
                </a:solidFill>
                <a:latin typeface="Times New Roman"/>
              </a:rPr>
              <a:t>                                        </a:t>
            </a:r>
            <a:r>
              <a:rPr b="1" lang="it-IT" sz="12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it-IT" sz="12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it-IT" sz="12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it-IT" sz="1200" spc="-1" strike="noStrike">
                <a:solidFill>
                  <a:srgbClr val="ffff00"/>
                </a:solidFill>
                <a:latin typeface="Times New Roman"/>
              </a:rPr>
              <a:t>Roma 14 Giugno 20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Tav_A1" descr=""/>
          <p:cNvPicPr/>
          <p:nvPr/>
        </p:nvPicPr>
        <p:blipFill>
          <a:blip r:embed="rId1"/>
          <a:stretch/>
        </p:blipFill>
        <p:spPr>
          <a:xfrm>
            <a:off x="685800" y="1143000"/>
            <a:ext cx="7772400" cy="53658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2221920" y="746280"/>
            <a:ext cx="552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Arial Black"/>
              </a:rPr>
              <a:t>Emissioni di CO all’interno del Comune di R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380880" y="1905120"/>
            <a:ext cx="830592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6019920"/>
            <a:ext cx="144792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6583320"/>
            <a:ext cx="899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00"/>
                </a:solidFill>
                <a:latin typeface="Times New Roman"/>
              </a:rPr>
              <a:t>Expert Panel - Emissioni da Trasporto su Strada</a:t>
            </a:r>
            <a:r>
              <a:rPr b="1" lang="it-IT" sz="1200" spc="-1" strike="noStrike">
                <a:solidFill>
                  <a:srgbClr val="ff3300"/>
                </a:solidFill>
                <a:latin typeface="Times New Roman"/>
              </a:rPr>
              <a:t>                                        </a:t>
            </a:r>
            <a:r>
              <a:rPr b="1" lang="it-IT" sz="12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it-IT" sz="12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it-IT" sz="12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it-IT" sz="1200" spc="-1" strike="noStrike">
                <a:solidFill>
                  <a:srgbClr val="ffff00"/>
                </a:solidFill>
                <a:latin typeface="Times New Roman"/>
              </a:rPr>
              <a:t>Roma 14 Giugno 20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229840" y="685800"/>
            <a:ext cx="547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Arial Black"/>
              </a:rPr>
              <a:t>Flussi privati e velocità medie nell’area centr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flussi" descr=""/>
          <p:cNvPicPr/>
          <p:nvPr/>
        </p:nvPicPr>
        <p:blipFill>
          <a:blip r:embed="rId1"/>
          <a:stretch/>
        </p:blipFill>
        <p:spPr>
          <a:xfrm>
            <a:off x="1600200" y="1143000"/>
            <a:ext cx="6172200" cy="544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80880" y="1905120"/>
            <a:ext cx="830592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6019920"/>
            <a:ext cx="144792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6583320"/>
            <a:ext cx="899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00"/>
                </a:solidFill>
                <a:latin typeface="Times New Roman"/>
              </a:rPr>
              <a:t>Expert Panel - Emissioni da Trasporto su Strada</a:t>
            </a:r>
            <a:r>
              <a:rPr b="1" lang="it-IT" sz="1200" spc="-1" strike="noStrike">
                <a:solidFill>
                  <a:srgbClr val="ff3300"/>
                </a:solidFill>
                <a:latin typeface="Times New Roman"/>
              </a:rPr>
              <a:t>                                        </a:t>
            </a:r>
            <a:r>
              <a:rPr b="1" lang="it-IT" sz="12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it-IT" sz="12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it-IT" sz="12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it-IT" sz="1200" spc="-1" strike="noStrike">
                <a:solidFill>
                  <a:srgbClr val="ffff00"/>
                </a:solidFill>
                <a:latin typeface="Times New Roman"/>
              </a:rPr>
              <a:t>Roma 14 Giugno 20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79720" y="746280"/>
            <a:ext cx="365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Arial Black"/>
              </a:rPr>
              <a:t>Emissioni per arco di CO (kg/h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emissioni" descr=""/>
          <p:cNvPicPr/>
          <p:nvPr/>
        </p:nvPicPr>
        <p:blipFill>
          <a:blip r:embed="rId1"/>
          <a:stretch/>
        </p:blipFill>
        <p:spPr>
          <a:xfrm>
            <a:off x="1523880" y="1143000"/>
            <a:ext cx="6096240" cy="537228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3429000" y="5105520"/>
            <a:ext cx="3429000" cy="337320"/>
          </a:xfrm>
          <a:prstGeom prst="rect">
            <a:avLst/>
          </a:pr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2 kg di CO emessi nell’ora di pun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124080" y="5409720"/>
            <a:ext cx="30492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380880" y="1905120"/>
            <a:ext cx="830592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6019920"/>
            <a:ext cx="144792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6583320"/>
            <a:ext cx="899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00"/>
                </a:solidFill>
                <a:latin typeface="Times New Roman"/>
              </a:rPr>
              <a:t>Expert Panel - Emissioni da Trasporto su Strada</a:t>
            </a:r>
            <a:r>
              <a:rPr b="1" lang="it-IT" sz="1200" spc="-1" strike="noStrike">
                <a:solidFill>
                  <a:srgbClr val="ff3300"/>
                </a:solidFill>
                <a:latin typeface="Times New Roman"/>
              </a:rPr>
              <a:t>                                        </a:t>
            </a:r>
            <a:r>
              <a:rPr b="1" lang="it-IT" sz="12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it-IT" sz="12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it-IT" sz="12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it-IT" sz="1200" spc="-1" strike="noStrike">
                <a:solidFill>
                  <a:srgbClr val="ffff00"/>
                </a:solidFill>
                <a:latin typeface="Times New Roman"/>
              </a:rPr>
              <a:t>Roma 14 Giugno 20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320200" y="746280"/>
            <a:ext cx="558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Arial Black"/>
              </a:rPr>
              <a:t>Emissioni di CO all’interno dell’anello ferrovia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Tav_C1" descr=""/>
          <p:cNvPicPr/>
          <p:nvPr/>
        </p:nvPicPr>
        <p:blipFill>
          <a:blip r:embed="rId1"/>
          <a:stretch/>
        </p:blipFill>
        <p:spPr>
          <a:xfrm>
            <a:off x="871560" y="1143000"/>
            <a:ext cx="7662960" cy="529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80880" y="1905120"/>
            <a:ext cx="830592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6019920"/>
            <a:ext cx="144792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6583320"/>
            <a:ext cx="899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00"/>
                </a:solidFill>
                <a:latin typeface="Times New Roman"/>
              </a:rPr>
              <a:t>Expert Panel - Emissioni da Trasporto su Strada</a:t>
            </a:r>
            <a:r>
              <a:rPr b="1" lang="it-IT" sz="1200" spc="-1" strike="noStrike">
                <a:solidFill>
                  <a:srgbClr val="ff3300"/>
                </a:solidFill>
                <a:latin typeface="Times New Roman"/>
              </a:rPr>
              <a:t>                                        </a:t>
            </a:r>
            <a:r>
              <a:rPr b="1" lang="it-IT" sz="12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it-IT" sz="12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it-IT" sz="12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it-IT" sz="1200" spc="-1" strike="noStrike">
                <a:solidFill>
                  <a:srgbClr val="ffff00"/>
                </a:solidFill>
                <a:latin typeface="Times New Roman"/>
              </a:rPr>
              <a:t>Roma 14 Giugno 20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050840" y="2251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428640" y="2743200"/>
            <a:ext cx="472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Analisi della domanda di traspor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2920" y="1905120"/>
            <a:ext cx="426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Times New Roman"/>
              </a:rPr>
              <a:t>Analisi dell’offerta di traspor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4440" y="3581280"/>
            <a:ext cx="6220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Times New Roman"/>
              </a:rPr>
              <a:t>Analisi degli indicatori sintetici di prestazi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Times New Roman"/>
              </a:rPr>
              <a:t>(velocità, tempo, lunghezza dello spostament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051640" y="5029200"/>
            <a:ext cx="6906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Metodologia per la stima delle emissioni inquinant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prodotte da traffico veicol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80880" y="1905120"/>
            <a:ext cx="830592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6019920"/>
            <a:ext cx="144792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6583320"/>
            <a:ext cx="899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00"/>
                </a:solidFill>
                <a:latin typeface="Times New Roman"/>
              </a:rPr>
              <a:t>Expert Panel - Emissioni da Trasporto su Strada</a:t>
            </a:r>
            <a:r>
              <a:rPr b="1" lang="it-IT" sz="1200" spc="-1" strike="noStrike">
                <a:solidFill>
                  <a:srgbClr val="ff3300"/>
                </a:solidFill>
                <a:latin typeface="Times New Roman"/>
              </a:rPr>
              <a:t>                                        </a:t>
            </a:r>
            <a:r>
              <a:rPr b="1" lang="it-IT" sz="12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it-IT" sz="12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it-IT" sz="12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it-IT" sz="1200" spc="-1" strike="noStrike">
                <a:solidFill>
                  <a:srgbClr val="ffff00"/>
                </a:solidFill>
                <a:latin typeface="Times New Roman"/>
              </a:rPr>
              <a:t>Roma 14 Giugno 20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083320" y="746280"/>
            <a:ext cx="492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Arial Black"/>
              </a:rPr>
              <a:t>Configurazione rete di trasporto pubblic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B_ATT" descr=""/>
          <p:cNvPicPr/>
          <p:nvPr/>
        </p:nvPicPr>
        <p:blipFill>
          <a:blip r:embed="rId1"/>
          <a:stretch/>
        </p:blipFill>
        <p:spPr>
          <a:xfrm>
            <a:off x="457200" y="1143000"/>
            <a:ext cx="8077320" cy="53722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380880" y="2362320"/>
            <a:ext cx="8153640" cy="2228400"/>
          </a:xfrm>
          <a:prstGeom prst="rect">
            <a:avLst/>
          </a:prstGeom>
          <a:solidFill>
            <a:srgbClr val="ccff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66ff"/>
                </a:solidFill>
                <a:latin typeface="Arial"/>
              </a:rPr>
              <a:t>Lunghezza rete metro </a:t>
            </a:r>
            <a:r>
              <a:rPr b="1" lang="it-IT" sz="20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lang="it-IT" sz="20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lang="it-IT" sz="2000" spc="-1" strike="noStrike">
                <a:solidFill>
                  <a:srgbClr val="0066ff"/>
                </a:solidFill>
                <a:latin typeface="Arial"/>
              </a:rPr>
              <a:t>  </a:t>
            </a:r>
            <a:r>
              <a:rPr b="1" lang="it-IT" sz="20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lang="it-IT" sz="20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lang="it-IT" sz="20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lang="it-IT" sz="2000" spc="-1" strike="noStrike">
                <a:solidFill>
                  <a:srgbClr val="0066ff"/>
                </a:solidFill>
                <a:latin typeface="Arial"/>
              </a:rPr>
              <a:t> 36 km</a:t>
            </a:r>
            <a:r>
              <a:rPr b="1" lang="it-IT" sz="2000" spc="-1" strike="noStrike">
                <a:solidFill>
                  <a:srgbClr val="0066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66ff"/>
                </a:solidFill>
                <a:latin typeface="Arial"/>
              </a:rPr>
              <a:t>  </a:t>
            </a:r>
            <a:r>
              <a:rPr b="1" lang="it-IT" sz="2000" spc="-1" strike="noStrike">
                <a:solidFill>
                  <a:srgbClr val="0066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66ff"/>
                </a:solidFill>
                <a:latin typeface="Arial"/>
              </a:rPr>
              <a:t>Lunghezza rete sistemi intermedi </a:t>
            </a:r>
            <a:r>
              <a:rPr b="1" lang="it-IT" sz="20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lang="it-IT" sz="2000" spc="-1" strike="noStrike">
                <a:solidFill>
                  <a:srgbClr val="0066ff"/>
                </a:solidFill>
                <a:latin typeface="Arial"/>
              </a:rPr>
              <a:t>   </a:t>
            </a:r>
            <a:r>
              <a:rPr b="1" lang="it-IT" sz="20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lang="it-IT" sz="20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lang="it-IT" sz="2000" spc="-1" strike="noStrike">
                <a:solidFill>
                  <a:srgbClr val="0066ff"/>
                </a:solidFill>
                <a:latin typeface="Arial"/>
              </a:rPr>
              <a:t>40 km</a:t>
            </a:r>
            <a:r>
              <a:rPr b="1" lang="it-IT" sz="2000" spc="-1" strike="noStrike">
                <a:solidFill>
                  <a:srgbClr val="0066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66ff"/>
                </a:solidFill>
                <a:latin typeface="Arial"/>
              </a:rPr>
              <a:t>    </a:t>
            </a:r>
            <a:r>
              <a:rPr b="1" lang="it-IT" sz="2000" spc="-1" strike="noStrike">
                <a:solidFill>
                  <a:srgbClr val="0066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66ff"/>
                </a:solidFill>
                <a:latin typeface="Arial"/>
              </a:rPr>
              <a:t>Lunghezza rete FM-FS </a:t>
            </a:r>
            <a:r>
              <a:rPr b="1" lang="it-IT" sz="20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lang="it-IT" sz="20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lang="it-IT" sz="20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1" lang="it-IT" sz="20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lang="it-IT" sz="2000" spc="-1" strike="noStrike">
                <a:solidFill>
                  <a:srgbClr val="0066ff"/>
                </a:solidFill>
                <a:latin typeface="Arial"/>
              </a:rPr>
              <a:t>           364 km</a:t>
            </a:r>
            <a:r>
              <a:rPr b="1" lang="it-IT" sz="2000" spc="-1" strike="noStrike">
                <a:solidFill>
                  <a:srgbClr val="0066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66ff"/>
                </a:solidFill>
                <a:latin typeface="Arial"/>
              </a:rPr>
              <a:t>Lunghezza rete autobus </a:t>
            </a:r>
            <a:r>
              <a:rPr b="1" lang="it-IT" sz="20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lang="it-IT" sz="20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lang="it-IT" sz="20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lang="it-IT" sz="2000" spc="-1" strike="noStrike">
                <a:solidFill>
                  <a:srgbClr val="0066ff"/>
                </a:solidFill>
                <a:latin typeface="Arial"/>
              </a:rPr>
              <a:t>         1548 k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80880" y="1905120"/>
            <a:ext cx="830592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6019920"/>
            <a:ext cx="144792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6583320"/>
            <a:ext cx="899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00"/>
                </a:solidFill>
                <a:latin typeface="Times New Roman"/>
              </a:rPr>
              <a:t>Expert Panel - Emissioni da Trasporto su Strada</a:t>
            </a:r>
            <a:r>
              <a:rPr b="1" lang="it-IT" sz="1200" spc="-1" strike="noStrike">
                <a:solidFill>
                  <a:srgbClr val="ff3300"/>
                </a:solidFill>
                <a:latin typeface="Times New Roman"/>
              </a:rPr>
              <a:t>                                        </a:t>
            </a:r>
            <a:r>
              <a:rPr b="1" lang="it-IT" sz="12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it-IT" sz="12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it-IT" sz="12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it-IT" sz="1200" spc="-1" strike="noStrike">
                <a:solidFill>
                  <a:srgbClr val="ffff00"/>
                </a:solidFill>
                <a:latin typeface="Times New Roman"/>
              </a:rPr>
              <a:t>Roma 14 Giugno 20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065320" y="746280"/>
            <a:ext cx="474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Arial Black"/>
              </a:rPr>
              <a:t>Configurazione rete di trasporto privat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GRf_reg" descr=""/>
          <p:cNvPicPr/>
          <p:nvPr/>
        </p:nvPicPr>
        <p:blipFill>
          <a:blip r:embed="rId1"/>
          <a:stretch/>
        </p:blipFill>
        <p:spPr>
          <a:xfrm>
            <a:off x="295200" y="1143000"/>
            <a:ext cx="8391600" cy="54100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143000" y="1905120"/>
            <a:ext cx="6705720" cy="283716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66ff"/>
                </a:solidFill>
                <a:latin typeface="Times New Roman"/>
              </a:rPr>
              <a:t>autostrada</a:t>
            </a:r>
            <a:r>
              <a:rPr b="1" lang="it-IT" sz="2000" spc="-1" strike="noStrike">
                <a:solidFill>
                  <a:srgbClr val="0066ff"/>
                </a:solidFill>
                <a:latin typeface="Times New Roman"/>
              </a:rPr>
              <a:t>	</a:t>
            </a:r>
            <a:r>
              <a:rPr b="1" lang="it-IT" sz="2000" spc="-1" strike="noStrike">
                <a:solidFill>
                  <a:srgbClr val="0066ff"/>
                </a:solidFill>
                <a:latin typeface="Times New Roman"/>
              </a:rPr>
              <a:t>	</a:t>
            </a:r>
            <a:r>
              <a:rPr b="1" lang="it-IT" sz="2000" spc="-1" strike="noStrike">
                <a:solidFill>
                  <a:srgbClr val="0066ff"/>
                </a:solidFill>
                <a:latin typeface="Times New Roman"/>
              </a:rPr>
              <a:t>166 k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66ff"/>
                </a:solidFill>
                <a:latin typeface="Times New Roman"/>
              </a:rPr>
              <a:t>	</a:t>
            </a:r>
            <a:r>
              <a:rPr b="1" lang="it-IT" sz="2000" spc="-1" strike="noStrike">
                <a:solidFill>
                  <a:srgbClr val="0066ff"/>
                </a:solidFill>
                <a:latin typeface="Times New Roman"/>
              </a:rPr>
              <a:t>         </a:t>
            </a:r>
            <a:r>
              <a:rPr b="1" lang="it-IT" sz="2000" spc="-1" strike="noStrike">
                <a:solidFill>
                  <a:srgbClr val="ff3300"/>
                </a:solidFill>
                <a:latin typeface="Times New Roman"/>
              </a:rPr>
              <a:t>scorrimento</a:t>
            </a:r>
            <a:r>
              <a:rPr b="1" lang="it-IT" sz="20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it-IT" sz="2000" spc="-1" strike="noStrike">
                <a:solidFill>
                  <a:srgbClr val="ff3300"/>
                </a:solidFill>
                <a:latin typeface="Times New Roman"/>
              </a:rPr>
              <a:t>           48 k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66ff"/>
                </a:solidFill>
                <a:latin typeface="Times New Roman"/>
              </a:rPr>
              <a:t>interzonali</a:t>
            </a:r>
            <a:r>
              <a:rPr b="1" lang="it-IT" sz="2000" spc="-1" strike="noStrike">
                <a:solidFill>
                  <a:srgbClr val="0066ff"/>
                </a:solidFill>
                <a:latin typeface="Times New Roman"/>
              </a:rPr>
              <a:t>	</a:t>
            </a:r>
            <a:r>
              <a:rPr b="1" lang="it-IT" sz="2000" spc="-1" strike="noStrike">
                <a:solidFill>
                  <a:srgbClr val="0066ff"/>
                </a:solidFill>
                <a:latin typeface="Times New Roman"/>
              </a:rPr>
              <a:t>	</a:t>
            </a:r>
            <a:r>
              <a:rPr b="1" lang="it-IT" sz="2000" spc="-1" strike="noStrike">
                <a:solidFill>
                  <a:srgbClr val="0066ff"/>
                </a:solidFill>
                <a:latin typeface="Times New Roman"/>
              </a:rPr>
              <a:t>226 k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3300"/>
                </a:solidFill>
                <a:latin typeface="Times New Roman"/>
              </a:rPr>
              <a:t>interquartiere</a:t>
            </a:r>
            <a:r>
              <a:rPr b="1" lang="it-IT" sz="20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it-IT" sz="2000" spc="-1" strike="noStrike">
                <a:solidFill>
                  <a:srgbClr val="ff3300"/>
                </a:solidFill>
                <a:latin typeface="Times New Roman"/>
              </a:rPr>
              <a:t>              144 k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66ff"/>
                </a:solidFill>
                <a:latin typeface="Times New Roman"/>
              </a:rPr>
              <a:t>quartiere</a:t>
            </a:r>
            <a:r>
              <a:rPr b="1" lang="it-IT" sz="2000" spc="-1" strike="noStrike">
                <a:solidFill>
                  <a:srgbClr val="0066ff"/>
                </a:solidFill>
                <a:latin typeface="Times New Roman"/>
              </a:rPr>
              <a:t>	</a:t>
            </a:r>
            <a:r>
              <a:rPr b="1" lang="it-IT" sz="2000" spc="-1" strike="noStrike">
                <a:solidFill>
                  <a:srgbClr val="0066ff"/>
                </a:solidFill>
                <a:latin typeface="Times New Roman"/>
              </a:rPr>
              <a:t>	</a:t>
            </a:r>
            <a:r>
              <a:rPr b="1" lang="it-IT" sz="2000" spc="-1" strike="noStrike">
                <a:solidFill>
                  <a:srgbClr val="0066ff"/>
                </a:solidFill>
                <a:latin typeface="Times New Roman"/>
              </a:rPr>
              <a:t>283 k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3300"/>
                </a:solidFill>
                <a:latin typeface="Times New Roman"/>
              </a:rPr>
              <a:t>viabilità secondaria</a:t>
            </a:r>
            <a:r>
              <a:rPr b="1" lang="it-IT" sz="20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it-IT" sz="2000" spc="-1" strike="noStrike">
                <a:solidFill>
                  <a:srgbClr val="ff3300"/>
                </a:solidFill>
                <a:latin typeface="Times New Roman"/>
              </a:rPr>
              <a:t>402 k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6019920"/>
            <a:ext cx="144792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6583320"/>
            <a:ext cx="899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00"/>
                </a:solidFill>
                <a:latin typeface="Times New Roman"/>
              </a:rPr>
              <a:t>Expert Panel - Emissioni da Trasporto su Strada</a:t>
            </a:r>
            <a:r>
              <a:rPr b="1" lang="it-IT" sz="1200" spc="-1" strike="noStrike">
                <a:solidFill>
                  <a:srgbClr val="ff3300"/>
                </a:solidFill>
                <a:latin typeface="Times New Roman"/>
              </a:rPr>
              <a:t>                                        </a:t>
            </a:r>
            <a:r>
              <a:rPr b="1" lang="it-IT" sz="12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it-IT" sz="12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it-IT" sz="12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it-IT" sz="1200" spc="-1" strike="noStrike">
                <a:solidFill>
                  <a:srgbClr val="ffff00"/>
                </a:solidFill>
                <a:latin typeface="Times New Roman"/>
              </a:rPr>
              <a:t>Roma 14 Giugno 20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95240" y="1143000"/>
            <a:ext cx="6077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Arial Black"/>
              </a:rPr>
              <a:t>Ripartizione modale nell’ora di punta del mattin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 Black"/>
              </a:rPr>
              <a:t>Intero territorio comun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500120" y="685800"/>
            <a:ext cx="6348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00"/>
                </a:solidFill>
                <a:latin typeface="Arial Black"/>
              </a:rPr>
              <a:t>Ripartizione moda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584280" y="1981080"/>
          <a:ext cx="8940600" cy="448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4280" y="1981080"/>
                    <a:ext cx="8940600" cy="448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" name=""/>
          <p:cNvGraphicFramePr/>
          <p:nvPr/>
        </p:nvGraphicFramePr>
        <p:xfrm>
          <a:off x="4379760" y="2197080"/>
          <a:ext cx="6440760" cy="14605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79760" y="2197080"/>
                    <a:ext cx="6440760" cy="14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80880" y="1905120"/>
            <a:ext cx="830592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0" y="6019920"/>
            <a:ext cx="144792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0" y="6583320"/>
            <a:ext cx="899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00"/>
                </a:solidFill>
                <a:latin typeface="Times New Roman"/>
              </a:rPr>
              <a:t>Expert Panel - Emissioni da Trasporto su Strada</a:t>
            </a:r>
            <a:r>
              <a:rPr b="1" lang="it-IT" sz="1200" spc="-1" strike="noStrike">
                <a:solidFill>
                  <a:srgbClr val="ff3300"/>
                </a:solidFill>
                <a:latin typeface="Times New Roman"/>
              </a:rPr>
              <a:t>                                        </a:t>
            </a:r>
            <a:r>
              <a:rPr b="1" lang="it-IT" sz="12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it-IT" sz="12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it-IT" sz="12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it-IT" sz="1200" spc="-1" strike="noStrike">
                <a:solidFill>
                  <a:srgbClr val="ffff00"/>
                </a:solidFill>
                <a:latin typeface="Times New Roman"/>
              </a:rPr>
              <a:t>Roma 14 Giugno 20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127240" y="685800"/>
            <a:ext cx="574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Arial Black"/>
              </a:rPr>
              <a:t>Flussi passeggeri rete di trasporto pubblico </a:t>
            </a:r>
            <a:r>
              <a:rPr b="0" i="1" lang="en-US" sz="1800" spc="-1" strike="noStrike">
                <a:solidFill>
                  <a:srgbClr val="ff3300"/>
                </a:solidFill>
                <a:latin typeface="Arial Black"/>
              </a:rPr>
              <a:t>(ferr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FL_PB" descr=""/>
          <p:cNvPicPr/>
          <p:nvPr/>
        </p:nvPicPr>
        <p:blipFill>
          <a:blip r:embed="rId1"/>
          <a:stretch/>
        </p:blipFill>
        <p:spPr>
          <a:xfrm>
            <a:off x="457200" y="1143000"/>
            <a:ext cx="8153280" cy="5423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0" name=""/>
          <p:cNvGraphicFramePr/>
          <p:nvPr/>
        </p:nvGraphicFramePr>
        <p:xfrm>
          <a:off x="1600200" y="1749600"/>
          <a:ext cx="7543800" cy="32032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00200" y="1749600"/>
                    <a:ext cx="7543800" cy="32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380880" y="1905120"/>
            <a:ext cx="830592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0" y="6019920"/>
            <a:ext cx="144792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6583320"/>
            <a:ext cx="899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00"/>
                </a:solidFill>
                <a:latin typeface="Times New Roman"/>
              </a:rPr>
              <a:t>Expert Panel - Emissioni da Trasporto su Strada</a:t>
            </a:r>
            <a:r>
              <a:rPr b="1" lang="it-IT" sz="1200" spc="-1" strike="noStrike">
                <a:solidFill>
                  <a:srgbClr val="ff3300"/>
                </a:solidFill>
                <a:latin typeface="Times New Roman"/>
              </a:rPr>
              <a:t>                                        </a:t>
            </a:r>
            <a:r>
              <a:rPr b="1" lang="it-IT" sz="12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it-IT" sz="12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it-IT" sz="12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it-IT" sz="1200" spc="-1" strike="noStrike">
                <a:solidFill>
                  <a:srgbClr val="ffff00"/>
                </a:solidFill>
                <a:latin typeface="Times New Roman"/>
              </a:rPr>
              <a:t>Roma 14 Giugno 20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FL_PRV" descr=""/>
          <p:cNvPicPr/>
          <p:nvPr/>
        </p:nvPicPr>
        <p:blipFill>
          <a:blip r:embed="rId1"/>
          <a:stretch/>
        </p:blipFill>
        <p:spPr>
          <a:xfrm>
            <a:off x="457200" y="1219320"/>
            <a:ext cx="8153280" cy="533088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2185920" y="685800"/>
            <a:ext cx="41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Arial Black"/>
              </a:rPr>
              <a:t>Flussi sulla rete di trasporto priv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1352520" y="2262240"/>
          <a:ext cx="7639200" cy="27655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52520" y="2262240"/>
                    <a:ext cx="7639200" cy="276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" name=""/>
          <p:cNvSpPr/>
          <p:nvPr/>
        </p:nvSpPr>
        <p:spPr>
          <a:xfrm>
            <a:off x="152280" y="1143000"/>
            <a:ext cx="8839440" cy="7038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Arial Black"/>
              </a:rPr>
              <a:t>Spostamenti interessanti il Comune di Rom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Arial Black"/>
              </a:rPr>
              <a:t>nell’ora di punta del mattino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380880" y="1905120"/>
            <a:ext cx="830592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6019920"/>
            <a:ext cx="144792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6583320"/>
            <a:ext cx="899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00"/>
                </a:solidFill>
                <a:latin typeface="Times New Roman"/>
              </a:rPr>
              <a:t>Expert Panel - Emissioni da Trasporto su Strada</a:t>
            </a:r>
            <a:r>
              <a:rPr b="1" lang="it-IT" sz="1200" spc="-1" strike="noStrike">
                <a:solidFill>
                  <a:srgbClr val="ff3300"/>
                </a:solidFill>
                <a:latin typeface="Times New Roman"/>
              </a:rPr>
              <a:t>                                        </a:t>
            </a:r>
            <a:r>
              <a:rPr b="1" lang="it-IT" sz="12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it-IT" sz="12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it-IT" sz="12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it-IT" sz="1200" spc="-1" strike="noStrike">
                <a:solidFill>
                  <a:srgbClr val="ffff00"/>
                </a:solidFill>
                <a:latin typeface="Times New Roman"/>
              </a:rPr>
              <a:t>Roma 14 Giugno 20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10680" y="746280"/>
            <a:ext cx="377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Arial Black"/>
              </a:rPr>
              <a:t>Stima delle emissioni inquinan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46040" y="4038480"/>
            <a:ext cx="8510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l territorio comunale è stato suddiviso i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zone “emissive”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cond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iteri di omogeneità territorial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relativamente alle infrastrutture viari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04920" y="1295280"/>
            <a:ext cx="8076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È stata definita la composizione del parco comuna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circolante secondo la metodologia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COPERT 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738800" y="2209680"/>
            <a:ext cx="671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Sono stati stimati i flussi di traffico sulla rete strad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attraverso il software di simulazione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TransC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903960" y="3124080"/>
            <a:ext cx="5731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Sono stati calcolate le emissioni di inquinan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secondo la metodologia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COPERT 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362960" y="5105520"/>
            <a:ext cx="6043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3300"/>
                </a:solidFill>
                <a:latin typeface="Times New Roman"/>
              </a:rPr>
              <a:t>Per ogni zona sono state stimate le emissioni d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3300"/>
                </a:solidFill>
                <a:latin typeface="Times New Roman"/>
              </a:rPr>
              <a:t>CO, VOC, PTS, NOx, benzene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80880" y="1905120"/>
            <a:ext cx="830592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6019920"/>
            <a:ext cx="144792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6583320"/>
            <a:ext cx="899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00"/>
                </a:solidFill>
                <a:latin typeface="Times New Roman"/>
              </a:rPr>
              <a:t>Expert Panel - Emissioni da Trasporto su Strada</a:t>
            </a:r>
            <a:r>
              <a:rPr b="1" lang="it-IT" sz="1200" spc="-1" strike="noStrike">
                <a:solidFill>
                  <a:srgbClr val="ff3300"/>
                </a:solidFill>
                <a:latin typeface="Times New Roman"/>
              </a:rPr>
              <a:t>                                        </a:t>
            </a:r>
            <a:r>
              <a:rPr b="1" lang="it-IT" sz="12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it-IT" sz="12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it-IT" sz="12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it-IT" sz="1200" spc="-1" strike="noStrike">
                <a:solidFill>
                  <a:srgbClr val="ffff00"/>
                </a:solidFill>
                <a:latin typeface="Times New Roman"/>
              </a:rPr>
              <a:t>Roma 14 Giugno 20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187000" y="746280"/>
            <a:ext cx="441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Arial Black"/>
              </a:rPr>
              <a:t>Parco circolante nel Comune di R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ARCO1" descr=""/>
          <p:cNvPicPr/>
          <p:nvPr/>
        </p:nvPicPr>
        <p:blipFill>
          <a:blip r:embed="rId1"/>
          <a:stretch/>
        </p:blipFill>
        <p:spPr>
          <a:xfrm>
            <a:off x="380880" y="1162080"/>
            <a:ext cx="8129880" cy="50814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152280" y="6248520"/>
            <a:ext cx="678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i ACI e ANCMA 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13T14:15:02Z</dcterms:created>
  <dc:creator>mtamagnone</dc:creator>
  <dc:description/>
  <dc:language>en-US</dc:language>
  <cp:lastModifiedBy>pcartolano</cp:lastModifiedBy>
  <dcterms:modified xsi:type="dcterms:W3CDTF">2001-06-13T11:41:10Z</dcterms:modified>
  <cp:revision>78</cp:revision>
  <dc:subject/>
  <dc:title>Nessun titolo diapositiva</dc:title>
</cp:coreProperties>
</file>