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81788" cy="9958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484B-E44E-48C8-8366-81414CAB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2E07-1C75-43AC-92A4-85C43754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DE89-E698-41F5-8C39-FA59011D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E0A8-2E55-454F-A179-866F5DC1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87A0-F5BB-44AA-9BED-BD670436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3236-69D1-42C2-A0FC-2A5B4431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823C-5E43-440C-9774-1AB8FF6B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3CB8-AB11-4A8D-B3BE-7289B155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B371-27C3-4AE2-AAB4-90F3CAA9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95480" y="151920"/>
            <a:ext cx="60199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52C4-48F2-4D9A-943C-5A097391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943D-7599-41E4-96DF-550807C6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EF92-A1AB-4F5A-B426-3DA9767E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2F9E-1E5E-4903-8521-5FAAA48E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559D-031C-4074-A49E-7F3A4963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A429-D073-40C9-A6E4-729FD022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10BE-8BAE-4830-B183-98C7DC2A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0965-2BB7-46E0-8835-27A2BA06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07B3-6D95-40F5-9114-F1528210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5D04-354E-4530-B953-00010D3D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0F21-567E-4844-8EEC-A646C1DF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95480" y="151920"/>
            <a:ext cx="60199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94D5-69E5-4BBB-BC69-C4A5FD79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965B-006F-4652-8ECA-A07D360A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8695-4886-45D9-9120-D5F27CAB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6591-D12F-4E66-BD96-978346EC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8D9D-15E5-469B-9275-24F62E9BFE19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C11E-56BF-4D5E-8D1E-83180BFB424E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228240"/>
            <a:ext cx="6400800" cy="172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4FD0-3A5B-462B-ACFF-ACFD8154BA78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5038-950A-4AEE-B164-98A87BC1B0B4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76720" y="3580920"/>
            <a:ext cx="4952880" cy="172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0000"/>
                </a:solidFill>
                <a:latin typeface="Arial Narrow"/>
              </a:rPr>
              <a:t>ANALISI FATTORI EMISSIONE CO</a:t>
            </a:r>
            <a:r>
              <a:rPr b="1" lang="it-IT" sz="6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1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6BD9-5D63-463D-8A63-5025029C85C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E0263BC-80E2-4F0C-8848-E11ED4090B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 Narrow"/>
              </a:rPr>
              <a:t>Introduzion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attore emissione CO 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a diverse fon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visione Fattore emissione CO 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PERT per le benzine ( che trascura la presenza di composti ossigenat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F4C4-0D1F-4DAE-A7AE-C4AC7A1E76A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434AE-3CD8-4FBA-A1FC-DE50F9D1284D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885080" cy="9372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5562-62A0-4A04-9FF1-3084216B0F44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7D1F1A2-EACA-4337-BC57-A35109DCA9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23880" y="-3886200"/>
            <a:ext cx="6170760" cy="967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A4C2-F85D-41E8-BB1A-DCC0D8DDCA4A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5BF45-D6B5-4EA6-A34C-6E877A132E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ORMULA COPERT C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ORMULA COPERT RIV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AB68-9A8C-4F45-B48A-BD8E38B61A7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F0CEB-3B73-455E-BDFD-4B7989A718D2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4080" y="304920"/>
            <a:ext cx="60199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 Narrow"/>
              </a:rPr>
              <a:t>CO</a:t>
            </a:r>
            <a:r>
              <a:rPr b="1" lang="it-IT" sz="3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it-IT" sz="3600" spc="-1" strike="noStrike">
                <a:solidFill>
                  <a:srgbClr val="000000"/>
                </a:solidFill>
                <a:latin typeface="Arial Narrow"/>
              </a:rPr>
              <a:t>     COPERT 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Arial Narrow"/>
              </a:rPr>
              <a:t>FORMULA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24382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895480" y="2438280"/>
                <a:ext cx="518184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CALC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 = 44,011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,01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,008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: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048120" y="3962520"/>
                <a:ext cx="6858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: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3962520" y="3962520"/>
            <a:ext cx="487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porto tra numero di  atomi di  idrogeno e  carbonio nel combustibil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51814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o combustib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048120" y="5943600"/>
                <a:ext cx="914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CALC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4038480" y="5943600"/>
            <a:ext cx="510552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r" pos="86832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Emissioni calcolate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86832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86832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86832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584E-C50D-4093-9F00-37FF9B90B12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2E749-D8B2-476C-BFE0-1995A9A8FECD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895480" y="3123720"/>
            <a:ext cx="60199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905120" y="1828800"/>
                <a:ext cx="70102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CALC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 = 44,011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,01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,008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:C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99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:C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6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: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124080" y="3352680"/>
                <a:ext cx="8827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: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200400" y="4572000"/>
                <a:ext cx="8380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: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321000" y="5638680"/>
                <a:ext cx="7495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: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3886200" y="3581280"/>
            <a:ext cx="92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rapporto H/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472428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rapporto O/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5715000"/>
            <a:ext cx="92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rapporto S/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228600"/>
            <a:ext cx="4800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 Narrow"/>
              </a:rPr>
              <a:t>CO</a:t>
            </a:r>
            <a:r>
              <a:rPr b="1" lang="it-IT" sz="3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it-IT" sz="3600" spc="-1" strike="noStrike">
                <a:solidFill>
                  <a:srgbClr val="000000"/>
                </a:solidFill>
                <a:latin typeface="Arial Narrow"/>
              </a:rPr>
              <a:t>     COPERT 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Arial Narrow"/>
              </a:rPr>
              <a:t>FORMULA RIVIS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AEAF-5822-4D5C-A8BA-869D46B1C89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CB710-BCEC-494A-A957-CEDAB15A623F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6095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te: elaborazioni ANPA su dati Tittarelli, COPE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358920"/>
            <a:ext cx="8077320" cy="57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B51C-3AF9-4398-860C-65BF545B51C7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9FB88-0887-4AFB-94D6-E8E95779D6C5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 Narrow"/>
              </a:rPr>
              <a:t>CONCLUSIONI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PERT SOVRASTIMA LE EMISSIONI DI C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(A PARITA’ DI CONSUMO DI BENZINA) DI 14 g/Kg benzina consum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brevemente le azioni che si intende intraprendere di perso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3A4F-3AC4-4557-A4ED-74E658EC12D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5B622-C98D-406A-A8B2-142CECA7C123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PA</cp:lastModifiedBy>
  <dcterms:modified xsi:type="dcterms:W3CDTF">2001-06-13T12:43:16Z</dcterms:modified>
  <cp:revision>10</cp:revision>
  <dc:subject/>
  <dc:title>Presentazione di PowerPoint</dc:title>
</cp:coreProperties>
</file>