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99CC-D30E-47AF-82A3-1C27AF6FD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1535-18D5-4222-BC13-A87D52D3F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436D-E229-431B-862D-6721AADC0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AE9E-9A9E-4C45-95F0-9804ADDD9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6DBFC-5CFA-418C-8A95-F3A99DE4C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C74FC-B929-4516-ABCD-F44E74BE0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0F158-DFC8-4831-89C6-ADE7B9CF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15FCC-BDAB-4760-87DB-E89243F4F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7EA58-3479-42AB-BE49-A0FF3839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D258C-1408-4FEE-BE8E-5E0E0D142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D39F2-8FF2-43D8-983B-2CAEF7AC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AA70-864B-45E1-83D5-97D02E95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02537-EF68-4484-BEF7-70CC8C10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2F7D1-45F0-4A0A-9CC6-A02F18AD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56EED-C4E2-42EF-A781-090E2CC36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C889B-8184-4122-94A7-BCCD61136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5BF60-A8A4-4785-B68A-2675790D2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29E1-53B0-4ECF-BD07-E9672C94E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7166-52CA-4731-93AE-5E14B673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33D5-E45C-4029-ACE6-D8489C012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AD49-5D57-4111-9256-ECD96BF7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5965-5ADC-40BD-B40E-8E8E3C96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E5DE-529D-48CA-ABC0-D268B34E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788C-EE86-4A38-8E92-E8AC5317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CFC58-F89B-4CC3-9C6A-FC02F318E3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bcbcb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78D04-E188-438B-916B-FD4552BC75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bcbcb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bcbcb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modello Copert per la stima delle emissioni da trasporto stradale a livello provinciale e urba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33520" y="2437920"/>
            <a:ext cx="81532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Miglioramento della metodologia Top-Down Corinair mediante tecniche di analisi statistica multivaria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0th International Symposium “Transport and Air Pollution”,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17-19, 2001 – Boulder, Colorado, USA)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4495680"/>
            <a:ext cx="83822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lvatore Saija, Daniela Rom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PA – Unità Interdipartimentale Censimento delle Fonti di Emissio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5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2 Confronto delle stim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carti percentuali per categoria veicolare e ciclo di gu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2133720"/>
          <a:ext cx="8229600" cy="412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133720"/>
                    <a:ext cx="8229600" cy="41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06200"/>
            <a:ext cx="8153280" cy="161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3.3 Confronto delle stime </a:t>
            </a:r>
            <a:br>
              <a:rPr sz="4400"/>
            </a:b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efficienti di variazione per cluster e categoria SN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04920" y="1981080"/>
          <a:ext cx="8534160" cy="419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981080"/>
                    <a:ext cx="853416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Correzione delle stime provinciali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23520" y="22856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emissione “standard” della provincia i (i = 1,…, 103) per la categoria veicolare k (k = 1,…, 5),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3048120" y="1295280"/>
                <a:ext cx="297180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066680" y="2209680"/>
                <a:ext cx="3654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3505320" y="3581280"/>
            <a:ext cx="5257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efficiente di variazione dell’emissione delle province del cluster c (c = 1,…, 4) per la categ. veic. k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 = numerosità cluster 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8001000" y="380880"/>
                <a:ext cx="5745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079640" y="5410080"/>
                <a:ext cx="5047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1523880" y="5486400"/>
            <a:ext cx="7162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= emissione del cluster c per la categ. veic. k, stimata dal COPERT del clu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57200" y="3352680"/>
                <a:ext cx="2819520" cy="19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Stima delle emissioni nei grandi comu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186 comuni con più di 40.000 abitanti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Disaggregazione della quota urbana delle emissioni provinciali corrette, usando come proxy la popolazione residente nel comu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5. Stima delle emissioni nei grandi comuni – N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33520" y="2057400"/>
          <a:ext cx="8153280" cy="4425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057400"/>
                    <a:ext cx="8153280" cy="44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5. Stima delle emissioni nei grandi comuni – N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33520" y="2100240"/>
          <a:ext cx="8076960" cy="445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00240"/>
                    <a:ext cx="8076960" cy="44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’informazione fornita dalla cluster analisys consente di caratterizzare e differenziare localmente le stime COPERT, in maniera coerente con il dimensionamento del modello a livello nazion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l contenuto informativo degli scarti per cluster viene esteso alle stime provinci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a proxy popolazione sembra adeguata per disaggregare le stime provinciali a livello urb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Sviluppi metodologici legati alla possibilità di estendere coerentemente la metodologia a tutti i comuni con più di 20.000 abitanti e di integrarla con la stima delle emissioni in area extraurbana e sulle autostra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ietti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3 livelli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aratterizzazione delle stime per </a:t>
            </a:r>
            <a:r>
              <a:rPr b="0" lang="it-IT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cro-a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Miglioramento della metodologia CORINAIR di stima delle emissioni a livello </a:t>
            </a:r>
            <a:r>
              <a:rPr b="0" lang="it-IT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vinci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Validazione di una metodologia di stima delle emissioni nelle </a:t>
            </a:r>
            <a:r>
              <a:rPr b="0" lang="it-IT" sz="3200" spc="-1" strike="noStrike" u="sng">
                <a:solidFill>
                  <a:srgbClr val="000000"/>
                </a:solidFill>
                <a:uFillTx/>
                <a:latin typeface="Times New Roman"/>
              </a:rPr>
              <a:t>aree urbane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1900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roc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Tecniche di A.S.M. per la caratterizzazione di unità territoriali (cluster) omogenee rispetto ad un set di indicatori socio-economici e di mobilità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COPERT per Cluste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er 5 inquinanti (NOx, NMVOC, CO, CO2, PM), confronto delle stime delle emissioni dei cluster (COPERT) con quelle stimate attraverso la metodologia Corinair (TOP-DOWN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ndividuazione di coefficienti di variazione (scarti) delle emissioni per le province dello stesso cluster e correzione delle stim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Stima delle emissioni nei grandi comuni attraverso la disaggregazione della quota urbana delle emissioni provinciali corret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1. Individuazione dei clu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17 indicatori socio-economici e rappresentativi dell’attività dei trasporti stradali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.C.P. e cluster analisy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ndividuazione di 4 gruppi di province omogenee rispetto alle caratteristiche sintetizzate dai fattori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2610000" y="0"/>
          <a:ext cx="65228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10000" y="0"/>
                    <a:ext cx="65228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350532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1.1 Individuazione dei cluster - Risulta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2. COPERT per Clu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tima del consumo provinciale di combustibile (venduto prov.) e riaggregazione per cluster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4 Copert: quadratura del bilancio dei combustibili attraverso ipotesi sui parametri di input (percorrenze medie annue, ripartizione delle percorrenze per ciclo di guida) coerenti con le caratteristiche del clu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328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Confronto delle s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ercorrenze nazionali come medie ponderate delle percorrenze dei cluster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tima delle emissioni nazionali (COPERT Italia 1996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omogeneo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Disaggregazione provinciale delle emissioni nazionali (COPERT omogeneo) secondo la metodologia TOP-DOWN Corinair e riaggregazione delle stime per cluster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onfronto delle emissioni per cluster e dei totali (nazionali) corrispondenti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Confronto delle stime (segu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 scarto tra le emissioni totali (nazionali) si mantiene per tutti gli inquinanti considerati al di sotto dello 1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981080" y="4038480"/>
                <a:ext cx="4572000" cy="18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c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Sup>
                                  <m:e>
                                    <m:acc>
                                      <m:accPr>
                                        <m:chr m:val="~"/>
                                      </m:accPr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m</m:t>
                                    </m:r>
                                  </m:sup>
                                  <m:e>
                                    <m:sSubSup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k</m:t>
                                        </m:r>
                                      </m:sup>
                                    </m:sSubSup>
                                  </m:e>
                                </m:nary>
                              </m:e>
                            </m:d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</m:num>
                      <m:den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den>
                    </m:f>
                    <m:r>
                      <m:t xml:space="preserve">≤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7467840" cy="41911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04640"/>
            <a:ext cx="8534160" cy="15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1 Confronto delle stim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rti percentuali per categoria veicol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1T09:32:12Z</dcterms:created>
  <dc:creator>Salvatore Saija</dc:creator>
  <dc:description/>
  <dc:language>en-US</dc:language>
  <cp:lastModifiedBy>Salvatore Saija</cp:lastModifiedBy>
  <dcterms:modified xsi:type="dcterms:W3CDTF">2001-06-13T13:09:48Z</dcterms:modified>
  <cp:revision>16</cp:revision>
  <dc:subject/>
  <dc:title>Stima delle emissioni da trasporto stradale a livello locale</dc:title>
</cp:coreProperties>
</file>