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353-15A8-4F8D-9594-6A6EE38E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2BB-B6CE-44ED-8B5F-D6D25606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B91-35D2-4D7F-AEDE-C2E40CC0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7A5-DCAB-437D-B654-0C2EE30C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7D7-6232-4D64-9C75-23CB25B7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97E-B06D-4337-936E-93C2B1AE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1C2-035A-475D-9A58-BE43962C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98E-CF0B-4F88-BE17-924BFD7E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DEB-AD43-42DE-AA45-2338FC0C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09D-D79B-4197-A3F1-F3D73BEB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FA2-39E1-4F79-B621-A62275A3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4E3-F121-4714-9BD9-BE835D56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1E0A-A900-4B7A-AB7A-328A441AF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NFLUENZA DEL PARAMETRO “l</a:t>
            </a:r>
            <a:r>
              <a:rPr b="0" lang="it-IT" sz="4400" spc="-1" strike="noStrike" baseline="-25000">
                <a:solidFill>
                  <a:srgbClr val="000000"/>
                </a:solidFill>
                <a:latin typeface="Times New Roman"/>
              </a:rPr>
              <a:t>trip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“ SULLA STIMA DELLE EMIS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08040" y="482760"/>
          <a:ext cx="8143920" cy="487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482760"/>
                    <a:ext cx="8143920" cy="48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09480" y="1143000"/>
          <a:ext cx="8145720" cy="46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8145720" cy="46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838080"/>
          <a:ext cx="84582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4582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952560"/>
          <a:ext cx="8572680" cy="461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952560"/>
                    <a:ext cx="8572680" cy="46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9480" y="1066680"/>
          <a:ext cx="8077320" cy="479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07732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33520" y="1143000"/>
          <a:ext cx="784836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8483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685800"/>
          <a:ext cx="815364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1536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762120"/>
          <a:ext cx="82296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8229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33520" y="990720"/>
          <a:ext cx="815328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15328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4000" spc="-1" strike="noStrike" baseline="-25000">
                <a:solidFill>
                  <a:srgbClr val="000000"/>
                </a:solidFill>
                <a:latin typeface="Times New Roman"/>
              </a:rPr>
              <a:t>trip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influenza le emissioni a freddo</a:t>
            </a:r>
            <a:br>
              <a:rPr sz="4000"/>
            </a:br>
            <a:br>
              <a:rPr sz="2400"/>
            </a:br>
            <a:br>
              <a:rPr sz="24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cold =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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it-IT" sz="3600" spc="-1" strike="noStrike" baseline="-25000">
                <a:solidFill>
                  <a:srgbClr val="000000"/>
                </a:solidFill>
                <a:latin typeface="Times New Roman"/>
              </a:rPr>
              <a:t>hot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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cold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ehot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–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cold = Emissioni a fre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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razione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lla percorrenza condotta con il motore freddo o con il catalizzatore operante al di sotto della temperatura di “light-off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ho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=Fattore di emissione a cal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COLD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HOT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=Over-emission ratios per l’inquinante spec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i="1" lang="it-IT" sz="3000" spc="-1" strike="noStrike">
                <a:solidFill>
                  <a:srgbClr val="0033cc"/>
                </a:solidFill>
                <a:latin typeface="Times New Roman"/>
              </a:rPr>
              <a:t>=0,6474-0,02545*l</a:t>
            </a:r>
            <a:r>
              <a:rPr b="1" i="1" lang="it-IT" sz="3000" spc="-1" strike="noStrike" baseline="-25000">
                <a:solidFill>
                  <a:srgbClr val="0033cc"/>
                </a:solidFill>
                <a:latin typeface="Times New Roman"/>
              </a:rPr>
              <a:t>trip</a:t>
            </a:r>
            <a:r>
              <a:rPr b="1" i="1" lang="it-IT" sz="3000" spc="-1" strike="noStrike">
                <a:solidFill>
                  <a:srgbClr val="0033cc"/>
                </a:solidFill>
                <a:latin typeface="Times New Roman"/>
              </a:rPr>
              <a:t>-(0.00974-0.000385*l</a:t>
            </a:r>
            <a:r>
              <a:rPr b="1" i="1" lang="it-IT" sz="3000" spc="-1" strike="noStrike" baseline="-25000">
                <a:solidFill>
                  <a:srgbClr val="0033cc"/>
                </a:solidFill>
                <a:latin typeface="Times New Roman"/>
              </a:rPr>
              <a:t>trip</a:t>
            </a:r>
            <a:r>
              <a:rPr b="1" i="1" lang="it-IT" sz="3000" spc="-1" strike="noStrike">
                <a:solidFill>
                  <a:srgbClr val="0033cc"/>
                </a:solidFill>
                <a:latin typeface="Times New Roman"/>
              </a:rPr>
              <a:t>)*t</a:t>
            </a:r>
            <a:r>
              <a:rPr b="1" i="1" lang="it-IT" sz="3000" spc="-1" strike="noStrike" baseline="-25000">
                <a:solidFill>
                  <a:srgbClr val="0033cc"/>
                </a:solidFill>
                <a:latin typeface="Times New Roman"/>
              </a:rPr>
              <a:t>a</a:t>
            </a:r>
            <a:br>
              <a:rPr sz="3200"/>
            </a:br>
            <a:br>
              <a:rPr sz="32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8 km&lt;l</a:t>
            </a:r>
            <a:r>
              <a:rPr b="1" lang="it-IT" sz="4000" spc="-1" strike="noStrike" baseline="-25000">
                <a:solidFill>
                  <a:srgbClr val="000000"/>
                </a:solidFill>
                <a:latin typeface="Times New Roman"/>
              </a:rPr>
              <a:t>trip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&lt;15 km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4000" spc="-1" strike="noStrike" baseline="-25000">
                <a:solidFill>
                  <a:srgbClr val="000000"/>
                </a:solidFill>
                <a:latin typeface="Times New Roman"/>
              </a:rPr>
              <a:t>trip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influenza anche le emissioni evaporative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D14710_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822960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80880" y="533520"/>
          <a:ext cx="8458200" cy="51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33520" y="433440"/>
          <a:ext cx="8381880" cy="602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33440"/>
                    <a:ext cx="838188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782640"/>
          <a:ext cx="8077320" cy="516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82640"/>
                    <a:ext cx="8077320" cy="51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08040" y="746280"/>
          <a:ext cx="828180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746280"/>
                    <a:ext cx="82818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52280" y="662040"/>
          <a:ext cx="8834400" cy="490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62040"/>
                    <a:ext cx="883440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85800" y="762120"/>
          <a:ext cx="784872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8487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9:24:08Z</dcterms:created>
  <dc:creator>ENEA</dc:creator>
  <dc:description/>
  <dc:language>en-US</dc:language>
  <cp:lastModifiedBy>ENEA</cp:lastModifiedBy>
  <dcterms:modified xsi:type="dcterms:W3CDTF">2001-06-13T09:26:30Z</dcterms:modified>
  <cp:revision>17</cp:revision>
  <dc:subject/>
  <dc:title>INFLUENZA DEL PARAMETRO “ltrip “ SULLA STIMA DELLE EMISIONI</dc:title>
</cp:coreProperties>
</file>