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BBA-B6CF-46D1-9B7A-364D9F05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0A0-134D-496B-B076-DC3B7E12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DFE-701B-4181-BE2A-B50F5A2F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7B9-0CD9-423B-AEB5-6CEE698B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EB7-5CDD-4065-88BF-77584407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C3D-3ECD-4CB5-87DC-B8B7A37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C46-5E77-4875-A992-CB50460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57B-E160-4DA0-A9A2-A1DC7854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24F-6563-4139-8547-4107694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E0A-7FA6-48E1-A22E-04C200F7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268-4180-4886-9197-B9AF5D7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D15-2569-4334-9DC6-767976B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1C6E-DE1E-4F08-89F9-230380846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ondo%20STA%20Proim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00_LOGO_PROIMO" descr=""/>
          <p:cNvPicPr/>
          <p:nvPr/>
        </p:nvPicPr>
        <p:blipFill>
          <a:blip r:embed="rId3"/>
          <a:stretch/>
        </p:blipFill>
        <p:spPr>
          <a:xfrm>
            <a:off x="76320" y="6126120"/>
            <a:ext cx="129528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 Black"/>
              </a:rPr>
              <a:t>Analisi delle percorrenze, delle velocità medie e delle emissioni inquinanti nell’area urbana di Ro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80060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ergio NEGRO - Anna Maria ATZORI - Pier Paolo CARTO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.O. Analisi Trasportistiche ed Ambientali - Area Pianificazione e Proget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Fabio NUSSIO - Michela DE P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.O. Innovazione&amp;Sistemi - Progetti Europe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L_PRV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85920" y="685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sulla rete di trasporto pri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219320"/>
            <a:ext cx="822960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tima dei flussi di traffico attraverso il software di simulazione Trans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av_A1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36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21920" y="746280"/>
            <a:ext cx="55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di CO all’interno del Comune di 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9840" y="68580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privati e velocità medie nell’area cent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lussi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7220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79720" y="746280"/>
            <a:ext cx="36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per arco di CO (kg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emission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537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5105520"/>
            <a:ext cx="3429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2 kg di CO emessi nell’ora di pu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124080" y="54097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0200" y="74628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di CO all’interno dell’anello ferrov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Tav_C1" descr=""/>
          <p:cNvPicPr/>
          <p:nvPr/>
        </p:nvPicPr>
        <p:blipFill>
          <a:blip r:embed="rId1"/>
          <a:stretch/>
        </p:blipFill>
        <p:spPr>
          <a:xfrm>
            <a:off x="871560" y="1143000"/>
            <a:ext cx="766296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08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8640" y="274320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alisi della domanda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920" y="19051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alisi dell’offerta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4440" y="3581280"/>
            <a:ext cx="62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alisi degli indicatori sintetici di prest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velocità, tempo, lunghezza dello spost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1640" y="5029200"/>
            <a:ext cx="69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etodologia per la stima delle emissioni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dotte da traffico vei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83320" y="74628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Configurazione rete di trasporto pub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B_ATT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37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362320"/>
            <a:ext cx="8153640" cy="2228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metro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36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sistemi intermedi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40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FM-FS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       364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autobus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     1548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5320" y="74628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Configurazione rete di trasporto priv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Rf_reg" descr=""/>
          <p:cNvPicPr/>
          <p:nvPr/>
        </p:nvPicPr>
        <p:blipFill>
          <a:blip r:embed="rId1"/>
          <a:stretch/>
        </p:blipFill>
        <p:spPr>
          <a:xfrm>
            <a:off x="295200" y="1143000"/>
            <a:ext cx="83916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905120"/>
            <a:ext cx="6705720" cy="283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autostrada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16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corrimento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           48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interzonali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22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interquartiere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              144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quartiere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283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viabilità secondaria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402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240" y="1143000"/>
            <a:ext cx="60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Ripartizione modale nell’ora di punta del matti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Intero territorio comu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0120" y="685800"/>
            <a:ext cx="634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 Black"/>
              </a:rPr>
              <a:t>Ripartizione mod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84280" y="1981080"/>
          <a:ext cx="89406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981080"/>
                    <a:ext cx="89406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379760" y="2197080"/>
          <a:ext cx="6440760" cy="1460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9760" y="2197080"/>
                    <a:ext cx="64407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7240" y="6858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passeggeri rete di trasporto pubblico </a:t>
            </a:r>
            <a:r>
              <a:rPr b="0" i="1" lang="en-US" sz="1800" spc="-1" strike="noStrike">
                <a:solidFill>
                  <a:srgbClr val="ff3300"/>
                </a:solidFill>
                <a:latin typeface="Arial Black"/>
              </a:rPr>
              <a:t>(fer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L_PB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2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600200" y="1749600"/>
          <a:ext cx="7543800" cy="320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49600"/>
                    <a:ext cx="754380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L_PRV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85920" y="685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sulla rete di trasporto pri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52520" y="2262240"/>
          <a:ext cx="7639200" cy="27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2520" y="2262240"/>
                    <a:ext cx="76392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52280" y="1143000"/>
            <a:ext cx="88394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Spostamenti interessanti il Comune di Ro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nell’ora di punta del mattin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10680" y="74628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Stima delle emissioni inquin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6040" y="4038480"/>
            <a:ext cx="85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territorio comunale è stato suddiviso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one “emissiv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o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 di omogeneità territori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vamente alle infrastrutture via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95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È stata definita la composizione del parco comu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ircolante secondo la metodologi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PE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38800" y="2209680"/>
            <a:ext cx="67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no stati stimati i flussi di traffico sulla rete stra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raverso il software di simula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ans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3960" y="3124080"/>
            <a:ext cx="57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no stati calcolate le emissioni d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condo la metodologi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PE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62960" y="5105520"/>
            <a:ext cx="60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er ogni zona sono state stimate le emission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, VOC, PTS, NOx, benz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87000" y="74628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Parco circolante nel Comune di 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ARCO1" descr=""/>
          <p:cNvPicPr/>
          <p:nvPr/>
        </p:nvPicPr>
        <p:blipFill>
          <a:blip r:embed="rId1"/>
          <a:stretch/>
        </p:blipFill>
        <p:spPr>
          <a:xfrm>
            <a:off x="380880" y="1162080"/>
            <a:ext cx="8129880" cy="5081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624852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i ACI e ANCMA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4:15:02Z</dcterms:created>
  <dc:creator>mtamagnone</dc:creator>
  <dc:description/>
  <dc:language>en-US</dc:language>
  <cp:lastModifiedBy>pcartolano</cp:lastModifiedBy>
  <dcterms:modified xsi:type="dcterms:W3CDTF">2001-06-13T11:41:10Z</dcterms:modified>
  <cp:revision>78</cp:revision>
  <dc:subject/>
  <dc:title>Nessun titolo diapositiva</dc:title>
</cp:coreProperties>
</file>