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wmf" ContentType="image/x-wmf"/>
  <Override PartName="/ppt/media/image24.wmf" ContentType="image/x-wmf"/>
  <Override PartName="/ppt/media/image4.png" ContentType="image/png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6CF-E213-44B2-8597-53885263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A1E-66F2-4C2F-9C1F-26AF46F5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F0E-8B08-4AD4-AAC0-331752FB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0FA-13CB-4838-96DB-68B921DB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2E3-3EC4-44D1-ABD2-45CFB10B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097-9694-47F2-B6EA-5262D40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832-8387-4C9A-9A18-B27DED6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FCD-0F85-41C4-97BB-800665C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DA8-A4FE-4A3C-8DEE-837566B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2D2-4BDD-452E-8615-B5559CE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60B-8925-42CC-9E1A-CB5D7F6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C15-5962-49F6-8920-D943E00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6B4-DBBB-4BFE-BAD2-D3CDEF8E37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i da trasporto stradale 1990 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cardo De Lauretis, Riccardo Libu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umi per autotr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fonte BEN/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915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147760"/>
            <a:ext cx="8610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consumi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totali per ciclo di gu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747720"/>
            <a:ext cx="8153640" cy="602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orrenze per tipologia di ali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496040" cy="393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17560"/>
            <a:ext cx="8001000" cy="604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6840" y="22860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orrenze per ciclo di guida e tipologia di tras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percorrenze con C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686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izione delle emissioni dei trasporti su strada in rapporto al parco circolante e alle percorrenze dei veicoli nel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518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5257800" cy="279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3805200"/>
            <a:ext cx="5562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638680" cy="300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743280"/>
            <a:ext cx="5638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172200" cy="296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4176720"/>
            <a:ext cx="60958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870120"/>
            <a:ext cx="5477040" cy="31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0200" y="3844800"/>
            <a:ext cx="548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320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638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87480"/>
            <a:ext cx="8229600" cy="5756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177920"/>
            <a:ext cx="868680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MVOC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58920"/>
            <a:ext cx="8686800" cy="496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52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H3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77920"/>
            <a:ext cx="82296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M (pc diesel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Ox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MVOC 1990-2000 (exau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381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2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670040"/>
            <a:ext cx="8763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SOx 1990-2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31112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circolan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nte A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9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to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7467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0:26Z</dcterms:created>
  <dc:creator>Riccardo De Lauretis</dc:creator>
  <dc:description/>
  <dc:language>en-US</dc:language>
  <cp:lastModifiedBy>De Lauretis</cp:lastModifiedBy>
  <dcterms:modified xsi:type="dcterms:W3CDTF">2003-01-15T16:16:45Z</dcterms:modified>
  <cp:revision>14</cp:revision>
  <dc:subject/>
  <dc:title>Presentazione di PowerPoint</dc:title>
</cp:coreProperties>
</file>