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5.wmf" ContentType="image/x-wmf"/>
  <Override PartName="/ppt/media/image24.wmf" ContentType="image/x-wmf"/>
  <Override PartName="/ppt/media/image4.png" ContentType="image/png"/>
  <Override PartName="/ppt/media/image12.wmf" ContentType="image/x-wmf"/>
  <Override PartName="/ppt/media/image41.wmf" ContentType="image/x-wmf"/>
  <Override PartName="/ppt/media/image8.png" ContentType="image/png"/>
  <Override PartName="/ppt/media/image16.wmf" ContentType="image/x-wmf"/>
  <Override PartName="/ppt/media/image13.png" ContentType="image/png"/>
  <Override PartName="/ppt/media/image33.wmf" ContentType="image/x-wmf"/>
  <Override PartName="/ppt/media/image14.png" ContentType="image/png"/>
  <Override PartName="/ppt/media/image34.wmf" ContentType="image/x-wmf"/>
  <Override PartName="/ppt/media/image39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8.wmf" ContentType="image/x-wmf"/>
  <Override PartName="/ppt/media/image40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36.wmf" ContentType="image/x-wm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E1BF-B0D9-424B-9335-006E8323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2C34-3687-42A5-919F-F78AB5BA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4127-0A02-49F4-B214-A62334D1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98F-B0BB-4455-9698-865BC4DD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5D8-02EB-45AC-AF45-169734B8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B781-8943-4149-9893-8BAC21A6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7AB5-B0CB-4CF8-B296-135A53FB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A48-1D9C-4630-8D82-D7C893D6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213-E123-4BEC-B645-7A6E0B4A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484A-9D58-4D55-A0F8-F2530211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008-39A8-4FF6-9EBA-0270B2EC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119-F5CA-4ED0-97EC-976CDD22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909B-D474-4209-B7F2-C25EB17293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issioni da trasporto stradale 1990 -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ccardo De Lauretis, Riccardo Libu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P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nsumi per autotrazion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fonte BEN/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8915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mi Benz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458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mi Die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2147760"/>
            <a:ext cx="86104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ronto consumi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orrenze totali per ciclo di gu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747720"/>
            <a:ext cx="8153640" cy="6022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71600" y="2286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orrenze per tipologia di aliment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1701720"/>
            <a:ext cx="4496040" cy="3936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4191120" cy="3886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orrenz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817560"/>
            <a:ext cx="8001000" cy="6040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96840" y="228600"/>
            <a:ext cx="73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correnze per ciclo di guida e tipologia di traspor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ronto percorrenze con C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8686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564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8600" y="2286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sizione delle emissioni dei trasporti su strada in rapporto al parco circolante e alle percorrenze dei veicoli nel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91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NOx e NMV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5029200" cy="2895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62520" y="3809880"/>
            <a:ext cx="5181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e CO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031760"/>
            <a:ext cx="5257800" cy="2797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81280" y="3805200"/>
            <a:ext cx="55627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SOx e PM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5638680" cy="3009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3743280"/>
            <a:ext cx="56386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NOx e NMV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6172200" cy="2962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4176720"/>
            <a:ext cx="60958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 e CO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00200" y="870120"/>
            <a:ext cx="5477040" cy="316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00200" y="3844800"/>
            <a:ext cx="54864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SOx e PM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790960" cy="3203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28800" y="3962520"/>
            <a:ext cx="56386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987480"/>
            <a:ext cx="8229600" cy="5756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NOx (pc urb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1177920"/>
            <a:ext cx="8686800" cy="5238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NMVOC (pc urb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258920"/>
            <a:ext cx="8686800" cy="4967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 (pc urb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924680" cy="5526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61960" y="151920"/>
            <a:ext cx="5105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NH3 (pc urb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277920"/>
            <a:ext cx="822960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M (pc diesel urb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E NOx 1990-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1048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E NMVOC 1990-2000 (exau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119240"/>
            <a:ext cx="838188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E CO2 1990-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1670040"/>
            <a:ext cx="87631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E CO 1990-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6868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E SOx 1990-20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1311120"/>
            <a:ext cx="86868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915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952640"/>
            <a:ext cx="9144000" cy="3610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co circolan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nte A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400800" cy="4919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co autovetture tot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co autovetture benz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092240"/>
            <a:ext cx="746748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co autovetture die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4:40:26Z</dcterms:created>
  <dc:creator>Riccardo De Lauretis</dc:creator>
  <dc:description/>
  <dc:language>en-US</dc:language>
  <cp:lastModifiedBy>De Lauretis</cp:lastModifiedBy>
  <dcterms:modified xsi:type="dcterms:W3CDTF">2003-01-15T16:16:45Z</dcterms:modified>
  <cp:revision>14</cp:revision>
  <dc:subject/>
  <dc:title>Presentazione di PowerPoint</dc:title>
</cp:coreProperties>
</file>