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5.wmf" ContentType="image/x-wmf"/>
  <Override PartName="/ppt/media/image24.wmf" ContentType="image/x-wmf"/>
  <Override PartName="/ppt/media/image4.png" ContentType="image/png"/>
  <Override PartName="/ppt/media/image12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8.wmf" ContentType="image/x-wmf"/>
  <Override PartName="/ppt/media/image4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9CA-FEAA-4CAA-AB30-B4DF9785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80B-6132-4736-9F2D-866196F4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C12-3B65-4EAF-B95A-F5663133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EA9-2B1A-4BA4-B783-9635FAFC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904-DD3C-4D23-BD1A-60971143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217-0D6E-46BF-916D-65990FB2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650-FF48-4025-826E-3382F30F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E7A-CCF1-4DCB-A7B7-B0BDF2AE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934-D57A-4D80-B255-D759D447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1D8-0A43-4E74-88F7-4F23D0E8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715-2546-4C6C-9D68-A3AA3BC8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0AA-E339-4D5C-B751-BA9E7A0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BAAC-106A-4C50-BE34-0DB9CCC9A4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i da trasporto stradale 1990 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cardo De Lauretis, Riccardo Libu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sumi per autotr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fonte BEN/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8915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i Benz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8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i D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147760"/>
            <a:ext cx="8610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ronto consumi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orrenze totali per ciclo di gu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747720"/>
            <a:ext cx="8153640" cy="602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orrenze per tipologia di ali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701720"/>
            <a:ext cx="4496040" cy="393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419112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orrenz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817560"/>
            <a:ext cx="8001000" cy="604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6840" y="22860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correnze per ciclo di guida e tipologia di traspor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ronto percorrenze con C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686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56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2286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sizione delle emissioni dei trasporti su strada in rapporto al parco circolante e alle percorrenze dei veicoli nel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e NMV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5181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e 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5257800" cy="2797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81280" y="3805200"/>
            <a:ext cx="55627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Ox e PM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638680" cy="300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743280"/>
            <a:ext cx="56386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e NMV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6172200" cy="2962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4176720"/>
            <a:ext cx="60958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 e 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870120"/>
            <a:ext cx="5477040" cy="31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00200" y="3844800"/>
            <a:ext cx="54864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Ox e PM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3203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5638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87480"/>
            <a:ext cx="8229600" cy="5756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177920"/>
            <a:ext cx="8686800" cy="5238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MVOC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258920"/>
            <a:ext cx="8686800" cy="4967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552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1960" y="1519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H3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277920"/>
            <a:ext cx="822960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M (pc diesel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NOx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NMVOC 1990-2000 (exau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119240"/>
            <a:ext cx="83818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CO2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670040"/>
            <a:ext cx="87631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CO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868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SOx 1990-2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311120"/>
            <a:ext cx="86868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52640"/>
            <a:ext cx="9144000" cy="3610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circolan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nte A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00800" cy="4919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tot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benz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092240"/>
            <a:ext cx="74674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d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4:40:26Z</dcterms:created>
  <dc:creator>Riccardo De Lauretis</dc:creator>
  <dc:description/>
  <dc:language>en-US</dc:language>
  <cp:lastModifiedBy>De Lauretis</cp:lastModifiedBy>
  <dcterms:modified xsi:type="dcterms:W3CDTF">2003-01-15T16:16:45Z</dcterms:modified>
  <cp:revision>14</cp:revision>
  <dc:subject/>
  <dc:title>Presentazione di PowerPoint</dc:title>
</cp:coreProperties>
</file>