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901-70A5-4997-BD40-8F12A324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41E-C4B4-40FE-AAED-B15BDB9B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7F7-4B72-4E6B-8614-4E9DEDCB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C09-9797-481C-9750-FC405FE0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5DD-34D6-4C86-9B39-11488931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410-5CA9-4E11-88C3-20E808E8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652-7BC6-4141-8B96-F1BAC532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A9B-30A9-4085-A907-1188A48D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9D4-052A-431C-8405-0278863C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78B-CB2C-4977-A30A-90D07283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B77-F586-45CB-A85A-3A05FD5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646-E39F-411B-A49E-AA82F964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84A4-6E20-411F-BD20-1D92DC8E3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228600"/>
            <a:ext cx="1371600" cy="1066680"/>
            <a:chOff x="457200" y="228600"/>
            <a:chExt cx="1371600" cy="1066680"/>
          </a:xfrm>
        </p:grpSpPr>
        <p:sp>
          <p:nvSpPr>
            <p:cNvPr id="42" name=""/>
            <p:cNvSpPr/>
            <p:nvPr/>
          </p:nvSpPr>
          <p:spPr>
            <a:xfrm>
              <a:off x="457200" y="228600"/>
              <a:ext cx="13716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547200" y="361800"/>
              <a:ext cx="1171800" cy="914400"/>
              <a:chOff x="547200" y="361800"/>
              <a:chExt cx="1171800" cy="914400"/>
            </a:xfrm>
          </p:grpSpPr>
          <p:sp>
            <p:nvSpPr>
              <p:cNvPr id="44" name=""/>
              <p:cNvSpPr/>
              <p:nvPr/>
            </p:nvSpPr>
            <p:spPr>
              <a:xfrm>
                <a:off x="547200" y="920520"/>
                <a:ext cx="1171800" cy="322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600" spc="-1" strike="noStrike">
                    <a:solidFill>
                      <a:srgbClr val="808080"/>
                    </a:solidFill>
                    <a:latin typeface="Arial"/>
                  </a:rPr>
                  <a:t>Centro Tematico Nazional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600" spc="-1" strike="noStrike">
                    <a:solidFill>
                      <a:srgbClr val="808080"/>
                    </a:solidFill>
                    <a:latin typeface="Arial"/>
                  </a:rPr>
                  <a:t>Atmosfera Clima Emission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570960" y="361800"/>
                <a:ext cx="1097280" cy="914400"/>
                <a:chOff x="570960" y="361800"/>
                <a:chExt cx="1097280" cy="914400"/>
              </a:xfrm>
            </p:grpSpPr>
            <p:pic>
              <p:nvPicPr>
                <p:cNvPr id="4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1560" y="426240"/>
                  <a:ext cx="1033200" cy="46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" name=""/>
                <p:cNvSpPr txBox="1"/>
                <p:nvPr/>
              </p:nvSpPr>
              <p:spPr>
                <a:xfrm>
                  <a:off x="570960" y="361800"/>
                  <a:ext cx="1097280" cy="914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48" name=""/>
          <p:cNvSpPr/>
          <p:nvPr/>
        </p:nvSpPr>
        <p:spPr>
          <a:xfrm>
            <a:off x="1066680" y="5791320"/>
            <a:ext cx="3962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ng. SILVIA MAGISTRO - ARP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2438280"/>
            <a:ext cx="746784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uale dei fattori di emissione: </a:t>
            </a:r>
            <a:endParaRPr b="0" lang="en-US" sz="32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rima banca dati nazionale</a:t>
            </a:r>
            <a:endParaRPr b="0" lang="en-US" sz="32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649680" y="341640"/>
            <a:ext cx="5037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VII incontro Expert Panel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Roma, 16 gennai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-259"/>
          <a:stretch/>
        </p:blipFill>
        <p:spPr>
          <a:xfrm>
            <a:off x="7315200" y="5410080"/>
            <a:ext cx="744480" cy="49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934320" y="5867280"/>
            <a:ext cx="1523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99"/>
                </a:solidFill>
                <a:latin typeface="Arial Black"/>
              </a:rPr>
              <a:t>ARP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Arial Narrow"/>
              </a:rPr>
              <a:t>Agenzia regionale per la prote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it-IT" sz="800" spc="-1" strike="noStrike">
                <a:solidFill>
                  <a:srgbClr val="333399"/>
                </a:solidFill>
                <a:latin typeface="Arial Narrow"/>
              </a:rPr>
              <a:t>ambientale della Tosc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88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90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9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394" name=""/>
          <p:cNvSpPr/>
          <p:nvPr/>
        </p:nvSpPr>
        <p:spPr>
          <a:xfrm>
            <a:off x="2590920" y="1484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VILUPPI E AGGIORN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0720" y="2133720"/>
            <a:ext cx="73152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ccesso al Database dei fattori di emissione nazionali dal sito web Sin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ubblicazione del Primo Manuale dei fattori di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emissione nazion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ggiornamento del database dei fattori di emission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con dati validati e specifici della realtà produttiva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Necessità di raccogliere informazioni presenti sul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territorio standardizzando ed omogeneizzando l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54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56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60" name=""/>
          <p:cNvSpPr/>
          <p:nvPr/>
        </p:nvSpPr>
        <p:spPr>
          <a:xfrm>
            <a:off x="6713640" y="1569960"/>
            <a:ext cx="173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dimensione europ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4560" y="570708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spazio EI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9680" y="1569960"/>
            <a:ext cx="185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3300"/>
                </a:solidFill>
                <a:latin typeface="Arial"/>
              </a:rPr>
              <a:t>dimensione naz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4120" y="5707080"/>
            <a:ext cx="177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Arial"/>
              </a:rPr>
              <a:t>spazio SIN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0384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l CTN- ACE nella rete di infor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84160" y="2111400"/>
            <a:ext cx="7239240" cy="3146400"/>
            <a:chOff x="884160" y="2111400"/>
            <a:chExt cx="7239240" cy="3146400"/>
          </a:xfrm>
        </p:grpSpPr>
        <p:sp>
          <p:nvSpPr>
            <p:cNvPr id="66" name=""/>
            <p:cNvSpPr/>
            <p:nvPr/>
          </p:nvSpPr>
          <p:spPr>
            <a:xfrm>
              <a:off x="4419720" y="2976480"/>
              <a:ext cx="936360" cy="29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40520" y="2174760"/>
              <a:ext cx="1195200" cy="2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64440" y="2222640"/>
              <a:ext cx="56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EUROST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77120" y="3056040"/>
              <a:ext cx="259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Arial"/>
                </a:rPr>
                <a:t>E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13600" y="2976480"/>
              <a:ext cx="811080" cy="250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26440" y="304812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E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99360" y="3997440"/>
              <a:ext cx="82404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65760" y="2944800"/>
              <a:ext cx="933480" cy="314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78440" y="3965400"/>
              <a:ext cx="954000" cy="31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89560" y="4896000"/>
              <a:ext cx="954360" cy="31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6700680" y="2441520"/>
              <a:ext cx="113760" cy="297720"/>
              <a:chOff x="6700680" y="2441520"/>
              <a:chExt cx="113760" cy="297720"/>
            </a:xfrm>
          </p:grpSpPr>
          <p:sp>
            <p:nvSpPr>
              <p:cNvPr id="77" name=""/>
              <p:cNvSpPr/>
              <p:nvPr/>
            </p:nvSpPr>
            <p:spPr>
              <a:xfrm>
                <a:off x="6757200" y="2488320"/>
                <a:ext cx="3240" cy="2041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719040" y="2441520"/>
                <a:ext cx="95400" cy="78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0680" y="2661120"/>
                <a:ext cx="94680" cy="78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18" y="30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683480" y="3463920"/>
              <a:ext cx="93240" cy="500760"/>
              <a:chOff x="7683480" y="3463920"/>
              <a:chExt cx="93240" cy="500760"/>
            </a:xfrm>
          </p:grpSpPr>
          <p:sp>
            <p:nvSpPr>
              <p:cNvPr id="81" name=""/>
              <p:cNvSpPr/>
              <p:nvPr/>
            </p:nvSpPr>
            <p:spPr>
              <a:xfrm>
                <a:off x="7739280" y="3463920"/>
                <a:ext cx="3240" cy="454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83480" y="3886920"/>
                <a:ext cx="93240" cy="777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18" y="30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672240" y="3098880"/>
              <a:ext cx="413640" cy="77400"/>
              <a:chOff x="6672240" y="3098880"/>
              <a:chExt cx="413640" cy="77400"/>
            </a:xfrm>
          </p:grpSpPr>
          <p:sp>
            <p:nvSpPr>
              <p:cNvPr id="84" name=""/>
              <p:cNvSpPr/>
              <p:nvPr/>
            </p:nvSpPr>
            <p:spPr>
              <a:xfrm>
                <a:off x="6729120" y="3144960"/>
                <a:ext cx="356760" cy="2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672240" y="3098880"/>
                <a:ext cx="94320" cy="774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0"/>
                    </a:moveTo>
                    <a:lnTo>
                      <a:pt x="0" y="18"/>
                    </a:lnTo>
                    <a:lnTo>
                      <a:pt x="30" y="3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7561080" y="4060800"/>
              <a:ext cx="15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Arial"/>
                </a:rPr>
                <a:t>E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38960" y="4896000"/>
              <a:ext cx="730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32920" y="495936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NR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26040" y="3965400"/>
              <a:ext cx="731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22160" y="40291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M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944800"/>
              <a:ext cx="691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37280" y="3006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49680" y="2944800"/>
              <a:ext cx="673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65680" y="3014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NF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35720" y="2703600"/>
              <a:ext cx="2485080" cy="739080"/>
              <a:chOff x="5535720" y="2703600"/>
              <a:chExt cx="2485080" cy="739080"/>
            </a:xfrm>
          </p:grpSpPr>
          <p:sp>
            <p:nvSpPr>
              <p:cNvPr id="96" name=""/>
              <p:cNvSpPr/>
              <p:nvPr/>
            </p:nvSpPr>
            <p:spPr>
              <a:xfrm>
                <a:off x="5535720" y="270360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35720" y="2814120"/>
                <a:ext cx="1836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35720" y="292392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35720" y="303408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35720" y="314388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35720" y="325404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35720" y="3364560"/>
                <a:ext cx="1836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9116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2184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3240" y="342684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98392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1460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528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7596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07360" y="342684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3804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6872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9940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03008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148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9216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2284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5352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84920" y="342684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15600" y="342684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6280" y="3411360"/>
                <a:ext cx="74520" cy="313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6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02080" y="330156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02080" y="3191400"/>
                <a:ext cx="1872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002080" y="308088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02080" y="297108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002080" y="286092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02080" y="2751120"/>
                <a:ext cx="1872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720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9652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6584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53516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04480" y="27036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7308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4240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1172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8104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750360" y="27036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1896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8828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5760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2692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96240" y="27036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6484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3416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0348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72800" y="2703600"/>
                <a:ext cx="7452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492880" y="3097080"/>
              <a:ext cx="221400" cy="79200"/>
              <a:chOff x="5492880" y="3097080"/>
              <a:chExt cx="221400" cy="79200"/>
            </a:xfrm>
          </p:grpSpPr>
          <p:sp>
            <p:nvSpPr>
              <p:cNvPr id="148" name=""/>
              <p:cNvSpPr/>
              <p:nvPr/>
            </p:nvSpPr>
            <p:spPr>
              <a:xfrm>
                <a:off x="5492880" y="3128760"/>
                <a:ext cx="165960" cy="2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622480" y="3097080"/>
                <a:ext cx="91800" cy="792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30" y="12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613560" y="4232160"/>
              <a:ext cx="91800" cy="663120"/>
              <a:chOff x="6613560" y="4232160"/>
              <a:chExt cx="91800" cy="66312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6650280" y="4278960"/>
                <a:ext cx="2520" cy="616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13560" y="4232160"/>
                <a:ext cx="91800" cy="784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840360" y="3463920"/>
              <a:ext cx="93600" cy="1431000"/>
              <a:chOff x="6840360" y="3463920"/>
              <a:chExt cx="93600" cy="143100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6877440" y="3510720"/>
                <a:ext cx="3240" cy="1384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40360" y="3463920"/>
                <a:ext cx="93600" cy="788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287960" y="3635280"/>
              <a:ext cx="75960" cy="4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172200" y="3276720"/>
              <a:ext cx="129960" cy="380160"/>
              <a:chOff x="6172200" y="3276720"/>
              <a:chExt cx="129960" cy="38016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6227640" y="3349800"/>
                <a:ext cx="3240" cy="30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72200" y="3276720"/>
                <a:ext cx="129960" cy="102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18" y="0"/>
                    </a:lnTo>
                    <a:lnTo>
                      <a:pt x="0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351480" y="4281480"/>
              <a:ext cx="129960" cy="201960"/>
              <a:chOff x="6351480" y="4281480"/>
              <a:chExt cx="129960" cy="20196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6406920" y="4359240"/>
                <a:ext cx="324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51480" y="4281480"/>
                <a:ext cx="129960" cy="1087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18" y="0"/>
                    </a:lnTo>
                    <a:lnTo>
                      <a:pt x="0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359240" y="4830840"/>
              <a:ext cx="105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svolgono funzioni d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90960" y="3432240"/>
              <a:ext cx="108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possono partecipare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1360" y="4484520"/>
              <a:ext cx="3886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31200" y="2111400"/>
              <a:ext cx="57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collabora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6640" y="3666960"/>
              <a:ext cx="1440" cy="138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46640" y="5005440"/>
              <a:ext cx="1901160" cy="109080"/>
              <a:chOff x="4346640" y="5005440"/>
              <a:chExt cx="1901160" cy="109080"/>
            </a:xfrm>
          </p:grpSpPr>
          <p:sp>
            <p:nvSpPr>
              <p:cNvPr id="169" name=""/>
              <p:cNvSpPr/>
              <p:nvPr/>
            </p:nvSpPr>
            <p:spPr>
              <a:xfrm>
                <a:off x="4346640" y="5051880"/>
                <a:ext cx="181584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28280" y="5005440"/>
                <a:ext cx="119520" cy="1090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42" y="18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922480" y="2254320"/>
              <a:ext cx="3085560" cy="124920"/>
              <a:chOff x="2922480" y="2254320"/>
              <a:chExt cx="3085560" cy="12492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3015360" y="2316600"/>
                <a:ext cx="28990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77360" y="2270160"/>
                <a:ext cx="130680" cy="1090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42" y="18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22480" y="2254320"/>
                <a:ext cx="130680" cy="1090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0" y="24"/>
                    </a:lnTo>
                    <a:lnTo>
                      <a:pt x="42" y="4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933560" y="2143080"/>
              <a:ext cx="91440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14720" y="2252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IST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1840" y="3056040"/>
              <a:ext cx="358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Arial"/>
                </a:rPr>
                <a:t>AN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09760" y="2976480"/>
              <a:ext cx="879480" cy="250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88040" y="299232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AP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98800" y="3965400"/>
              <a:ext cx="933480" cy="31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36720" y="2944800"/>
              <a:ext cx="917640" cy="314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13040" y="3965400"/>
              <a:ext cx="934920" cy="31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82960" y="3983040"/>
              <a:ext cx="598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74760" y="4029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IP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30680" y="2928960"/>
              <a:ext cx="6904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81600" y="302436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C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47840" y="3983040"/>
              <a:ext cx="692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1800" y="4029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P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23840" y="4076640"/>
              <a:ext cx="3938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Arial"/>
                </a:rPr>
                <a:t>MAM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4160" y="3997440"/>
              <a:ext cx="88128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44280" y="40147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MAM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286000" y="3503520"/>
              <a:ext cx="105480" cy="461160"/>
              <a:chOff x="2286000" y="3503520"/>
              <a:chExt cx="105480" cy="461160"/>
            </a:xfrm>
          </p:grpSpPr>
          <p:sp>
            <p:nvSpPr>
              <p:cNvPr id="193" name=""/>
              <p:cNvSpPr/>
              <p:nvPr/>
            </p:nvSpPr>
            <p:spPr>
              <a:xfrm flipV="1">
                <a:off x="2327400" y="3546720"/>
                <a:ext cx="3960" cy="41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3503520"/>
                <a:ext cx="105480" cy="723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429000" y="3463920"/>
              <a:ext cx="91800" cy="500760"/>
              <a:chOff x="3429000" y="3463920"/>
              <a:chExt cx="91800" cy="50076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3465720" y="3511080"/>
                <a:ext cx="2520" cy="453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29000" y="3463920"/>
                <a:ext cx="91800" cy="784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429000" y="4281480"/>
              <a:ext cx="91800" cy="708840"/>
              <a:chOff x="3429000" y="4281480"/>
              <a:chExt cx="91800" cy="70884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3465720" y="4328640"/>
                <a:ext cx="2520" cy="6616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29000" y="4281480"/>
                <a:ext cx="91800" cy="788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289240" y="3097080"/>
              <a:ext cx="410400" cy="79200"/>
              <a:chOff x="2289240" y="3097080"/>
              <a:chExt cx="410400" cy="79200"/>
            </a:xfrm>
          </p:grpSpPr>
          <p:sp>
            <p:nvSpPr>
              <p:cNvPr id="202" name=""/>
              <p:cNvSpPr/>
              <p:nvPr/>
            </p:nvSpPr>
            <p:spPr>
              <a:xfrm>
                <a:off x="2289240" y="3128760"/>
                <a:ext cx="354960" cy="2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06760" y="3097080"/>
                <a:ext cx="92880" cy="792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30" y="12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147680" y="3463920"/>
              <a:ext cx="93240" cy="532440"/>
              <a:chOff x="1147680" y="3463920"/>
              <a:chExt cx="93240" cy="53244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1185120" y="3510720"/>
                <a:ext cx="3240" cy="485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147680" y="3463920"/>
                <a:ext cx="93240" cy="784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447920" y="3505320"/>
              <a:ext cx="75600" cy="491760"/>
              <a:chOff x="1447920" y="3505320"/>
              <a:chExt cx="75600" cy="491760"/>
            </a:xfrm>
          </p:grpSpPr>
          <p:sp>
            <p:nvSpPr>
              <p:cNvPr id="208" name=""/>
              <p:cNvSpPr/>
              <p:nvPr/>
            </p:nvSpPr>
            <p:spPr>
              <a:xfrm>
                <a:off x="1492920" y="3505320"/>
                <a:ext cx="2160" cy="448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47920" y="392508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18" y="30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109520" y="2739960"/>
              <a:ext cx="2729880" cy="739080"/>
              <a:chOff x="1109520" y="2739960"/>
              <a:chExt cx="2729880" cy="739080"/>
            </a:xfrm>
          </p:grpSpPr>
          <p:sp>
            <p:nvSpPr>
              <p:cNvPr id="211" name=""/>
              <p:cNvSpPr/>
              <p:nvPr/>
            </p:nvSpPr>
            <p:spPr>
              <a:xfrm>
                <a:off x="1109520" y="273996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09520" y="2850480"/>
                <a:ext cx="1908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09520" y="296028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09520" y="307044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09520" y="318024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09520" y="3290400"/>
                <a:ext cx="1908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09520" y="3400920"/>
                <a:ext cx="19080" cy="6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66040" y="34632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672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2740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5808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8876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2052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5120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8188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21256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3960" y="34632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7500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0568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3636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6704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98440" y="34632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2912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6016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9084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21520" y="346320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52920" y="346320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83600" y="3432240"/>
                <a:ext cx="55800" cy="46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2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21040" y="332172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21040" y="321192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21040" y="310176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21040" y="299196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21040" y="288144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21040" y="2771280"/>
                <a:ext cx="18360" cy="6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2708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9640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6572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3504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04360" y="273996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7260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4192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1124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8056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49880" y="273996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1812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744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15676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2608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95400" y="2739960"/>
                <a:ext cx="7416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6364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3296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0228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37160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4020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09520" y="2739960"/>
                <a:ext cx="74880" cy="1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998800" y="5005440"/>
              <a:ext cx="878040" cy="2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7320" y="503712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Arial"/>
                </a:rPr>
                <a:t>REGION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448320" y="3503520"/>
              <a:ext cx="99360" cy="461160"/>
              <a:chOff x="6448320" y="3503520"/>
              <a:chExt cx="99360" cy="461160"/>
            </a:xfrm>
          </p:grpSpPr>
          <p:sp>
            <p:nvSpPr>
              <p:cNvPr id="269" name=""/>
              <p:cNvSpPr/>
              <p:nvPr/>
            </p:nvSpPr>
            <p:spPr>
              <a:xfrm flipV="1">
                <a:off x="6487560" y="3546720"/>
                <a:ext cx="3600" cy="41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48320" y="3503520"/>
                <a:ext cx="99360" cy="723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227320" y="2436840"/>
              <a:ext cx="113400" cy="297720"/>
              <a:chOff x="2227320" y="2436840"/>
              <a:chExt cx="113400" cy="297720"/>
            </a:xfrm>
          </p:grpSpPr>
          <p:sp>
            <p:nvSpPr>
              <p:cNvPr id="272" name=""/>
              <p:cNvSpPr/>
              <p:nvPr/>
            </p:nvSpPr>
            <p:spPr>
              <a:xfrm>
                <a:off x="2283840" y="2483640"/>
                <a:ext cx="3240" cy="2041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45680" y="2436840"/>
                <a:ext cx="95040" cy="78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0"/>
                    </a:lnTo>
                    <a:lnTo>
                      <a:pt x="0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27320" y="2656440"/>
                <a:ext cx="94320" cy="78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0"/>
                    </a:moveTo>
                    <a:lnTo>
                      <a:pt x="18" y="30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3348000" y="3657600"/>
              <a:ext cx="2879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52680" y="3276720"/>
              <a:ext cx="0" cy="380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33920" y="3124080"/>
              <a:ext cx="6094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267080"/>
              <a:ext cx="0" cy="228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419720" y="1523880"/>
            <a:ext cx="0" cy="44960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281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283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28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287" name=""/>
          <p:cNvSpPr/>
          <p:nvPr/>
        </p:nvSpPr>
        <p:spPr>
          <a:xfrm>
            <a:off x="2743200" y="53244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l CTN- ACE - compiti e stru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1000" y="3943440"/>
            <a:ext cx="720720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GRUPPO LEADER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RPA Lombardia, ARPA Basilicata, ARPA Laz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PARTECIPANTI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 ARPA Toscana, ARPA  Emilia-Romagna, 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RPA Liguria, ARPA  Sicilia, ARPA Camp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99"/>
                </a:solidFill>
                <a:latin typeface="Arial"/>
              </a:rPr>
              <a:t>ISTITUTI PRINCIPALI DI RIF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1447920"/>
            <a:ext cx="693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 CTN rappresentano i nodi fondamentali del SINAnet e costituiscono il principale supporto operativo all’APAT definendo le regole per il monitoraggio e controllo ambientale e coordinando le attività di alimentazione della base conosci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259092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l CTN-ACE si inserisce con la finalità di sviluppare le attività inerenti la tematica atmosfera in analogia al Topic Center europeo “Air and Climate Chang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800600" y="1065600"/>
            <a:ext cx="3809520" cy="5469120"/>
            <a:chOff x="4800600" y="1065600"/>
            <a:chExt cx="3809520" cy="5469120"/>
          </a:xfrm>
        </p:grpSpPr>
        <p:sp>
          <p:nvSpPr>
            <p:cNvPr id="292" name=""/>
            <p:cNvSpPr/>
            <p:nvPr/>
          </p:nvSpPr>
          <p:spPr>
            <a:xfrm>
              <a:off x="4876920" y="1497600"/>
              <a:ext cx="3200400" cy="642600"/>
            </a:xfrm>
            <a:prstGeom prst="rect">
              <a:avLst/>
            </a:prstGeom>
            <a:noFill/>
            <a:ln cap="sq"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Direttiva 96/62 (recepita da DLgs. 351/9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076600" y="1722240"/>
              <a:ext cx="533160" cy="11430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6920" y="2335680"/>
              <a:ext cx="2666880" cy="642600"/>
            </a:xfrm>
            <a:prstGeom prst="rect">
              <a:avLst/>
            </a:prstGeom>
            <a:noFill/>
            <a:ln cap="sq"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Strumenti della conoscen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5520" y="3065400"/>
              <a:ext cx="297180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333399"/>
                </a:buClr>
                <a:buFont typeface="Monotype Sorts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it-IT" sz="1400" spc="-1" strike="noStrike">
                  <a:solidFill>
                    <a:srgbClr val="333399"/>
                  </a:solidFill>
                  <a:latin typeface="Arial"/>
                </a:rPr>
                <a:t>MONITORAGG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3300"/>
                </a:buClr>
                <a:buFont typeface="Monotype Sorts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INVENTARI DELLE EMISSIO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333399"/>
                </a:buClr>
                <a:buFont typeface="Monotype Sorts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it-IT" sz="1400" spc="-1" strike="noStrike">
                  <a:solidFill>
                    <a:srgbClr val="333399"/>
                  </a:solidFill>
                  <a:latin typeface="Arial"/>
                </a:rPr>
                <a:t>MODELLIS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8000280" y="3398760"/>
              <a:ext cx="609480" cy="137160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39760 h 1371600"/>
                <a:gd name="textAreaBottom" fmla="*/ 9943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2880" y="4241520"/>
              <a:ext cx="274320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Stima delle emiss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920" y="4694040"/>
              <a:ext cx="76176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62720" y="10656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ITAL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00000">
              <a:off x="5333400" y="5531760"/>
              <a:ext cx="25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IN PROG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600" y="5227560"/>
              <a:ext cx="312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MANUALE DEI FATTOR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DI EMISSIONE NAZION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80880" y="1141920"/>
            <a:ext cx="4038840" cy="5194080"/>
            <a:chOff x="380880" y="1141920"/>
            <a:chExt cx="4038840" cy="5194080"/>
          </a:xfrm>
        </p:grpSpPr>
        <p:sp>
          <p:nvSpPr>
            <p:cNvPr id="303" name=""/>
            <p:cNvSpPr/>
            <p:nvPr/>
          </p:nvSpPr>
          <p:spPr>
            <a:xfrm>
              <a:off x="1752480" y="11419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3300"/>
                  </a:solidFill>
                  <a:latin typeface="Arial"/>
                </a:rPr>
                <a:t>EURO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6680" y="1600200"/>
              <a:ext cx="3276720" cy="10598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Progetto CORINE 198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(CO-oRdination INformation Environment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66680" y="2819520"/>
              <a:ext cx="3276720" cy="2278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Atmospheric Emission Inventory Guide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1st Edition, 1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2nd Edition, 19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3rd Edition, 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333399"/>
                  </a:solidFill>
                  <a:latin typeface="Arial"/>
                </a:rPr>
                <a:t>http://reports.eea.eu.int/technical_report_2001_3/en/page001.ht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00" y="2133720"/>
              <a:ext cx="457200" cy="129528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26440 h 1295280"/>
                <a:gd name="textAreaBottom" fmla="*/ 9392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66680" y="5257800"/>
              <a:ext cx="3353040" cy="10782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Handbook fattori di emiss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per categoria di attivit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per inquin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0880" y="4495680"/>
              <a:ext cx="533520" cy="121932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213120 h 1219320"/>
                <a:gd name="textAreaBottom" fmla="*/ 8841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286000" y="6087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QUADRO DI RI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1341360"/>
            <a:ext cx="0" cy="4953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12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14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90720" y="838080"/>
            <a:ext cx="73152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ask CTN-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Manuale dei fattori di emiss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RISULTATI E PRO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20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22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2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326" name=""/>
          <p:cNvSpPr/>
          <p:nvPr/>
        </p:nvSpPr>
        <p:spPr>
          <a:xfrm>
            <a:off x="16002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Elaborazione primo Database dei fattori di e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8195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Manuale dei fattori di emissione nazionali: primo d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(sito: http://sinanet.anpa.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5053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Aggiornamento Database dei fattori di e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038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Predisposizione on line del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4572000"/>
            <a:ext cx="6781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Elaborazione del Manuale dei fattori di emissione in versione cartacea con le specifiche per ogni macros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828800" y="1460520"/>
            <a:ext cx="5638680" cy="1558440"/>
            <a:chOff x="1828800" y="1460520"/>
            <a:chExt cx="5638680" cy="1558440"/>
          </a:xfrm>
        </p:grpSpPr>
        <p:sp>
          <p:nvSpPr>
            <p:cNvPr id="332" name=""/>
            <p:cNvSpPr/>
            <p:nvPr/>
          </p:nvSpPr>
          <p:spPr>
            <a:xfrm>
              <a:off x="1828800" y="1460520"/>
              <a:ext cx="548640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Arial"/>
                </a:rPr>
                <a:t>DATABASE FATTORI DI EMISS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3300"/>
                  </a:solidFill>
                  <a:latin typeface="Arial"/>
                </a:rPr>
                <a:t>definizione e strut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05120" y="2376360"/>
              <a:ext cx="556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99"/>
                  </a:solidFill>
                  <a:latin typeface="Arial"/>
                </a:rPr>
                <a:t>Raccolta di Fattori di emissione utilizzati per la stima delle emissioni nazion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62120" y="5943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Fonti: Guida Europea (EMEP/CORINAIR), EPA, APAT, Associazioni di categoria, Comunicazio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713600" y="4572000"/>
            <a:ext cx="4239360" cy="901800"/>
            <a:chOff x="1713600" y="4572000"/>
            <a:chExt cx="4239360" cy="901800"/>
          </a:xfrm>
        </p:grpSpPr>
        <p:sp>
          <p:nvSpPr>
            <p:cNvPr id="336" name=""/>
            <p:cNvSpPr/>
            <p:nvPr/>
          </p:nvSpPr>
          <p:spPr>
            <a:xfrm>
              <a:off x="2666880" y="5105520"/>
              <a:ext cx="32860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INSERIMENTO NUOVI D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8" idx="2"/>
              <a:endCxn id="336" idx="1"/>
            </p:cNvCxnSpPr>
            <p:nvPr/>
          </p:nvCxnSpPr>
          <p:spPr>
            <a:xfrm flipH="1" rot="16200000">
              <a:off x="1828800" y="4456800"/>
              <a:ext cx="722520" cy="952920"/>
            </a:xfrm>
            <a:prstGeom prst="bentConnector2">
              <a:avLst/>
            </a:prstGeom>
            <a:ln cap="sq" w="381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339" name=""/>
          <p:cNvGrpSpPr/>
          <p:nvPr/>
        </p:nvGrpSpPr>
        <p:grpSpPr>
          <a:xfrm>
            <a:off x="914400" y="3119400"/>
            <a:ext cx="7543800" cy="1692000"/>
            <a:chOff x="914400" y="3119400"/>
            <a:chExt cx="7543800" cy="1692000"/>
          </a:xfrm>
        </p:grpSpPr>
        <p:sp>
          <p:nvSpPr>
            <p:cNvPr id="340" name=""/>
            <p:cNvSpPr/>
            <p:nvPr/>
          </p:nvSpPr>
          <p:spPr>
            <a:xfrm>
              <a:off x="4191120" y="3119400"/>
              <a:ext cx="4267080" cy="16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Per  Macrosettore - Subsettore e Attività             (Nomenclatura SNAP9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Per  Inquinant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Per  Tipo di combustibi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Arial"/>
                </a:rPr>
                <a:t>Per  Tecnologia di abbatt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62200" y="3490920"/>
              <a:ext cx="138132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RICER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195800"/>
              <a:ext cx="160020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333399"/>
                  </a:solidFill>
                  <a:latin typeface="Arial"/>
                </a:rPr>
                <a:t>STRUT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"/>
            <p:cNvCxnSpPr>
              <a:stCxn id="338" idx="0"/>
              <a:endCxn id="341" idx="1"/>
            </p:cNvCxnSpPr>
            <p:nvPr/>
          </p:nvCxnSpPr>
          <p:spPr>
            <a:xfrm flipH="1" flipV="1" rot="5400000">
              <a:off x="1930320" y="3463560"/>
              <a:ext cx="516600" cy="948240"/>
            </a:xfrm>
            <a:prstGeom prst="bentConnector2">
              <a:avLst/>
            </a:prstGeom>
            <a:ln cap="sq" w="381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343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44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46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</p:spTree>
  </p:cSld>
  <p:transition spd="med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51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5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6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grpSp>
        <p:nvGrpSpPr>
          <p:cNvPr id="357" name=""/>
          <p:cNvGrpSpPr/>
          <p:nvPr/>
        </p:nvGrpSpPr>
        <p:grpSpPr>
          <a:xfrm>
            <a:off x="1344600" y="1295280"/>
            <a:ext cx="7189920" cy="4916520"/>
            <a:chOff x="1344600" y="1295280"/>
            <a:chExt cx="7189920" cy="491652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1557360" y="1295280"/>
              <a:ext cx="6072120" cy="40370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sp>
          <p:nvSpPr>
            <p:cNvPr id="359" name=""/>
            <p:cNvSpPr/>
            <p:nvPr/>
          </p:nvSpPr>
          <p:spPr>
            <a:xfrm>
              <a:off x="1873080" y="4076280"/>
              <a:ext cx="2457720" cy="3373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Visualizzazione dei 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48520" y="4044240"/>
              <a:ext cx="2093400" cy="3373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Inserimento dei 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3"/>
            <a:srcRect l="834" t="0" r="0" b="0"/>
            <a:stretch/>
          </p:blipFill>
          <p:spPr>
            <a:xfrm>
              <a:off x="1344600" y="4419720"/>
              <a:ext cx="2998800" cy="179208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362" name="" descr=""/>
            <p:cNvPicPr/>
            <p:nvPr/>
          </p:nvPicPr>
          <p:blipFill>
            <a:blip r:embed="rId4"/>
            <a:srcRect l="1251" t="746" r="417" b="746"/>
            <a:stretch/>
          </p:blipFill>
          <p:spPr>
            <a:xfrm>
              <a:off x="5338800" y="4419720"/>
              <a:ext cx="3195720" cy="17888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</p:grpSp>
    </p:spTree>
  </p:cSld>
  <p:transition spd="med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64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66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6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9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47760" y="1163160"/>
            <a:ext cx="5038560" cy="4655160"/>
            <a:chOff x="347760" y="1163160"/>
            <a:chExt cx="5038560" cy="4655160"/>
          </a:xfrm>
        </p:grpSpPr>
        <p:sp>
          <p:nvSpPr>
            <p:cNvPr id="371" name=""/>
            <p:cNvSpPr/>
            <p:nvPr/>
          </p:nvSpPr>
          <p:spPr>
            <a:xfrm>
              <a:off x="1592280" y="1163160"/>
              <a:ext cx="2434680" cy="3373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Visualizzazione dei 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2"/>
            <a:srcRect l="834" t="0" r="0" b="0"/>
            <a:stretch/>
          </p:blipFill>
          <p:spPr>
            <a:xfrm>
              <a:off x="347760" y="1752480"/>
              <a:ext cx="5038560" cy="40658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</p:grpSp>
      <p:pic>
        <p:nvPicPr>
          <p:cNvPr id="373" name="" descr=""/>
          <p:cNvPicPr/>
          <p:nvPr/>
        </p:nvPicPr>
        <p:blipFill>
          <a:blip r:embed="rId3"/>
          <a:srcRect l="834" t="0" r="0" b="0"/>
          <a:stretch/>
        </p:blipFill>
        <p:spPr>
          <a:xfrm>
            <a:off x="5211720" y="1219320"/>
            <a:ext cx="3679920" cy="216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374" name="" descr=""/>
          <p:cNvPicPr/>
          <p:nvPr/>
        </p:nvPicPr>
        <p:blipFill>
          <a:blip r:embed="rId4"/>
          <a:srcRect l="834" t="0" r="0" b="0"/>
          <a:stretch/>
        </p:blipFill>
        <p:spPr>
          <a:xfrm>
            <a:off x="5213520" y="3733920"/>
            <a:ext cx="3678120" cy="270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600200" y="4343400"/>
            <a:ext cx="1066680" cy="1447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28600" y="152280"/>
            <a:ext cx="1066680" cy="762120"/>
            <a:chOff x="228600" y="152280"/>
            <a:chExt cx="1066680" cy="762120"/>
          </a:xfrm>
        </p:grpSpPr>
        <p:sp>
          <p:nvSpPr>
            <p:cNvPr id="377" name=""/>
            <p:cNvSpPr/>
            <p:nvPr/>
          </p:nvSpPr>
          <p:spPr>
            <a:xfrm>
              <a:off x="228600" y="152280"/>
              <a:ext cx="10666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298440" y="247320"/>
              <a:ext cx="911160" cy="653400"/>
              <a:chOff x="298440" y="247320"/>
              <a:chExt cx="911160" cy="653400"/>
            </a:xfrm>
          </p:grpSpPr>
          <p:sp>
            <p:nvSpPr>
              <p:cNvPr id="379" name=""/>
              <p:cNvSpPr/>
              <p:nvPr/>
            </p:nvSpPr>
            <p:spPr>
              <a:xfrm>
                <a:off x="298440" y="646560"/>
                <a:ext cx="911160" cy="23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Centro Tematico Nazional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500" spc="-1" strike="noStrike">
                    <a:solidFill>
                      <a:srgbClr val="000000"/>
                    </a:solidFill>
                    <a:latin typeface="Arial"/>
                  </a:rPr>
                  <a:t>Atmosfera Clima Emission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317160" y="247320"/>
                <a:ext cx="853200" cy="653400"/>
                <a:chOff x="317160" y="247320"/>
                <a:chExt cx="853200" cy="653400"/>
              </a:xfrm>
            </p:grpSpPr>
            <p:pic>
              <p:nvPicPr>
                <p:cNvPr id="38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0920" y="293400"/>
                  <a:ext cx="803520" cy="32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"/>
                <p:cNvSpPr txBox="1"/>
                <p:nvPr/>
              </p:nvSpPr>
              <p:spPr>
                <a:xfrm>
                  <a:off x="317160" y="247320"/>
                  <a:ext cx="853200" cy="653400"/>
                </a:xfrm>
                <a:prstGeom prst="rect">
                  <a:avLst/>
                </a:prstGeom>
              </p:spPr>
              <p:txBody>
                <a:bodyPr wrap="none" fromWordArt="1" lIns="18000" rIns="18000" tIns="10800" bIns="10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0000ff"/>
                      </a:solidFill>
                      <a:latin typeface="Arial Black"/>
                    </a:rPr>
                    <a:t>ANPA CTN - ACE</a:t>
                  </a:r>
                  <a:endParaRPr b="0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grpSp>
        <p:nvGrpSpPr>
          <p:cNvPr id="383" name=""/>
          <p:cNvGrpSpPr/>
          <p:nvPr/>
        </p:nvGrpSpPr>
        <p:grpSpPr>
          <a:xfrm>
            <a:off x="339840" y="1219320"/>
            <a:ext cx="7674120" cy="3402000"/>
            <a:chOff x="339840" y="1219320"/>
            <a:chExt cx="7674120" cy="3402000"/>
          </a:xfrm>
        </p:grpSpPr>
        <p:sp>
          <p:nvSpPr>
            <p:cNvPr id="384" name=""/>
            <p:cNvSpPr/>
            <p:nvPr/>
          </p:nvSpPr>
          <p:spPr>
            <a:xfrm>
              <a:off x="6335280" y="1529640"/>
              <a:ext cx="1678680" cy="33732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333399"/>
                  </a:solidFill>
                  <a:latin typeface="Arial"/>
                </a:rPr>
                <a:t>Ricerca dei 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2"/>
            <a:srcRect l="742" t="0" r="0" b="0"/>
            <a:stretch/>
          </p:blipFill>
          <p:spPr>
            <a:xfrm>
              <a:off x="339840" y="1219320"/>
              <a:ext cx="4765680" cy="340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</p:grpSp>
      <p:pic>
        <p:nvPicPr>
          <p:cNvPr id="386" name="" descr=""/>
          <p:cNvPicPr/>
          <p:nvPr/>
        </p:nvPicPr>
        <p:blipFill>
          <a:blip r:embed="rId3"/>
          <a:srcRect l="834" t="0" r="0" b="0"/>
          <a:stretch/>
        </p:blipFill>
        <p:spPr>
          <a:xfrm>
            <a:off x="3549600" y="2514600"/>
            <a:ext cx="5342040" cy="3552840"/>
          </a:xfrm>
          <a:prstGeom prst="rect">
            <a:avLst/>
          </a:prstGeom>
          <a:ln w="6480">
            <a:solidFill>
              <a:srgbClr val="333399"/>
            </a:solidFill>
            <a:miter/>
          </a:ln>
        </p:spPr>
      </p:pic>
    </p:spTree>
  </p:cSld>
  <p:transition spd="med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10:36:06Z</dcterms:created>
  <dc:creator>Massimo Bonannini</dc:creator>
  <dc:description/>
  <dc:language>en-US</dc:language>
  <cp:lastModifiedBy>Andrea Magistro</cp:lastModifiedBy>
  <cp:lastPrinted>2001-11-30T12:01:19Z</cp:lastPrinted>
  <dcterms:modified xsi:type="dcterms:W3CDTF">2003-01-23T18:41:32Z</dcterms:modified>
  <cp:revision>141</cp:revision>
  <dc:subject/>
  <dc:title>Nessun titolo diapositiva</dc:title>
</cp:coreProperties>
</file>