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5.wmf" ContentType="image/x-wmf"/>
  <Override PartName="/ppt/media/image24.wmf" ContentType="image/x-wmf"/>
  <Override PartName="/ppt/media/image4.png" ContentType="image/png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8.wmf" ContentType="image/x-wmf"/>
  <Override PartName="/ppt/media/image4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64C-3F6D-4DB9-BC67-666F049F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D4E-32C2-447E-A671-91EE70C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81B-4F0E-4E68-9DBA-7C16F79F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FAC-2E5F-4D46-8312-02B5D135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A4F-1325-4ECD-8C43-DB86A3C1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6BF-B39F-457D-9ABE-8348DCDB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068-36A2-480A-B71D-C6B557BA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F2A-F27C-4C91-BB8A-966263D0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5D9-91B5-4AD9-929B-42BA727A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3978-ED40-419B-A6E4-CB861223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3D6-B408-4CB8-B95D-98370C4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EE8-088B-473A-952B-2C31211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67E7-0900-48E2-849E-ED01E8F771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i da trasporto stradale 1990 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cardo De Lauretis, Riccardo Libu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sumi per autotra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fonte BEN/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915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8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i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147760"/>
            <a:ext cx="8610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consumi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totali per ciclo di gu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747720"/>
            <a:ext cx="8153640" cy="6022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orrenze per tipologia di ali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4496040" cy="393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orrenz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817560"/>
            <a:ext cx="8001000" cy="604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6840" y="22860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orrenze per ciclo di guida e tipologia di tras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ronto percorrenze con C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686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4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2286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sizione delle emissioni dei trasporti su strada in rapporto al parco circolante e alle percorrenze dei veicoli nel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5181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5257800" cy="2797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81280" y="3805200"/>
            <a:ext cx="5562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638680" cy="3009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3743280"/>
            <a:ext cx="5638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e NMV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6172200" cy="2962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4176720"/>
            <a:ext cx="60958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e 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870120"/>
            <a:ext cx="5477040" cy="31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00200" y="3844800"/>
            <a:ext cx="5486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SOx e PM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320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5638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87480"/>
            <a:ext cx="8229600" cy="5756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Ox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1177920"/>
            <a:ext cx="8686800" cy="523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MVOC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258920"/>
            <a:ext cx="8686800" cy="496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552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1960" y="15192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NH3 (pc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77920"/>
            <a:ext cx="82296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M (pc diesel urb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Ox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NMVOC 1990-2000 (exau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83818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2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670040"/>
            <a:ext cx="87631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CO 1990-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86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FE SOx 1990-2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311120"/>
            <a:ext cx="8686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3610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circolan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nte A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0800" cy="491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to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benz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092240"/>
            <a:ext cx="746748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co autovetture die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0:26Z</dcterms:created>
  <dc:creator>Riccardo De Lauretis</dc:creator>
  <dc:description/>
  <dc:language>en-US</dc:language>
  <cp:lastModifiedBy>De Lauretis</cp:lastModifiedBy>
  <dcterms:modified xsi:type="dcterms:W3CDTF">2003-01-15T16:16:45Z</dcterms:modified>
  <cp:revision>14</cp:revision>
  <dc:subject/>
  <dc:title>Presentazione di PowerPoint</dc:title>
</cp:coreProperties>
</file>