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632-D453-46F3-8050-59E077B9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EEA-EB3E-4ACA-9D78-1CF000CC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53C-EE82-4B5F-90B7-94B52D7F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0B4-0359-4397-BB12-AAF7452C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81D-DAF8-45DF-8D93-E341FFFE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A0D-7755-4AB5-93B8-17FAE878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C94-DE85-4178-85FA-D165D8EE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515-5D9D-4A84-B7CE-64F0D014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B3C-37E3-4099-A766-056CC36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A6C-7577-4DE8-B540-298CC34E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366-8263-4D76-BF63-4941660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8F6-98DD-488B-9D10-98740DF6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7028-B6F2-45A1-BE4B-5DC32F3A2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PAT2" descr=""/>
          <p:cNvPicPr/>
          <p:nvPr/>
        </p:nvPicPr>
        <p:blipFill>
          <a:blip r:embed="rId1"/>
          <a:stretch/>
        </p:blipFill>
        <p:spPr>
          <a:xfrm>
            <a:off x="4079880" y="271440"/>
            <a:ext cx="990720" cy="82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2590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sservazioni relative all’incertezza nella stima delle emissioni da traffico stra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1036440"/>
            <a:ext cx="39146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X EXPERT PANEL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EMISSIONI DA TRAFFICO STRAD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tazione Sperimentale Combustibi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an Donato Milanese, 21 giugn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18440" y="4297680"/>
            <a:ext cx="53244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anco Giovannini e Valentina Lap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RPAT – Dipartimento Provinciale di Firenze</a:t>
            </a:r>
            <a:r>
              <a:rPr b="1" lang="it-IT" sz="1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720-78A0-4804-8231-FE3CDAE80BE3}" type="slidenum">
              <a:t>1</a:t>
            </a:fld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30456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° esercizio: Stima di emissioni orarie di CO relative ad una strada urb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895480" y="1752480"/>
            <a:ext cx="2951280" cy="1084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2133720" cy="879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43000" y="3027960"/>
            <a:ext cx="632448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lunghezza della strada (fiss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numero complessivo di veicoli (ipotizzato fissa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393440"/>
            <a:ext cx="50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velocità,.,.,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B21-BF92-4DF7-A98C-AA02CE9A99A9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920" y="30456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° esercizio: Stima di emissioni orarie di CO relative ad una strada urb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786960"/>
            <a:ext cx="72388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etodo Monte Carl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razione casuale dei dati dalle distribuzioni statistiche (uniformi) di velocità (tra 30 km/h e 40 km/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olo del fattore di emissione (TEE 2004 - COPERT 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azione dell’intervallo di incertezza del fattore di e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razione casuale del valore del fattore di emissione entro l’intervallo di incertezza asseg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razione casuale dei valori degli altri parametri dalle rispettive distribuzioni uniformi definite sui corrispondenti intervalli di incertezz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E04-4858-4671-8B4D-BFF90E0BA1FC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30456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° esercizio: Stima di emissioni orarie di CO relative ad una strada urb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6850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800100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6933960" cy="430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69B-80D5-41EB-9B39-1CA943BEC58D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19320" y="69156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nclu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136520"/>
            <a:ext cx="693432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attibilità della valutazione dell’incertezza sulle stime di e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le stime ottenute con metodo semplificato fondato sui dati generalmente disponibili: coefficiente di variazione dell’ordine del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etodo “sintetico” per le stime semplificate, metodo Monte Carlo per le stime effettuate con modelli emissivi più compl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cessità di valutare il problema delle variabili covariate (non indipenden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BD5-4EF9-43CC-9FE7-CD4D569AC1EC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13F-875E-41B4-9CC3-5A5BEBC76664}" type="slidenum">
              <a:t>14</a:t>
            </a:fld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141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 valutazione dell’incertezza nella stima delle emiss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126160"/>
            <a:ext cx="7315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è necessaria per valutare l’affidabilità della s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è necessaria per valutare gli elementi che rendono più incerta la stima (analisi di “sensitività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è necessaria per valutare l’incertezza/variabilità nelle stime di ricadute e di es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D36-64E3-4E97-90D8-45E8ABD1973A}" type="slidenum">
              <a:t>2</a:t>
            </a:fld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739440"/>
            <a:ext cx="77724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etodolog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egnare una incertezza a ciascun dato impiegato nella s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icavare l’incertezza sulla stima complessiva attraver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propagazione dell’errore (teoremi di statist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imulazioni con il metodo Monte Carlo: in questo caso è necessario definire le distribuzioni statistiche dei da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[IPCC 2000: Good practice guidance and uncertainty management in national greenhouse gas inventories; Intergovernmental Panel on Climate Chance (IPCC), Chapter 6, Quantifying uncertainties in practice. 20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A28-9C34-4381-A9FA-4E72445B00F2}" type="slidenum">
              <a:t>3</a:t>
            </a:fld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14540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74816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1° eserc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tima di emissioni di PM e NOx relative all’area urbana di Firenze ed all’ann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11976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° eserc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ma delle emissioni orarie di CO relative ad una specifica strada urbana di Firenze (anno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05156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e esempi di valutazione dell’incertezza delle emission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4414320"/>
            <a:ext cx="685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potesi semplificative comun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stribuzioni statistiche uniformi dell’incertez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ssenza di dati covari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442-C46A-4CBE-8A9D-EA4085B6B388}" type="slidenum">
              <a:t>4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3045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° esercizio: Stima di emissioni di PM e NOx relative all’area urbana di Fir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9896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Emissione totale annua sull’area urb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43000" y="1523880"/>
                <a:ext cx="5715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990720" y="2310840"/>
            <a:ext cx="7086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attore di emissione clas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AP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ttività clas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473280"/>
            <a:ext cx="75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umero di veicoli clas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provinciale ACI rivis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ercorrenza totale annua clas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APAT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4814640"/>
            <a:ext cx="69343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porzione numero veicoli in area urban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porzione percorrenze in area urban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797-9BC0-4097-9B77-4F51B3065E53}" type="slidenum">
              <a:t>5</a:t>
            </a:fld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0456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° esercizio: Stima di emissioni di PM e NOx relative all’area urbana di Fir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850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certezza su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076400"/>
            <a:ext cx="8001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quanto riguarda il numero di veico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sono stati scelti i seguenti intervalli di incertezz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le auto ed i motocicli con cilindrata &gt;250 cc: ±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gli LDV (Light Duty Vehicle): ±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i mezzi pesanti HDV ed autobus non urbani: ±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ciclomotori e motocicli &lt; 250 cc: ±50%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179160"/>
            <a:ext cx="7772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quanto riguarda le percorrenze tota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sono stati scelti i seguenti intervalli di incertezz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gli autoveicoli diesel e gpl e motocicli: ±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tutte le altre classi: ±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5EA-DAC0-4675-954A-5D2941DDEB1E}" type="slidenum">
              <a:t>6</a:t>
            </a:fld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30456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° esercizio: Stima di emissioni di PM e NOx relative all’area urbana di Fir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140840"/>
            <a:ext cx="86104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quanto riguarda i fattori di emissione per il PM sono stati scelti i seguenti intervalli di incertezz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le tutti i veicoli a benzina: ±9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i veicoli diesel fino alla normativa euro I: ±20%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i veicoli diesel dalla normativa euro II: ±3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moped e motocicli 2T: ±5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0876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certezza su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273840"/>
            <a:ext cx="876312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quanto riguarda i fattori di emissione per NOx sono stati scelti i seguenti intervalli di incertezz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le tutti i veicoli a benzina (escluso ciclomotori e motocicli e HDV) fino alla normativa euro I: ±10%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i veicoli a benzina dalla normativa euro II: ±20%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HDV a benzina: ±30%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le tutti i veicoli diesel fino alla normativa euro I: ±20%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i veicoli diesel dalla normativa euro II e per i veicoli a gpl: ±30%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mopeds e motocicli (2T e 4T): ±20%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181-459F-4156-9D4B-FC4EE7CD4206}" type="slidenum">
              <a:t>7</a:t>
            </a:fld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0456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° esercizio: Stima di emissioni di PM e NOx relative all’area urbana di Fir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83736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162920" cy="140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95280" y="2514600"/>
            <a:ext cx="6112080" cy="35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874-4737-4C99-9CCD-8F9F4E265F2A}" type="slidenum">
              <a:t>8</a:t>
            </a:fld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RPAT2" descr=""/>
          <p:cNvPicPr/>
          <p:nvPr/>
        </p:nvPicPr>
        <p:blipFill>
          <a:blip r:embed="rId1"/>
          <a:stretch/>
        </p:blipFill>
        <p:spPr>
          <a:xfrm>
            <a:off x="304920" y="5680080"/>
            <a:ext cx="990360" cy="82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30456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° esercizio: Stima di emissioni di PM e NOx relative all’area urbana di Fir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6850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6477120" cy="436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7543800" cy="99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PAT Firenz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592-76C9-4C02-B2C3-2F653E5F62EE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9T21:51:29Z</dcterms:created>
  <dc:creator>A. Barbaro</dc:creator>
  <dc:description/>
  <dc:language>en-US</dc:language>
  <cp:lastModifiedBy>pap</cp:lastModifiedBy>
  <cp:lastPrinted>2005-06-20T16:29:33Z</cp:lastPrinted>
  <dcterms:modified xsi:type="dcterms:W3CDTF">2005-06-20T16:34:23Z</dcterms:modified>
  <cp:revision>135</cp:revision>
  <dc:subject/>
  <dc:title>Nessun titolo diapositiva</dc:title>
</cp:coreProperties>
</file>