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9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3.jpeg" ContentType="image/jpeg"/>
  <Override PartName="/ppt/media/image2.jpeg" ContentType="image/jpeg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png" ContentType="image/png"/>
  <Override PartName="/ppt/media/image16.wmf" ContentType="image/x-wmf"/>
  <Override PartName="/ppt/media/image12.wmf" ContentType="image/x-wmf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1258C0-EA13-48EF-A9C7-D63CB04C38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D51F1D-C648-404C-B584-443E493AE8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1BFEFF-3116-42F8-85F6-C6A82757ED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62A5BB-13C1-47DB-B701-BABD173C6F8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D830B5-EB7C-4453-9FC0-FC02127CE34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02A748-8F92-45A8-8C1C-2A95D156A3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F35DA3-49EB-4FA7-9BB5-5D28E637B8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F9BC5F-45DD-4850-8A1D-EBDA4BB41F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47E2EA-040B-43B1-B3A1-13E9EF4F26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D4061F-46B4-47B2-8AF0-3097F8E223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A08B83-DBA2-471A-83B7-8511F4987B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A3DA6C-4CAA-451B-AF96-3445D675FF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FoE_noScritta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1143000" y="0"/>
            <a:ext cx="6858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85800" y="6248520"/>
            <a:ext cx="5943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543800" y="624852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1BF04-7042-4187-B4FC-D0B8C3F442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logo%20AdT" descr=""/>
          <p:cNvPicPr/>
          <p:nvPr/>
        </p:nvPicPr>
        <p:blipFill>
          <a:blip r:embed="rId3"/>
          <a:stretch/>
        </p:blipFill>
        <p:spPr>
          <a:xfrm>
            <a:off x="8077320" y="76320"/>
            <a:ext cx="1015920" cy="1066680"/>
          </a:xfrm>
          <a:prstGeom prst="rect">
            <a:avLst/>
          </a:prstGeom>
          <a:ln w="0">
            <a:noFill/>
          </a:ln>
        </p:spPr>
      </p:pic>
      <p:pic>
        <p:nvPicPr>
          <p:cNvPr id="6" name="Logo%20Foe-Italy%20vert" descr=""/>
          <p:cNvPicPr/>
          <p:nvPr/>
        </p:nvPicPr>
        <p:blipFill>
          <a:blip r:embed="rId4"/>
          <a:stretch/>
        </p:blipFill>
        <p:spPr>
          <a:xfrm>
            <a:off x="39600" y="76320"/>
            <a:ext cx="1055880" cy="1676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65200" y="2133720"/>
            <a:ext cx="8001000" cy="151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6600"/>
                </a:solidFill>
                <a:latin typeface="Times New Roman"/>
              </a:rPr>
              <a:t>I costi esterni dei trasport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6600"/>
                </a:solidFill>
                <a:latin typeface="Times New Roman"/>
              </a:rPr>
              <a:t>nell’area metropolitana di Torin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3886200"/>
            <a:ext cx="7467840" cy="235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Matteo Richiar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imes New Roman"/>
              </a:rPr>
              <a:t>X incontro EP Emissioni da Trasporto su Str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cc"/>
                </a:solidFill>
                <a:latin typeface="Times New Roman"/>
              </a:rPr>
              <a:t>Stazione Sperimentale per i Combustibili</a:t>
            </a:r>
            <a:br>
              <a:rPr sz="2400"/>
            </a:br>
            <a:r>
              <a:rPr b="1" lang="en-GB" sz="2400" spc="-1" strike="noStrike">
                <a:solidFill>
                  <a:srgbClr val="3333cc"/>
                </a:solidFill>
                <a:latin typeface="Times New Roman"/>
              </a:rPr>
              <a:t>21 giugno 2005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6600"/>
                </a:solidFill>
                <a:latin typeface="Times New Roman"/>
              </a:rPr>
              <a:t>Costo dell’inquinamento atmosferic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1111320" y="2004840"/>
            <a:ext cx="6933960" cy="4091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ichiardi, I costi esterni della mobilità metropolitana a Torin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8FF345-BA01-4197-B44F-15F9DA1C444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6600"/>
                </a:solidFill>
                <a:latin typeface="Times New Roman"/>
              </a:rPr>
              <a:t>Costo dell’effetto ser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523880" y="2514600"/>
            <a:ext cx="617220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476280">
              <a:spcBef>
                <a:spcPts val="2001"/>
              </a:spcBef>
              <a:buClr>
                <a:srgbClr val="006600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Stime: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-42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€ per tonnellata di CO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spcBef>
                <a:spcPts val="2001"/>
              </a:spcBef>
              <a:buClr>
                <a:srgbClr val="006600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Questo studio: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0 € per tonnellata di CO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ichiardi, I costi esterni della mobilità metropolitana a Torin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F4C1CF-1F84-4EFD-876E-5D230912F20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6600"/>
                </a:solidFill>
                <a:latin typeface="Times New Roman"/>
              </a:rPr>
              <a:t>Costo dell’inquinamento </a:t>
            </a:r>
            <a:br>
              <a:rPr sz="4400"/>
            </a:br>
            <a:r>
              <a:rPr b="0" lang="it-IT" sz="4400" spc="-1" strike="noStrike">
                <a:solidFill>
                  <a:srgbClr val="006600"/>
                </a:solidFill>
                <a:latin typeface="Times New Roman"/>
              </a:rPr>
              <a:t>acustic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838080" y="2165400"/>
            <a:ext cx="7467840" cy="3409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ichiardi, I costi esterni della mobilità metropolitana a Torin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64F47C-EE1F-4E29-A0CE-24A5C3CF891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6600"/>
                </a:solidFill>
                <a:latin typeface="Times New Roman"/>
              </a:rPr>
              <a:t>Ripartizione del rumo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1219320" y="2165400"/>
            <a:ext cx="6705360" cy="3060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ichiardi, I costi esterni della mobilità metropolitana a Torin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9E6ECE-7C94-4828-AE0B-A0A10D478B6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6600"/>
                </a:solidFill>
                <a:latin typeface="Times New Roman"/>
              </a:rPr>
              <a:t>Costo della congestio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16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20 € / h al di sotto della velocità - sogl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2362320" y="1593720"/>
            <a:ext cx="6248160" cy="447372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76320" y="1784520"/>
            <a:ext cx="2209680" cy="502920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3"/>
          <a:stretch/>
        </p:blipFill>
        <p:spPr>
          <a:xfrm>
            <a:off x="2362320" y="5727600"/>
            <a:ext cx="6248160" cy="1095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ichiardi, I costi esterni della mobilità metropolitana a Torin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0DDAB8-3D5F-497D-9F60-866B7CD846B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6600"/>
                </a:solidFill>
                <a:latin typeface="Times New Roman"/>
              </a:rPr>
              <a:t>Ripartizione della </a:t>
            </a:r>
            <a:br>
              <a:rPr sz="4400"/>
            </a:br>
            <a:r>
              <a:rPr b="0" lang="it-IT" sz="4400" spc="-1" strike="noStrike">
                <a:solidFill>
                  <a:srgbClr val="006600"/>
                </a:solidFill>
                <a:latin typeface="Times New Roman"/>
              </a:rPr>
              <a:t>congestio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533520" y="2209680"/>
            <a:ext cx="8076960" cy="3343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ichiardi, I costi esterni della mobilità metropolitana a Torin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E4F77A-ADC7-4D66-909B-2AC9AF09C08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6600"/>
                </a:solidFill>
                <a:latin typeface="Times New Roman"/>
              </a:rPr>
              <a:t>Costo degli incident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898720" y="2835360"/>
            <a:ext cx="35784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Morti: 1.045.000 €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Feriti: 3.004 €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ichiardi, I costi esterni della mobilità metropolitana a Torin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290801-4B1A-4556-B883-5A25BE583B7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6600"/>
                </a:solidFill>
                <a:latin typeface="Times New Roman"/>
              </a:rPr>
              <a:t>Ripartizione degli incident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1523880" y="1905120"/>
            <a:ext cx="6096240" cy="3946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ichiardi, I costi esterni della mobilità metropolitana a Torin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28136F-99F7-4D26-A6F6-BE91C7C266F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6600"/>
                </a:solidFill>
                <a:latin typeface="Times New Roman"/>
              </a:rPr>
              <a:t>Costi complessivi (200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249800" y="1735200"/>
            <a:ext cx="588960" cy="1859040"/>
          </a:xfrm>
          <a:custGeom>
            <a:avLst/>
            <a:gdLst/>
            <a:ahLst/>
            <a:rect l="l" t="t" r="r" b="b"/>
            <a:pathLst>
              <a:path w="743" h="2341">
                <a:moveTo>
                  <a:pt x="0" y="3"/>
                </a:moveTo>
                <a:lnTo>
                  <a:pt x="0" y="3"/>
                </a:lnTo>
                <a:lnTo>
                  <a:pt x="53" y="1"/>
                </a:lnTo>
                <a:lnTo>
                  <a:pt x="53" y="1"/>
                </a:lnTo>
                <a:lnTo>
                  <a:pt x="53" y="1"/>
                </a:lnTo>
                <a:lnTo>
                  <a:pt x="107" y="0"/>
                </a:lnTo>
                <a:lnTo>
                  <a:pt x="107" y="0"/>
                </a:lnTo>
                <a:lnTo>
                  <a:pt x="107" y="0"/>
                </a:lnTo>
                <a:lnTo>
                  <a:pt x="159" y="0"/>
                </a:lnTo>
                <a:lnTo>
                  <a:pt x="159" y="0"/>
                </a:lnTo>
                <a:lnTo>
                  <a:pt x="159" y="0"/>
                </a:lnTo>
                <a:lnTo>
                  <a:pt x="213" y="0"/>
                </a:lnTo>
                <a:lnTo>
                  <a:pt x="213" y="0"/>
                </a:lnTo>
                <a:lnTo>
                  <a:pt x="213" y="0"/>
                </a:lnTo>
                <a:lnTo>
                  <a:pt x="266" y="1"/>
                </a:lnTo>
                <a:lnTo>
                  <a:pt x="266" y="1"/>
                </a:lnTo>
                <a:lnTo>
                  <a:pt x="266" y="1"/>
                </a:lnTo>
                <a:lnTo>
                  <a:pt x="320" y="3"/>
                </a:lnTo>
                <a:lnTo>
                  <a:pt x="320" y="3"/>
                </a:lnTo>
                <a:lnTo>
                  <a:pt x="320" y="3"/>
                </a:lnTo>
                <a:lnTo>
                  <a:pt x="372" y="5"/>
                </a:lnTo>
                <a:lnTo>
                  <a:pt x="372" y="5"/>
                </a:lnTo>
                <a:lnTo>
                  <a:pt x="372" y="5"/>
                </a:lnTo>
                <a:lnTo>
                  <a:pt x="427" y="9"/>
                </a:lnTo>
                <a:lnTo>
                  <a:pt x="427" y="9"/>
                </a:lnTo>
                <a:lnTo>
                  <a:pt x="427" y="9"/>
                </a:lnTo>
                <a:lnTo>
                  <a:pt x="479" y="12"/>
                </a:lnTo>
                <a:lnTo>
                  <a:pt x="479" y="12"/>
                </a:lnTo>
                <a:lnTo>
                  <a:pt x="479" y="12"/>
                </a:lnTo>
                <a:lnTo>
                  <a:pt x="531" y="16"/>
                </a:lnTo>
                <a:lnTo>
                  <a:pt x="531" y="16"/>
                </a:lnTo>
                <a:lnTo>
                  <a:pt x="531" y="16"/>
                </a:lnTo>
                <a:lnTo>
                  <a:pt x="586" y="21"/>
                </a:lnTo>
                <a:lnTo>
                  <a:pt x="586" y="21"/>
                </a:lnTo>
                <a:lnTo>
                  <a:pt x="586" y="21"/>
                </a:lnTo>
                <a:lnTo>
                  <a:pt x="638" y="29"/>
                </a:lnTo>
                <a:lnTo>
                  <a:pt x="638" y="29"/>
                </a:lnTo>
                <a:lnTo>
                  <a:pt x="638" y="29"/>
                </a:lnTo>
                <a:lnTo>
                  <a:pt x="690" y="34"/>
                </a:lnTo>
                <a:lnTo>
                  <a:pt x="690" y="34"/>
                </a:lnTo>
                <a:lnTo>
                  <a:pt x="690" y="34"/>
                </a:lnTo>
                <a:lnTo>
                  <a:pt x="743" y="43"/>
                </a:lnTo>
                <a:lnTo>
                  <a:pt x="743" y="43"/>
                </a:lnTo>
                <a:lnTo>
                  <a:pt x="159" y="2341"/>
                </a:lnTo>
                <a:lnTo>
                  <a:pt x="0" y="3"/>
                </a:lnTo>
                <a:close/>
              </a:path>
            </a:pathLst>
          </a:custGeom>
          <a:solidFill>
            <a:srgbClr val="993366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376880" y="1770120"/>
            <a:ext cx="1425600" cy="1824120"/>
          </a:xfrm>
          <a:custGeom>
            <a:avLst/>
            <a:gdLst/>
            <a:ahLst/>
            <a:rect l="l" t="t" r="r" b="b"/>
            <a:pathLst>
              <a:path w="1796" h="2298">
                <a:moveTo>
                  <a:pt x="584" y="0"/>
                </a:moveTo>
                <a:lnTo>
                  <a:pt x="584" y="0"/>
                </a:lnTo>
                <a:lnTo>
                  <a:pt x="636" y="7"/>
                </a:lnTo>
                <a:lnTo>
                  <a:pt x="636" y="7"/>
                </a:lnTo>
                <a:lnTo>
                  <a:pt x="636" y="7"/>
                </a:lnTo>
                <a:lnTo>
                  <a:pt x="689" y="16"/>
                </a:lnTo>
                <a:lnTo>
                  <a:pt x="689" y="16"/>
                </a:lnTo>
                <a:lnTo>
                  <a:pt x="689" y="16"/>
                </a:lnTo>
                <a:lnTo>
                  <a:pt x="739" y="25"/>
                </a:lnTo>
                <a:lnTo>
                  <a:pt x="739" y="25"/>
                </a:lnTo>
                <a:lnTo>
                  <a:pt x="739" y="25"/>
                </a:lnTo>
                <a:lnTo>
                  <a:pt x="792" y="36"/>
                </a:lnTo>
                <a:lnTo>
                  <a:pt x="792" y="36"/>
                </a:lnTo>
                <a:lnTo>
                  <a:pt x="792" y="36"/>
                </a:lnTo>
                <a:lnTo>
                  <a:pt x="844" y="47"/>
                </a:lnTo>
                <a:lnTo>
                  <a:pt x="844" y="47"/>
                </a:lnTo>
                <a:lnTo>
                  <a:pt x="844" y="47"/>
                </a:lnTo>
                <a:lnTo>
                  <a:pt x="895" y="58"/>
                </a:lnTo>
                <a:lnTo>
                  <a:pt x="895" y="58"/>
                </a:lnTo>
                <a:lnTo>
                  <a:pt x="895" y="58"/>
                </a:lnTo>
                <a:lnTo>
                  <a:pt x="945" y="70"/>
                </a:lnTo>
                <a:lnTo>
                  <a:pt x="945" y="70"/>
                </a:lnTo>
                <a:lnTo>
                  <a:pt x="945" y="70"/>
                </a:lnTo>
                <a:lnTo>
                  <a:pt x="996" y="83"/>
                </a:lnTo>
                <a:lnTo>
                  <a:pt x="996" y="83"/>
                </a:lnTo>
                <a:lnTo>
                  <a:pt x="996" y="83"/>
                </a:lnTo>
                <a:lnTo>
                  <a:pt x="1046" y="98"/>
                </a:lnTo>
                <a:lnTo>
                  <a:pt x="1046" y="98"/>
                </a:lnTo>
                <a:lnTo>
                  <a:pt x="1046" y="98"/>
                </a:lnTo>
                <a:lnTo>
                  <a:pt x="1095" y="112"/>
                </a:lnTo>
                <a:lnTo>
                  <a:pt x="1095" y="112"/>
                </a:lnTo>
                <a:lnTo>
                  <a:pt x="1095" y="112"/>
                </a:lnTo>
                <a:lnTo>
                  <a:pt x="1146" y="126"/>
                </a:lnTo>
                <a:lnTo>
                  <a:pt x="1146" y="126"/>
                </a:lnTo>
                <a:lnTo>
                  <a:pt x="1146" y="126"/>
                </a:lnTo>
                <a:lnTo>
                  <a:pt x="1195" y="143"/>
                </a:lnTo>
                <a:lnTo>
                  <a:pt x="1195" y="143"/>
                </a:lnTo>
                <a:lnTo>
                  <a:pt x="1195" y="143"/>
                </a:lnTo>
                <a:lnTo>
                  <a:pt x="1243" y="159"/>
                </a:lnTo>
                <a:lnTo>
                  <a:pt x="1243" y="159"/>
                </a:lnTo>
                <a:lnTo>
                  <a:pt x="1243" y="159"/>
                </a:lnTo>
                <a:lnTo>
                  <a:pt x="1292" y="175"/>
                </a:lnTo>
                <a:lnTo>
                  <a:pt x="1292" y="175"/>
                </a:lnTo>
                <a:lnTo>
                  <a:pt x="1292" y="175"/>
                </a:lnTo>
                <a:lnTo>
                  <a:pt x="1341" y="193"/>
                </a:lnTo>
                <a:lnTo>
                  <a:pt x="1341" y="193"/>
                </a:lnTo>
                <a:lnTo>
                  <a:pt x="1341" y="193"/>
                </a:lnTo>
                <a:lnTo>
                  <a:pt x="1388" y="211"/>
                </a:lnTo>
                <a:lnTo>
                  <a:pt x="1388" y="211"/>
                </a:lnTo>
                <a:lnTo>
                  <a:pt x="1388" y="211"/>
                </a:lnTo>
                <a:lnTo>
                  <a:pt x="1435" y="229"/>
                </a:lnTo>
                <a:lnTo>
                  <a:pt x="1435" y="229"/>
                </a:lnTo>
                <a:lnTo>
                  <a:pt x="1435" y="229"/>
                </a:lnTo>
                <a:lnTo>
                  <a:pt x="1482" y="249"/>
                </a:lnTo>
                <a:lnTo>
                  <a:pt x="1482" y="249"/>
                </a:lnTo>
                <a:lnTo>
                  <a:pt x="1482" y="249"/>
                </a:lnTo>
                <a:lnTo>
                  <a:pt x="1529" y="269"/>
                </a:lnTo>
                <a:lnTo>
                  <a:pt x="1529" y="269"/>
                </a:lnTo>
                <a:lnTo>
                  <a:pt x="1529" y="269"/>
                </a:lnTo>
                <a:lnTo>
                  <a:pt x="1574" y="291"/>
                </a:lnTo>
                <a:lnTo>
                  <a:pt x="1574" y="291"/>
                </a:lnTo>
                <a:lnTo>
                  <a:pt x="1574" y="291"/>
                </a:lnTo>
                <a:lnTo>
                  <a:pt x="1621" y="313"/>
                </a:lnTo>
                <a:lnTo>
                  <a:pt x="1621" y="313"/>
                </a:lnTo>
                <a:lnTo>
                  <a:pt x="1621" y="313"/>
                </a:lnTo>
                <a:lnTo>
                  <a:pt x="1664" y="334"/>
                </a:lnTo>
                <a:lnTo>
                  <a:pt x="1664" y="334"/>
                </a:lnTo>
                <a:lnTo>
                  <a:pt x="1664" y="334"/>
                </a:lnTo>
                <a:lnTo>
                  <a:pt x="1710" y="356"/>
                </a:lnTo>
                <a:lnTo>
                  <a:pt x="1710" y="356"/>
                </a:lnTo>
                <a:lnTo>
                  <a:pt x="1710" y="356"/>
                </a:lnTo>
                <a:lnTo>
                  <a:pt x="1753" y="379"/>
                </a:lnTo>
                <a:lnTo>
                  <a:pt x="1753" y="379"/>
                </a:lnTo>
                <a:lnTo>
                  <a:pt x="1753" y="379"/>
                </a:lnTo>
                <a:lnTo>
                  <a:pt x="1796" y="403"/>
                </a:lnTo>
                <a:lnTo>
                  <a:pt x="1796" y="403"/>
                </a:lnTo>
                <a:lnTo>
                  <a:pt x="0" y="2298"/>
                </a:lnTo>
                <a:lnTo>
                  <a:pt x="584" y="0"/>
                </a:lnTo>
                <a:close/>
              </a:path>
            </a:pathLst>
          </a:custGeom>
          <a:solidFill>
            <a:srgbClr val="ffffcc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951200" y="1738440"/>
            <a:ext cx="2425680" cy="1855800"/>
          </a:xfrm>
          <a:custGeom>
            <a:avLst/>
            <a:gdLst/>
            <a:ahLst/>
            <a:rect l="l" t="t" r="r" b="b"/>
            <a:pathLst>
              <a:path w="3056" h="2338">
                <a:moveTo>
                  <a:pt x="0" y="2338"/>
                </a:moveTo>
                <a:lnTo>
                  <a:pt x="0" y="2338"/>
                </a:lnTo>
                <a:lnTo>
                  <a:pt x="0" y="2297"/>
                </a:lnTo>
                <a:lnTo>
                  <a:pt x="0" y="2297"/>
                </a:lnTo>
                <a:lnTo>
                  <a:pt x="0" y="2297"/>
                </a:lnTo>
                <a:lnTo>
                  <a:pt x="2" y="2257"/>
                </a:lnTo>
                <a:lnTo>
                  <a:pt x="2" y="2257"/>
                </a:lnTo>
                <a:lnTo>
                  <a:pt x="2" y="2257"/>
                </a:lnTo>
                <a:lnTo>
                  <a:pt x="4" y="2216"/>
                </a:lnTo>
                <a:lnTo>
                  <a:pt x="4" y="2216"/>
                </a:lnTo>
                <a:lnTo>
                  <a:pt x="4" y="2216"/>
                </a:lnTo>
                <a:lnTo>
                  <a:pt x="8" y="2174"/>
                </a:lnTo>
                <a:lnTo>
                  <a:pt x="8" y="2174"/>
                </a:lnTo>
                <a:lnTo>
                  <a:pt x="8" y="2174"/>
                </a:lnTo>
                <a:lnTo>
                  <a:pt x="11" y="2134"/>
                </a:lnTo>
                <a:lnTo>
                  <a:pt x="11" y="2134"/>
                </a:lnTo>
                <a:lnTo>
                  <a:pt x="11" y="2134"/>
                </a:lnTo>
                <a:lnTo>
                  <a:pt x="17" y="2093"/>
                </a:lnTo>
                <a:lnTo>
                  <a:pt x="17" y="2093"/>
                </a:lnTo>
                <a:lnTo>
                  <a:pt x="17" y="2093"/>
                </a:lnTo>
                <a:lnTo>
                  <a:pt x="22" y="2053"/>
                </a:lnTo>
                <a:lnTo>
                  <a:pt x="22" y="2053"/>
                </a:lnTo>
                <a:lnTo>
                  <a:pt x="22" y="2053"/>
                </a:lnTo>
                <a:lnTo>
                  <a:pt x="29" y="2011"/>
                </a:lnTo>
                <a:lnTo>
                  <a:pt x="29" y="2011"/>
                </a:lnTo>
                <a:lnTo>
                  <a:pt x="29" y="2011"/>
                </a:lnTo>
                <a:lnTo>
                  <a:pt x="38" y="1972"/>
                </a:lnTo>
                <a:lnTo>
                  <a:pt x="38" y="1972"/>
                </a:lnTo>
                <a:lnTo>
                  <a:pt x="38" y="1972"/>
                </a:lnTo>
                <a:lnTo>
                  <a:pt x="46" y="1932"/>
                </a:lnTo>
                <a:lnTo>
                  <a:pt x="46" y="1932"/>
                </a:lnTo>
                <a:lnTo>
                  <a:pt x="46" y="1932"/>
                </a:lnTo>
                <a:lnTo>
                  <a:pt x="56" y="1890"/>
                </a:lnTo>
                <a:lnTo>
                  <a:pt x="56" y="1890"/>
                </a:lnTo>
                <a:lnTo>
                  <a:pt x="56" y="1890"/>
                </a:lnTo>
                <a:lnTo>
                  <a:pt x="67" y="1851"/>
                </a:lnTo>
                <a:lnTo>
                  <a:pt x="67" y="1851"/>
                </a:lnTo>
                <a:lnTo>
                  <a:pt x="67" y="1851"/>
                </a:lnTo>
                <a:lnTo>
                  <a:pt x="78" y="1811"/>
                </a:lnTo>
                <a:lnTo>
                  <a:pt x="78" y="1811"/>
                </a:lnTo>
                <a:lnTo>
                  <a:pt x="78" y="1811"/>
                </a:lnTo>
                <a:lnTo>
                  <a:pt x="91" y="1771"/>
                </a:lnTo>
                <a:lnTo>
                  <a:pt x="91" y="1771"/>
                </a:lnTo>
                <a:lnTo>
                  <a:pt x="91" y="1771"/>
                </a:lnTo>
                <a:lnTo>
                  <a:pt x="103" y="1731"/>
                </a:lnTo>
                <a:lnTo>
                  <a:pt x="103" y="1731"/>
                </a:lnTo>
                <a:lnTo>
                  <a:pt x="103" y="1731"/>
                </a:lnTo>
                <a:lnTo>
                  <a:pt x="118" y="1693"/>
                </a:lnTo>
                <a:lnTo>
                  <a:pt x="118" y="1693"/>
                </a:lnTo>
                <a:lnTo>
                  <a:pt x="118" y="1693"/>
                </a:lnTo>
                <a:lnTo>
                  <a:pt x="134" y="1654"/>
                </a:lnTo>
                <a:lnTo>
                  <a:pt x="134" y="1654"/>
                </a:lnTo>
                <a:lnTo>
                  <a:pt x="134" y="1654"/>
                </a:lnTo>
                <a:lnTo>
                  <a:pt x="150" y="1614"/>
                </a:lnTo>
                <a:lnTo>
                  <a:pt x="150" y="1614"/>
                </a:lnTo>
                <a:lnTo>
                  <a:pt x="150" y="1614"/>
                </a:lnTo>
                <a:lnTo>
                  <a:pt x="167" y="1576"/>
                </a:lnTo>
                <a:lnTo>
                  <a:pt x="167" y="1576"/>
                </a:lnTo>
                <a:lnTo>
                  <a:pt x="167" y="1576"/>
                </a:lnTo>
                <a:lnTo>
                  <a:pt x="185" y="1536"/>
                </a:lnTo>
                <a:lnTo>
                  <a:pt x="185" y="1536"/>
                </a:lnTo>
                <a:lnTo>
                  <a:pt x="185" y="1536"/>
                </a:lnTo>
                <a:lnTo>
                  <a:pt x="203" y="1498"/>
                </a:lnTo>
                <a:lnTo>
                  <a:pt x="203" y="1498"/>
                </a:lnTo>
                <a:lnTo>
                  <a:pt x="203" y="1498"/>
                </a:lnTo>
                <a:lnTo>
                  <a:pt x="223" y="1460"/>
                </a:lnTo>
                <a:lnTo>
                  <a:pt x="223" y="1460"/>
                </a:lnTo>
                <a:lnTo>
                  <a:pt x="223" y="1460"/>
                </a:lnTo>
                <a:lnTo>
                  <a:pt x="243" y="1422"/>
                </a:lnTo>
                <a:lnTo>
                  <a:pt x="243" y="1422"/>
                </a:lnTo>
                <a:lnTo>
                  <a:pt x="243" y="1422"/>
                </a:lnTo>
                <a:lnTo>
                  <a:pt x="264" y="1386"/>
                </a:lnTo>
                <a:lnTo>
                  <a:pt x="264" y="1386"/>
                </a:lnTo>
                <a:lnTo>
                  <a:pt x="264" y="1386"/>
                </a:lnTo>
                <a:lnTo>
                  <a:pt x="286" y="1348"/>
                </a:lnTo>
                <a:lnTo>
                  <a:pt x="286" y="1348"/>
                </a:lnTo>
                <a:lnTo>
                  <a:pt x="286" y="1348"/>
                </a:lnTo>
                <a:lnTo>
                  <a:pt x="309" y="1312"/>
                </a:lnTo>
                <a:lnTo>
                  <a:pt x="309" y="1312"/>
                </a:lnTo>
                <a:lnTo>
                  <a:pt x="309" y="1312"/>
                </a:lnTo>
                <a:lnTo>
                  <a:pt x="333" y="1274"/>
                </a:lnTo>
                <a:lnTo>
                  <a:pt x="333" y="1274"/>
                </a:lnTo>
                <a:lnTo>
                  <a:pt x="333" y="1274"/>
                </a:lnTo>
                <a:lnTo>
                  <a:pt x="358" y="1238"/>
                </a:lnTo>
                <a:lnTo>
                  <a:pt x="358" y="1238"/>
                </a:lnTo>
                <a:lnTo>
                  <a:pt x="358" y="1238"/>
                </a:lnTo>
                <a:lnTo>
                  <a:pt x="384" y="1202"/>
                </a:lnTo>
                <a:lnTo>
                  <a:pt x="384" y="1202"/>
                </a:lnTo>
                <a:lnTo>
                  <a:pt x="384" y="1202"/>
                </a:lnTo>
                <a:lnTo>
                  <a:pt x="409" y="1168"/>
                </a:lnTo>
                <a:lnTo>
                  <a:pt x="409" y="1168"/>
                </a:lnTo>
                <a:lnTo>
                  <a:pt x="409" y="1168"/>
                </a:lnTo>
                <a:lnTo>
                  <a:pt x="436" y="1131"/>
                </a:lnTo>
                <a:lnTo>
                  <a:pt x="436" y="1131"/>
                </a:lnTo>
                <a:lnTo>
                  <a:pt x="436" y="1131"/>
                </a:lnTo>
                <a:lnTo>
                  <a:pt x="465" y="1097"/>
                </a:lnTo>
                <a:lnTo>
                  <a:pt x="465" y="1097"/>
                </a:lnTo>
                <a:lnTo>
                  <a:pt x="465" y="1097"/>
                </a:lnTo>
                <a:lnTo>
                  <a:pt x="494" y="1063"/>
                </a:lnTo>
                <a:lnTo>
                  <a:pt x="494" y="1063"/>
                </a:lnTo>
                <a:lnTo>
                  <a:pt x="494" y="1063"/>
                </a:lnTo>
                <a:lnTo>
                  <a:pt x="523" y="1028"/>
                </a:lnTo>
                <a:lnTo>
                  <a:pt x="523" y="1028"/>
                </a:lnTo>
                <a:lnTo>
                  <a:pt x="523" y="1028"/>
                </a:lnTo>
                <a:lnTo>
                  <a:pt x="553" y="994"/>
                </a:lnTo>
                <a:lnTo>
                  <a:pt x="553" y="994"/>
                </a:lnTo>
                <a:lnTo>
                  <a:pt x="553" y="994"/>
                </a:lnTo>
                <a:lnTo>
                  <a:pt x="584" y="962"/>
                </a:lnTo>
                <a:lnTo>
                  <a:pt x="584" y="962"/>
                </a:lnTo>
                <a:lnTo>
                  <a:pt x="584" y="962"/>
                </a:lnTo>
                <a:lnTo>
                  <a:pt x="615" y="929"/>
                </a:lnTo>
                <a:lnTo>
                  <a:pt x="615" y="929"/>
                </a:lnTo>
                <a:lnTo>
                  <a:pt x="615" y="929"/>
                </a:lnTo>
                <a:lnTo>
                  <a:pt x="647" y="897"/>
                </a:lnTo>
                <a:lnTo>
                  <a:pt x="647" y="897"/>
                </a:lnTo>
                <a:lnTo>
                  <a:pt x="647" y="897"/>
                </a:lnTo>
                <a:lnTo>
                  <a:pt x="682" y="864"/>
                </a:lnTo>
                <a:lnTo>
                  <a:pt x="682" y="864"/>
                </a:lnTo>
                <a:lnTo>
                  <a:pt x="682" y="864"/>
                </a:lnTo>
                <a:lnTo>
                  <a:pt x="714" y="833"/>
                </a:lnTo>
                <a:lnTo>
                  <a:pt x="714" y="833"/>
                </a:lnTo>
                <a:lnTo>
                  <a:pt x="714" y="833"/>
                </a:lnTo>
                <a:lnTo>
                  <a:pt x="750" y="803"/>
                </a:lnTo>
                <a:lnTo>
                  <a:pt x="750" y="803"/>
                </a:lnTo>
                <a:lnTo>
                  <a:pt x="750" y="803"/>
                </a:lnTo>
                <a:lnTo>
                  <a:pt x="785" y="772"/>
                </a:lnTo>
                <a:lnTo>
                  <a:pt x="785" y="772"/>
                </a:lnTo>
                <a:lnTo>
                  <a:pt x="785" y="772"/>
                </a:lnTo>
                <a:lnTo>
                  <a:pt x="821" y="741"/>
                </a:lnTo>
                <a:lnTo>
                  <a:pt x="821" y="741"/>
                </a:lnTo>
                <a:lnTo>
                  <a:pt x="821" y="741"/>
                </a:lnTo>
                <a:lnTo>
                  <a:pt x="857" y="710"/>
                </a:lnTo>
                <a:lnTo>
                  <a:pt x="857" y="710"/>
                </a:lnTo>
                <a:lnTo>
                  <a:pt x="857" y="710"/>
                </a:lnTo>
                <a:lnTo>
                  <a:pt x="895" y="681"/>
                </a:lnTo>
                <a:lnTo>
                  <a:pt x="895" y="681"/>
                </a:lnTo>
                <a:lnTo>
                  <a:pt x="895" y="681"/>
                </a:lnTo>
                <a:lnTo>
                  <a:pt x="933" y="653"/>
                </a:lnTo>
                <a:lnTo>
                  <a:pt x="933" y="653"/>
                </a:lnTo>
                <a:lnTo>
                  <a:pt x="933" y="653"/>
                </a:lnTo>
                <a:lnTo>
                  <a:pt x="973" y="625"/>
                </a:lnTo>
                <a:lnTo>
                  <a:pt x="973" y="625"/>
                </a:lnTo>
                <a:lnTo>
                  <a:pt x="973" y="625"/>
                </a:lnTo>
                <a:lnTo>
                  <a:pt x="1011" y="598"/>
                </a:lnTo>
                <a:lnTo>
                  <a:pt x="1011" y="598"/>
                </a:lnTo>
                <a:lnTo>
                  <a:pt x="1011" y="598"/>
                </a:lnTo>
                <a:lnTo>
                  <a:pt x="1052" y="571"/>
                </a:lnTo>
                <a:lnTo>
                  <a:pt x="1052" y="571"/>
                </a:lnTo>
                <a:lnTo>
                  <a:pt x="1052" y="571"/>
                </a:lnTo>
                <a:lnTo>
                  <a:pt x="1092" y="544"/>
                </a:lnTo>
                <a:lnTo>
                  <a:pt x="1092" y="544"/>
                </a:lnTo>
                <a:lnTo>
                  <a:pt x="1092" y="544"/>
                </a:lnTo>
                <a:lnTo>
                  <a:pt x="1133" y="519"/>
                </a:lnTo>
                <a:lnTo>
                  <a:pt x="1133" y="519"/>
                </a:lnTo>
                <a:lnTo>
                  <a:pt x="1133" y="519"/>
                </a:lnTo>
                <a:lnTo>
                  <a:pt x="1175" y="492"/>
                </a:lnTo>
                <a:lnTo>
                  <a:pt x="1175" y="492"/>
                </a:lnTo>
                <a:lnTo>
                  <a:pt x="1175" y="492"/>
                </a:lnTo>
                <a:lnTo>
                  <a:pt x="1217" y="468"/>
                </a:lnTo>
                <a:lnTo>
                  <a:pt x="1217" y="468"/>
                </a:lnTo>
                <a:lnTo>
                  <a:pt x="1217" y="468"/>
                </a:lnTo>
                <a:lnTo>
                  <a:pt x="1260" y="443"/>
                </a:lnTo>
                <a:lnTo>
                  <a:pt x="1260" y="443"/>
                </a:lnTo>
                <a:lnTo>
                  <a:pt x="1260" y="443"/>
                </a:lnTo>
                <a:lnTo>
                  <a:pt x="1303" y="419"/>
                </a:lnTo>
                <a:lnTo>
                  <a:pt x="1303" y="419"/>
                </a:lnTo>
                <a:lnTo>
                  <a:pt x="1303" y="419"/>
                </a:lnTo>
                <a:lnTo>
                  <a:pt x="1347" y="396"/>
                </a:lnTo>
                <a:lnTo>
                  <a:pt x="1347" y="396"/>
                </a:lnTo>
                <a:lnTo>
                  <a:pt x="1347" y="396"/>
                </a:lnTo>
                <a:lnTo>
                  <a:pt x="1392" y="374"/>
                </a:lnTo>
                <a:lnTo>
                  <a:pt x="1392" y="374"/>
                </a:lnTo>
                <a:lnTo>
                  <a:pt x="1392" y="374"/>
                </a:lnTo>
                <a:lnTo>
                  <a:pt x="1437" y="353"/>
                </a:lnTo>
                <a:lnTo>
                  <a:pt x="1437" y="353"/>
                </a:lnTo>
                <a:lnTo>
                  <a:pt x="1437" y="353"/>
                </a:lnTo>
                <a:lnTo>
                  <a:pt x="1482" y="331"/>
                </a:lnTo>
                <a:lnTo>
                  <a:pt x="1482" y="331"/>
                </a:lnTo>
                <a:lnTo>
                  <a:pt x="1482" y="331"/>
                </a:lnTo>
                <a:lnTo>
                  <a:pt x="1527" y="309"/>
                </a:lnTo>
                <a:lnTo>
                  <a:pt x="1527" y="309"/>
                </a:lnTo>
                <a:lnTo>
                  <a:pt x="1527" y="309"/>
                </a:lnTo>
                <a:lnTo>
                  <a:pt x="1574" y="289"/>
                </a:lnTo>
                <a:lnTo>
                  <a:pt x="1574" y="289"/>
                </a:lnTo>
                <a:lnTo>
                  <a:pt x="1574" y="289"/>
                </a:lnTo>
                <a:lnTo>
                  <a:pt x="1621" y="269"/>
                </a:lnTo>
                <a:lnTo>
                  <a:pt x="1621" y="269"/>
                </a:lnTo>
                <a:lnTo>
                  <a:pt x="1621" y="269"/>
                </a:lnTo>
                <a:lnTo>
                  <a:pt x="1668" y="251"/>
                </a:lnTo>
                <a:lnTo>
                  <a:pt x="1668" y="251"/>
                </a:lnTo>
                <a:lnTo>
                  <a:pt x="1668" y="251"/>
                </a:lnTo>
                <a:lnTo>
                  <a:pt x="1717" y="233"/>
                </a:lnTo>
                <a:lnTo>
                  <a:pt x="1717" y="233"/>
                </a:lnTo>
                <a:lnTo>
                  <a:pt x="1717" y="233"/>
                </a:lnTo>
                <a:lnTo>
                  <a:pt x="1764" y="215"/>
                </a:lnTo>
                <a:lnTo>
                  <a:pt x="1764" y="215"/>
                </a:lnTo>
                <a:lnTo>
                  <a:pt x="1764" y="215"/>
                </a:lnTo>
                <a:lnTo>
                  <a:pt x="1813" y="199"/>
                </a:lnTo>
                <a:lnTo>
                  <a:pt x="1813" y="199"/>
                </a:lnTo>
                <a:lnTo>
                  <a:pt x="1813" y="199"/>
                </a:lnTo>
                <a:lnTo>
                  <a:pt x="1862" y="183"/>
                </a:lnTo>
                <a:lnTo>
                  <a:pt x="1862" y="183"/>
                </a:lnTo>
                <a:lnTo>
                  <a:pt x="1862" y="183"/>
                </a:lnTo>
                <a:lnTo>
                  <a:pt x="1912" y="166"/>
                </a:lnTo>
                <a:lnTo>
                  <a:pt x="1912" y="166"/>
                </a:lnTo>
                <a:lnTo>
                  <a:pt x="1912" y="166"/>
                </a:lnTo>
                <a:lnTo>
                  <a:pt x="1961" y="152"/>
                </a:lnTo>
                <a:lnTo>
                  <a:pt x="1961" y="152"/>
                </a:lnTo>
                <a:lnTo>
                  <a:pt x="1961" y="152"/>
                </a:lnTo>
                <a:lnTo>
                  <a:pt x="2012" y="138"/>
                </a:lnTo>
                <a:lnTo>
                  <a:pt x="2012" y="138"/>
                </a:lnTo>
                <a:lnTo>
                  <a:pt x="2012" y="138"/>
                </a:lnTo>
                <a:lnTo>
                  <a:pt x="2062" y="123"/>
                </a:lnTo>
                <a:lnTo>
                  <a:pt x="2062" y="123"/>
                </a:lnTo>
                <a:lnTo>
                  <a:pt x="2062" y="123"/>
                </a:lnTo>
                <a:lnTo>
                  <a:pt x="2113" y="110"/>
                </a:lnTo>
                <a:lnTo>
                  <a:pt x="2113" y="110"/>
                </a:lnTo>
                <a:lnTo>
                  <a:pt x="2113" y="110"/>
                </a:lnTo>
                <a:lnTo>
                  <a:pt x="2163" y="98"/>
                </a:lnTo>
                <a:lnTo>
                  <a:pt x="2163" y="98"/>
                </a:lnTo>
                <a:lnTo>
                  <a:pt x="2163" y="98"/>
                </a:lnTo>
                <a:lnTo>
                  <a:pt x="2214" y="87"/>
                </a:lnTo>
                <a:lnTo>
                  <a:pt x="2214" y="87"/>
                </a:lnTo>
                <a:lnTo>
                  <a:pt x="2214" y="87"/>
                </a:lnTo>
                <a:lnTo>
                  <a:pt x="2265" y="76"/>
                </a:lnTo>
                <a:lnTo>
                  <a:pt x="2265" y="76"/>
                </a:lnTo>
                <a:lnTo>
                  <a:pt x="2265" y="76"/>
                </a:lnTo>
                <a:lnTo>
                  <a:pt x="2317" y="65"/>
                </a:lnTo>
                <a:lnTo>
                  <a:pt x="2317" y="65"/>
                </a:lnTo>
                <a:lnTo>
                  <a:pt x="2317" y="65"/>
                </a:lnTo>
                <a:lnTo>
                  <a:pt x="2369" y="56"/>
                </a:lnTo>
                <a:lnTo>
                  <a:pt x="2369" y="56"/>
                </a:lnTo>
                <a:lnTo>
                  <a:pt x="2369" y="56"/>
                </a:lnTo>
                <a:lnTo>
                  <a:pt x="2422" y="47"/>
                </a:lnTo>
                <a:lnTo>
                  <a:pt x="2422" y="47"/>
                </a:lnTo>
                <a:lnTo>
                  <a:pt x="2422" y="47"/>
                </a:lnTo>
                <a:lnTo>
                  <a:pt x="2474" y="40"/>
                </a:lnTo>
                <a:lnTo>
                  <a:pt x="2474" y="40"/>
                </a:lnTo>
                <a:lnTo>
                  <a:pt x="2474" y="40"/>
                </a:lnTo>
                <a:lnTo>
                  <a:pt x="2527" y="31"/>
                </a:lnTo>
                <a:lnTo>
                  <a:pt x="2527" y="31"/>
                </a:lnTo>
                <a:lnTo>
                  <a:pt x="2527" y="31"/>
                </a:lnTo>
                <a:lnTo>
                  <a:pt x="2579" y="26"/>
                </a:lnTo>
                <a:lnTo>
                  <a:pt x="2579" y="26"/>
                </a:lnTo>
                <a:lnTo>
                  <a:pt x="2579" y="26"/>
                </a:lnTo>
                <a:lnTo>
                  <a:pt x="2632" y="18"/>
                </a:lnTo>
                <a:lnTo>
                  <a:pt x="2632" y="18"/>
                </a:lnTo>
                <a:lnTo>
                  <a:pt x="2632" y="18"/>
                </a:lnTo>
                <a:lnTo>
                  <a:pt x="2684" y="13"/>
                </a:lnTo>
                <a:lnTo>
                  <a:pt x="2684" y="13"/>
                </a:lnTo>
                <a:lnTo>
                  <a:pt x="2684" y="13"/>
                </a:lnTo>
                <a:lnTo>
                  <a:pt x="2736" y="9"/>
                </a:lnTo>
                <a:lnTo>
                  <a:pt x="2736" y="9"/>
                </a:lnTo>
                <a:lnTo>
                  <a:pt x="2736" y="9"/>
                </a:lnTo>
                <a:lnTo>
                  <a:pt x="2791" y="6"/>
                </a:lnTo>
                <a:lnTo>
                  <a:pt x="2791" y="6"/>
                </a:lnTo>
                <a:lnTo>
                  <a:pt x="2791" y="6"/>
                </a:lnTo>
                <a:lnTo>
                  <a:pt x="2843" y="2"/>
                </a:lnTo>
                <a:lnTo>
                  <a:pt x="2843" y="2"/>
                </a:lnTo>
                <a:lnTo>
                  <a:pt x="2843" y="2"/>
                </a:lnTo>
                <a:lnTo>
                  <a:pt x="2897" y="0"/>
                </a:lnTo>
                <a:lnTo>
                  <a:pt x="2897" y="0"/>
                </a:lnTo>
                <a:lnTo>
                  <a:pt x="3056" y="2338"/>
                </a:lnTo>
                <a:lnTo>
                  <a:pt x="0" y="2338"/>
                </a:lnTo>
                <a:close/>
              </a:path>
            </a:pathLst>
          </a:custGeom>
          <a:solidFill>
            <a:srgbClr val="9999ff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951200" y="3594240"/>
            <a:ext cx="1757160" cy="2232000"/>
          </a:xfrm>
          <a:custGeom>
            <a:avLst/>
            <a:gdLst/>
            <a:ahLst/>
            <a:rect l="l" t="t" r="r" b="b"/>
            <a:pathLst>
              <a:path w="2214" h="2812">
                <a:moveTo>
                  <a:pt x="2214" y="2252"/>
                </a:moveTo>
                <a:lnTo>
                  <a:pt x="2214" y="2252"/>
                </a:lnTo>
                <a:lnTo>
                  <a:pt x="2163" y="2239"/>
                </a:lnTo>
                <a:lnTo>
                  <a:pt x="2163" y="2239"/>
                </a:lnTo>
                <a:lnTo>
                  <a:pt x="2163" y="2239"/>
                </a:lnTo>
                <a:lnTo>
                  <a:pt x="2113" y="2227"/>
                </a:lnTo>
                <a:lnTo>
                  <a:pt x="2113" y="2227"/>
                </a:lnTo>
                <a:lnTo>
                  <a:pt x="2113" y="2227"/>
                </a:lnTo>
                <a:lnTo>
                  <a:pt x="2062" y="2214"/>
                </a:lnTo>
                <a:lnTo>
                  <a:pt x="2062" y="2214"/>
                </a:lnTo>
                <a:lnTo>
                  <a:pt x="2062" y="2214"/>
                </a:lnTo>
                <a:lnTo>
                  <a:pt x="2012" y="2201"/>
                </a:lnTo>
                <a:lnTo>
                  <a:pt x="2012" y="2201"/>
                </a:lnTo>
                <a:lnTo>
                  <a:pt x="2012" y="2201"/>
                </a:lnTo>
                <a:lnTo>
                  <a:pt x="1961" y="2187"/>
                </a:lnTo>
                <a:lnTo>
                  <a:pt x="1961" y="2187"/>
                </a:lnTo>
                <a:lnTo>
                  <a:pt x="1961" y="2187"/>
                </a:lnTo>
                <a:lnTo>
                  <a:pt x="1912" y="2171"/>
                </a:lnTo>
                <a:lnTo>
                  <a:pt x="1912" y="2171"/>
                </a:lnTo>
                <a:lnTo>
                  <a:pt x="1912" y="2171"/>
                </a:lnTo>
                <a:lnTo>
                  <a:pt x="1862" y="2156"/>
                </a:lnTo>
                <a:lnTo>
                  <a:pt x="1862" y="2156"/>
                </a:lnTo>
                <a:lnTo>
                  <a:pt x="1862" y="2156"/>
                </a:lnTo>
                <a:lnTo>
                  <a:pt x="1813" y="2140"/>
                </a:lnTo>
                <a:lnTo>
                  <a:pt x="1813" y="2140"/>
                </a:lnTo>
                <a:lnTo>
                  <a:pt x="1813" y="2140"/>
                </a:lnTo>
                <a:lnTo>
                  <a:pt x="1764" y="2122"/>
                </a:lnTo>
                <a:lnTo>
                  <a:pt x="1764" y="2122"/>
                </a:lnTo>
                <a:lnTo>
                  <a:pt x="1764" y="2122"/>
                </a:lnTo>
                <a:lnTo>
                  <a:pt x="1717" y="2106"/>
                </a:lnTo>
                <a:lnTo>
                  <a:pt x="1717" y="2106"/>
                </a:lnTo>
                <a:lnTo>
                  <a:pt x="1717" y="2106"/>
                </a:lnTo>
                <a:lnTo>
                  <a:pt x="1668" y="2088"/>
                </a:lnTo>
                <a:lnTo>
                  <a:pt x="1668" y="2088"/>
                </a:lnTo>
                <a:lnTo>
                  <a:pt x="1668" y="2088"/>
                </a:lnTo>
                <a:lnTo>
                  <a:pt x="1621" y="2068"/>
                </a:lnTo>
                <a:lnTo>
                  <a:pt x="1621" y="2068"/>
                </a:lnTo>
                <a:lnTo>
                  <a:pt x="1621" y="2068"/>
                </a:lnTo>
                <a:lnTo>
                  <a:pt x="1574" y="2048"/>
                </a:lnTo>
                <a:lnTo>
                  <a:pt x="1574" y="2048"/>
                </a:lnTo>
                <a:lnTo>
                  <a:pt x="1574" y="2048"/>
                </a:lnTo>
                <a:lnTo>
                  <a:pt x="1527" y="2028"/>
                </a:lnTo>
                <a:lnTo>
                  <a:pt x="1527" y="2028"/>
                </a:lnTo>
                <a:lnTo>
                  <a:pt x="1527" y="2028"/>
                </a:lnTo>
                <a:lnTo>
                  <a:pt x="1482" y="2008"/>
                </a:lnTo>
                <a:lnTo>
                  <a:pt x="1482" y="2008"/>
                </a:lnTo>
                <a:lnTo>
                  <a:pt x="1482" y="2008"/>
                </a:lnTo>
                <a:lnTo>
                  <a:pt x="1437" y="1986"/>
                </a:lnTo>
                <a:lnTo>
                  <a:pt x="1437" y="1986"/>
                </a:lnTo>
                <a:lnTo>
                  <a:pt x="1437" y="1986"/>
                </a:lnTo>
                <a:lnTo>
                  <a:pt x="1392" y="1965"/>
                </a:lnTo>
                <a:lnTo>
                  <a:pt x="1392" y="1965"/>
                </a:lnTo>
                <a:lnTo>
                  <a:pt x="1392" y="1965"/>
                </a:lnTo>
                <a:lnTo>
                  <a:pt x="1347" y="1941"/>
                </a:lnTo>
                <a:lnTo>
                  <a:pt x="1347" y="1941"/>
                </a:lnTo>
                <a:lnTo>
                  <a:pt x="1347" y="1941"/>
                </a:lnTo>
                <a:lnTo>
                  <a:pt x="1303" y="1918"/>
                </a:lnTo>
                <a:lnTo>
                  <a:pt x="1303" y="1918"/>
                </a:lnTo>
                <a:lnTo>
                  <a:pt x="1303" y="1918"/>
                </a:lnTo>
                <a:lnTo>
                  <a:pt x="1260" y="1894"/>
                </a:lnTo>
                <a:lnTo>
                  <a:pt x="1260" y="1894"/>
                </a:lnTo>
                <a:lnTo>
                  <a:pt x="1260" y="1894"/>
                </a:lnTo>
                <a:lnTo>
                  <a:pt x="1217" y="1871"/>
                </a:lnTo>
                <a:lnTo>
                  <a:pt x="1217" y="1871"/>
                </a:lnTo>
                <a:lnTo>
                  <a:pt x="1217" y="1871"/>
                </a:lnTo>
                <a:lnTo>
                  <a:pt x="1175" y="1845"/>
                </a:lnTo>
                <a:lnTo>
                  <a:pt x="1175" y="1845"/>
                </a:lnTo>
                <a:lnTo>
                  <a:pt x="1175" y="1845"/>
                </a:lnTo>
                <a:lnTo>
                  <a:pt x="1133" y="1820"/>
                </a:lnTo>
                <a:lnTo>
                  <a:pt x="1133" y="1820"/>
                </a:lnTo>
                <a:lnTo>
                  <a:pt x="1133" y="1820"/>
                </a:lnTo>
                <a:lnTo>
                  <a:pt x="1092" y="1795"/>
                </a:lnTo>
                <a:lnTo>
                  <a:pt x="1092" y="1795"/>
                </a:lnTo>
                <a:lnTo>
                  <a:pt x="1092" y="1795"/>
                </a:lnTo>
                <a:lnTo>
                  <a:pt x="1052" y="1768"/>
                </a:lnTo>
                <a:lnTo>
                  <a:pt x="1052" y="1768"/>
                </a:lnTo>
                <a:lnTo>
                  <a:pt x="1052" y="1768"/>
                </a:lnTo>
                <a:lnTo>
                  <a:pt x="1011" y="1741"/>
                </a:lnTo>
                <a:lnTo>
                  <a:pt x="1011" y="1741"/>
                </a:lnTo>
                <a:lnTo>
                  <a:pt x="1011" y="1741"/>
                </a:lnTo>
                <a:lnTo>
                  <a:pt x="973" y="1714"/>
                </a:lnTo>
                <a:lnTo>
                  <a:pt x="973" y="1714"/>
                </a:lnTo>
                <a:lnTo>
                  <a:pt x="973" y="1714"/>
                </a:lnTo>
                <a:lnTo>
                  <a:pt x="933" y="1685"/>
                </a:lnTo>
                <a:lnTo>
                  <a:pt x="933" y="1685"/>
                </a:lnTo>
                <a:lnTo>
                  <a:pt x="933" y="1685"/>
                </a:lnTo>
                <a:lnTo>
                  <a:pt x="895" y="1656"/>
                </a:lnTo>
                <a:lnTo>
                  <a:pt x="895" y="1656"/>
                </a:lnTo>
                <a:lnTo>
                  <a:pt x="895" y="1656"/>
                </a:lnTo>
                <a:lnTo>
                  <a:pt x="857" y="1627"/>
                </a:lnTo>
                <a:lnTo>
                  <a:pt x="857" y="1627"/>
                </a:lnTo>
                <a:lnTo>
                  <a:pt x="857" y="1627"/>
                </a:lnTo>
                <a:lnTo>
                  <a:pt x="821" y="1598"/>
                </a:lnTo>
                <a:lnTo>
                  <a:pt x="821" y="1598"/>
                </a:lnTo>
                <a:lnTo>
                  <a:pt x="821" y="1598"/>
                </a:lnTo>
                <a:lnTo>
                  <a:pt x="785" y="1567"/>
                </a:lnTo>
                <a:lnTo>
                  <a:pt x="785" y="1567"/>
                </a:lnTo>
                <a:lnTo>
                  <a:pt x="785" y="1567"/>
                </a:lnTo>
                <a:lnTo>
                  <a:pt x="750" y="1536"/>
                </a:lnTo>
                <a:lnTo>
                  <a:pt x="750" y="1536"/>
                </a:lnTo>
                <a:lnTo>
                  <a:pt x="750" y="1536"/>
                </a:lnTo>
                <a:lnTo>
                  <a:pt x="714" y="1506"/>
                </a:lnTo>
                <a:lnTo>
                  <a:pt x="714" y="1506"/>
                </a:lnTo>
                <a:lnTo>
                  <a:pt x="714" y="1506"/>
                </a:lnTo>
                <a:lnTo>
                  <a:pt x="682" y="1473"/>
                </a:lnTo>
                <a:lnTo>
                  <a:pt x="682" y="1473"/>
                </a:lnTo>
                <a:lnTo>
                  <a:pt x="682" y="1473"/>
                </a:lnTo>
                <a:lnTo>
                  <a:pt x="647" y="1442"/>
                </a:lnTo>
                <a:lnTo>
                  <a:pt x="647" y="1442"/>
                </a:lnTo>
                <a:lnTo>
                  <a:pt x="647" y="1442"/>
                </a:lnTo>
                <a:lnTo>
                  <a:pt x="615" y="1410"/>
                </a:lnTo>
                <a:lnTo>
                  <a:pt x="615" y="1410"/>
                </a:lnTo>
                <a:lnTo>
                  <a:pt x="615" y="1410"/>
                </a:lnTo>
                <a:lnTo>
                  <a:pt x="584" y="1377"/>
                </a:lnTo>
                <a:lnTo>
                  <a:pt x="584" y="1377"/>
                </a:lnTo>
                <a:lnTo>
                  <a:pt x="584" y="1377"/>
                </a:lnTo>
                <a:lnTo>
                  <a:pt x="553" y="1343"/>
                </a:lnTo>
                <a:lnTo>
                  <a:pt x="553" y="1343"/>
                </a:lnTo>
                <a:lnTo>
                  <a:pt x="553" y="1343"/>
                </a:lnTo>
                <a:lnTo>
                  <a:pt x="523" y="1309"/>
                </a:lnTo>
                <a:lnTo>
                  <a:pt x="523" y="1309"/>
                </a:lnTo>
                <a:lnTo>
                  <a:pt x="523" y="1309"/>
                </a:lnTo>
                <a:lnTo>
                  <a:pt x="494" y="1276"/>
                </a:lnTo>
                <a:lnTo>
                  <a:pt x="494" y="1276"/>
                </a:lnTo>
                <a:lnTo>
                  <a:pt x="494" y="1276"/>
                </a:lnTo>
                <a:lnTo>
                  <a:pt x="465" y="1242"/>
                </a:lnTo>
                <a:lnTo>
                  <a:pt x="465" y="1242"/>
                </a:lnTo>
                <a:lnTo>
                  <a:pt x="465" y="1242"/>
                </a:lnTo>
                <a:lnTo>
                  <a:pt x="436" y="1206"/>
                </a:lnTo>
                <a:lnTo>
                  <a:pt x="436" y="1206"/>
                </a:lnTo>
                <a:lnTo>
                  <a:pt x="436" y="1206"/>
                </a:lnTo>
                <a:lnTo>
                  <a:pt x="409" y="1171"/>
                </a:lnTo>
                <a:lnTo>
                  <a:pt x="409" y="1171"/>
                </a:lnTo>
                <a:lnTo>
                  <a:pt x="409" y="1171"/>
                </a:lnTo>
                <a:lnTo>
                  <a:pt x="384" y="1135"/>
                </a:lnTo>
                <a:lnTo>
                  <a:pt x="384" y="1135"/>
                </a:lnTo>
                <a:lnTo>
                  <a:pt x="384" y="1135"/>
                </a:lnTo>
                <a:lnTo>
                  <a:pt x="358" y="1099"/>
                </a:lnTo>
                <a:lnTo>
                  <a:pt x="358" y="1099"/>
                </a:lnTo>
                <a:lnTo>
                  <a:pt x="358" y="1099"/>
                </a:lnTo>
                <a:lnTo>
                  <a:pt x="333" y="1063"/>
                </a:lnTo>
                <a:lnTo>
                  <a:pt x="333" y="1063"/>
                </a:lnTo>
                <a:lnTo>
                  <a:pt x="333" y="1063"/>
                </a:lnTo>
                <a:lnTo>
                  <a:pt x="309" y="1027"/>
                </a:lnTo>
                <a:lnTo>
                  <a:pt x="309" y="1027"/>
                </a:lnTo>
                <a:lnTo>
                  <a:pt x="309" y="1027"/>
                </a:lnTo>
                <a:lnTo>
                  <a:pt x="286" y="989"/>
                </a:lnTo>
                <a:lnTo>
                  <a:pt x="286" y="989"/>
                </a:lnTo>
                <a:lnTo>
                  <a:pt x="286" y="989"/>
                </a:lnTo>
                <a:lnTo>
                  <a:pt x="264" y="953"/>
                </a:lnTo>
                <a:lnTo>
                  <a:pt x="264" y="953"/>
                </a:lnTo>
                <a:lnTo>
                  <a:pt x="264" y="953"/>
                </a:lnTo>
                <a:lnTo>
                  <a:pt x="243" y="915"/>
                </a:lnTo>
                <a:lnTo>
                  <a:pt x="243" y="915"/>
                </a:lnTo>
                <a:lnTo>
                  <a:pt x="243" y="915"/>
                </a:lnTo>
                <a:lnTo>
                  <a:pt x="223" y="877"/>
                </a:lnTo>
                <a:lnTo>
                  <a:pt x="223" y="877"/>
                </a:lnTo>
                <a:lnTo>
                  <a:pt x="223" y="877"/>
                </a:lnTo>
                <a:lnTo>
                  <a:pt x="203" y="839"/>
                </a:lnTo>
                <a:lnTo>
                  <a:pt x="203" y="839"/>
                </a:lnTo>
                <a:lnTo>
                  <a:pt x="203" y="839"/>
                </a:lnTo>
                <a:lnTo>
                  <a:pt x="185" y="801"/>
                </a:lnTo>
                <a:lnTo>
                  <a:pt x="185" y="801"/>
                </a:lnTo>
                <a:lnTo>
                  <a:pt x="185" y="801"/>
                </a:lnTo>
                <a:lnTo>
                  <a:pt x="167" y="763"/>
                </a:lnTo>
                <a:lnTo>
                  <a:pt x="167" y="763"/>
                </a:lnTo>
                <a:lnTo>
                  <a:pt x="167" y="763"/>
                </a:lnTo>
                <a:lnTo>
                  <a:pt x="150" y="723"/>
                </a:lnTo>
                <a:lnTo>
                  <a:pt x="150" y="723"/>
                </a:lnTo>
                <a:lnTo>
                  <a:pt x="150" y="723"/>
                </a:lnTo>
                <a:lnTo>
                  <a:pt x="134" y="685"/>
                </a:lnTo>
                <a:lnTo>
                  <a:pt x="134" y="685"/>
                </a:lnTo>
                <a:lnTo>
                  <a:pt x="134" y="685"/>
                </a:lnTo>
                <a:lnTo>
                  <a:pt x="118" y="646"/>
                </a:lnTo>
                <a:lnTo>
                  <a:pt x="118" y="646"/>
                </a:lnTo>
                <a:lnTo>
                  <a:pt x="118" y="646"/>
                </a:lnTo>
                <a:lnTo>
                  <a:pt x="103" y="606"/>
                </a:lnTo>
                <a:lnTo>
                  <a:pt x="103" y="606"/>
                </a:lnTo>
                <a:lnTo>
                  <a:pt x="103" y="606"/>
                </a:lnTo>
                <a:lnTo>
                  <a:pt x="91" y="566"/>
                </a:lnTo>
                <a:lnTo>
                  <a:pt x="91" y="566"/>
                </a:lnTo>
                <a:lnTo>
                  <a:pt x="91" y="566"/>
                </a:lnTo>
                <a:lnTo>
                  <a:pt x="78" y="526"/>
                </a:lnTo>
                <a:lnTo>
                  <a:pt x="78" y="526"/>
                </a:lnTo>
                <a:lnTo>
                  <a:pt x="78" y="526"/>
                </a:lnTo>
                <a:lnTo>
                  <a:pt x="67" y="487"/>
                </a:lnTo>
                <a:lnTo>
                  <a:pt x="67" y="487"/>
                </a:lnTo>
                <a:lnTo>
                  <a:pt x="67" y="487"/>
                </a:lnTo>
                <a:lnTo>
                  <a:pt x="56" y="447"/>
                </a:lnTo>
                <a:lnTo>
                  <a:pt x="56" y="447"/>
                </a:lnTo>
                <a:lnTo>
                  <a:pt x="56" y="447"/>
                </a:lnTo>
                <a:lnTo>
                  <a:pt x="46" y="407"/>
                </a:lnTo>
                <a:lnTo>
                  <a:pt x="46" y="407"/>
                </a:lnTo>
                <a:lnTo>
                  <a:pt x="46" y="407"/>
                </a:lnTo>
                <a:lnTo>
                  <a:pt x="38" y="366"/>
                </a:lnTo>
                <a:lnTo>
                  <a:pt x="38" y="366"/>
                </a:lnTo>
                <a:lnTo>
                  <a:pt x="38" y="366"/>
                </a:lnTo>
                <a:lnTo>
                  <a:pt x="29" y="326"/>
                </a:lnTo>
                <a:lnTo>
                  <a:pt x="29" y="326"/>
                </a:lnTo>
                <a:lnTo>
                  <a:pt x="29" y="326"/>
                </a:lnTo>
                <a:lnTo>
                  <a:pt x="22" y="286"/>
                </a:lnTo>
                <a:lnTo>
                  <a:pt x="22" y="286"/>
                </a:lnTo>
                <a:lnTo>
                  <a:pt x="22" y="286"/>
                </a:lnTo>
                <a:lnTo>
                  <a:pt x="17" y="244"/>
                </a:lnTo>
                <a:lnTo>
                  <a:pt x="17" y="244"/>
                </a:lnTo>
                <a:lnTo>
                  <a:pt x="17" y="244"/>
                </a:lnTo>
                <a:lnTo>
                  <a:pt x="11" y="205"/>
                </a:lnTo>
                <a:lnTo>
                  <a:pt x="11" y="205"/>
                </a:lnTo>
                <a:lnTo>
                  <a:pt x="11" y="205"/>
                </a:lnTo>
                <a:lnTo>
                  <a:pt x="8" y="163"/>
                </a:lnTo>
                <a:lnTo>
                  <a:pt x="8" y="163"/>
                </a:lnTo>
                <a:lnTo>
                  <a:pt x="8" y="163"/>
                </a:lnTo>
                <a:lnTo>
                  <a:pt x="4" y="123"/>
                </a:lnTo>
                <a:lnTo>
                  <a:pt x="4" y="123"/>
                </a:lnTo>
                <a:lnTo>
                  <a:pt x="4" y="123"/>
                </a:lnTo>
                <a:lnTo>
                  <a:pt x="2" y="82"/>
                </a:lnTo>
                <a:lnTo>
                  <a:pt x="2" y="82"/>
                </a:lnTo>
                <a:lnTo>
                  <a:pt x="2" y="82"/>
                </a:lnTo>
                <a:lnTo>
                  <a:pt x="0" y="40"/>
                </a:lnTo>
                <a:lnTo>
                  <a:pt x="0" y="40"/>
                </a:lnTo>
                <a:lnTo>
                  <a:pt x="0" y="40"/>
                </a:lnTo>
                <a:lnTo>
                  <a:pt x="0" y="0"/>
                </a:lnTo>
                <a:lnTo>
                  <a:pt x="0" y="0"/>
                </a:lnTo>
                <a:lnTo>
                  <a:pt x="0" y="561"/>
                </a:lnTo>
                <a:lnTo>
                  <a:pt x="0" y="561"/>
                </a:lnTo>
                <a:lnTo>
                  <a:pt x="0" y="600"/>
                </a:lnTo>
                <a:lnTo>
                  <a:pt x="0" y="600"/>
                </a:lnTo>
                <a:lnTo>
                  <a:pt x="0" y="600"/>
                </a:lnTo>
                <a:lnTo>
                  <a:pt x="2" y="642"/>
                </a:lnTo>
                <a:lnTo>
                  <a:pt x="2" y="642"/>
                </a:lnTo>
                <a:lnTo>
                  <a:pt x="2" y="642"/>
                </a:lnTo>
                <a:lnTo>
                  <a:pt x="4" y="684"/>
                </a:lnTo>
                <a:lnTo>
                  <a:pt x="4" y="684"/>
                </a:lnTo>
                <a:lnTo>
                  <a:pt x="4" y="684"/>
                </a:lnTo>
                <a:lnTo>
                  <a:pt x="8" y="723"/>
                </a:lnTo>
                <a:lnTo>
                  <a:pt x="8" y="723"/>
                </a:lnTo>
                <a:lnTo>
                  <a:pt x="8" y="723"/>
                </a:lnTo>
                <a:lnTo>
                  <a:pt x="11" y="765"/>
                </a:lnTo>
                <a:lnTo>
                  <a:pt x="11" y="765"/>
                </a:lnTo>
                <a:lnTo>
                  <a:pt x="11" y="765"/>
                </a:lnTo>
                <a:lnTo>
                  <a:pt x="17" y="805"/>
                </a:lnTo>
                <a:lnTo>
                  <a:pt x="17" y="805"/>
                </a:lnTo>
                <a:lnTo>
                  <a:pt x="17" y="805"/>
                </a:lnTo>
                <a:lnTo>
                  <a:pt x="22" y="846"/>
                </a:lnTo>
                <a:lnTo>
                  <a:pt x="22" y="846"/>
                </a:lnTo>
                <a:lnTo>
                  <a:pt x="22" y="846"/>
                </a:lnTo>
                <a:lnTo>
                  <a:pt x="29" y="886"/>
                </a:lnTo>
                <a:lnTo>
                  <a:pt x="29" y="886"/>
                </a:lnTo>
                <a:lnTo>
                  <a:pt x="29" y="886"/>
                </a:lnTo>
                <a:lnTo>
                  <a:pt x="38" y="926"/>
                </a:lnTo>
                <a:lnTo>
                  <a:pt x="38" y="926"/>
                </a:lnTo>
                <a:lnTo>
                  <a:pt x="38" y="926"/>
                </a:lnTo>
                <a:lnTo>
                  <a:pt x="46" y="967"/>
                </a:lnTo>
                <a:lnTo>
                  <a:pt x="46" y="967"/>
                </a:lnTo>
                <a:lnTo>
                  <a:pt x="46" y="967"/>
                </a:lnTo>
                <a:lnTo>
                  <a:pt x="56" y="1007"/>
                </a:lnTo>
                <a:lnTo>
                  <a:pt x="56" y="1007"/>
                </a:lnTo>
                <a:lnTo>
                  <a:pt x="56" y="1007"/>
                </a:lnTo>
                <a:lnTo>
                  <a:pt x="67" y="1047"/>
                </a:lnTo>
                <a:lnTo>
                  <a:pt x="67" y="1047"/>
                </a:lnTo>
                <a:lnTo>
                  <a:pt x="67" y="1047"/>
                </a:lnTo>
                <a:lnTo>
                  <a:pt x="78" y="1086"/>
                </a:lnTo>
                <a:lnTo>
                  <a:pt x="78" y="1086"/>
                </a:lnTo>
                <a:lnTo>
                  <a:pt x="78" y="1086"/>
                </a:lnTo>
                <a:lnTo>
                  <a:pt x="91" y="1126"/>
                </a:lnTo>
                <a:lnTo>
                  <a:pt x="91" y="1126"/>
                </a:lnTo>
                <a:lnTo>
                  <a:pt x="91" y="1126"/>
                </a:lnTo>
                <a:lnTo>
                  <a:pt x="103" y="1166"/>
                </a:lnTo>
                <a:lnTo>
                  <a:pt x="103" y="1166"/>
                </a:lnTo>
                <a:lnTo>
                  <a:pt x="103" y="1166"/>
                </a:lnTo>
                <a:lnTo>
                  <a:pt x="118" y="1206"/>
                </a:lnTo>
                <a:lnTo>
                  <a:pt x="118" y="1206"/>
                </a:lnTo>
                <a:lnTo>
                  <a:pt x="118" y="1206"/>
                </a:lnTo>
                <a:lnTo>
                  <a:pt x="134" y="1246"/>
                </a:lnTo>
                <a:lnTo>
                  <a:pt x="134" y="1246"/>
                </a:lnTo>
                <a:lnTo>
                  <a:pt x="134" y="1246"/>
                </a:lnTo>
                <a:lnTo>
                  <a:pt x="150" y="1283"/>
                </a:lnTo>
                <a:lnTo>
                  <a:pt x="150" y="1283"/>
                </a:lnTo>
                <a:lnTo>
                  <a:pt x="150" y="1283"/>
                </a:lnTo>
                <a:lnTo>
                  <a:pt x="167" y="1323"/>
                </a:lnTo>
                <a:lnTo>
                  <a:pt x="167" y="1323"/>
                </a:lnTo>
                <a:lnTo>
                  <a:pt x="167" y="1323"/>
                </a:lnTo>
                <a:lnTo>
                  <a:pt x="185" y="1361"/>
                </a:lnTo>
                <a:lnTo>
                  <a:pt x="185" y="1361"/>
                </a:lnTo>
                <a:lnTo>
                  <a:pt x="185" y="1361"/>
                </a:lnTo>
                <a:lnTo>
                  <a:pt x="203" y="1399"/>
                </a:lnTo>
                <a:lnTo>
                  <a:pt x="203" y="1399"/>
                </a:lnTo>
                <a:lnTo>
                  <a:pt x="203" y="1399"/>
                </a:lnTo>
                <a:lnTo>
                  <a:pt x="223" y="1437"/>
                </a:lnTo>
                <a:lnTo>
                  <a:pt x="223" y="1437"/>
                </a:lnTo>
                <a:lnTo>
                  <a:pt x="223" y="1437"/>
                </a:lnTo>
                <a:lnTo>
                  <a:pt x="243" y="1475"/>
                </a:lnTo>
                <a:lnTo>
                  <a:pt x="243" y="1475"/>
                </a:lnTo>
                <a:lnTo>
                  <a:pt x="243" y="1475"/>
                </a:lnTo>
                <a:lnTo>
                  <a:pt x="264" y="1513"/>
                </a:lnTo>
                <a:lnTo>
                  <a:pt x="264" y="1513"/>
                </a:lnTo>
                <a:lnTo>
                  <a:pt x="264" y="1513"/>
                </a:lnTo>
                <a:lnTo>
                  <a:pt x="286" y="1549"/>
                </a:lnTo>
                <a:lnTo>
                  <a:pt x="286" y="1549"/>
                </a:lnTo>
                <a:lnTo>
                  <a:pt x="286" y="1549"/>
                </a:lnTo>
                <a:lnTo>
                  <a:pt x="309" y="1587"/>
                </a:lnTo>
                <a:lnTo>
                  <a:pt x="309" y="1587"/>
                </a:lnTo>
                <a:lnTo>
                  <a:pt x="309" y="1587"/>
                </a:lnTo>
                <a:lnTo>
                  <a:pt x="333" y="1623"/>
                </a:lnTo>
                <a:lnTo>
                  <a:pt x="333" y="1623"/>
                </a:lnTo>
                <a:lnTo>
                  <a:pt x="333" y="1623"/>
                </a:lnTo>
                <a:lnTo>
                  <a:pt x="358" y="1659"/>
                </a:lnTo>
                <a:lnTo>
                  <a:pt x="358" y="1659"/>
                </a:lnTo>
                <a:lnTo>
                  <a:pt x="358" y="1659"/>
                </a:lnTo>
                <a:lnTo>
                  <a:pt x="384" y="1695"/>
                </a:lnTo>
                <a:lnTo>
                  <a:pt x="384" y="1695"/>
                </a:lnTo>
                <a:lnTo>
                  <a:pt x="384" y="1695"/>
                </a:lnTo>
                <a:lnTo>
                  <a:pt x="409" y="1732"/>
                </a:lnTo>
                <a:lnTo>
                  <a:pt x="409" y="1732"/>
                </a:lnTo>
                <a:lnTo>
                  <a:pt x="409" y="1732"/>
                </a:lnTo>
                <a:lnTo>
                  <a:pt x="436" y="1766"/>
                </a:lnTo>
                <a:lnTo>
                  <a:pt x="436" y="1766"/>
                </a:lnTo>
                <a:lnTo>
                  <a:pt x="436" y="1766"/>
                </a:lnTo>
                <a:lnTo>
                  <a:pt x="465" y="1802"/>
                </a:lnTo>
                <a:lnTo>
                  <a:pt x="465" y="1802"/>
                </a:lnTo>
                <a:lnTo>
                  <a:pt x="465" y="1802"/>
                </a:lnTo>
                <a:lnTo>
                  <a:pt x="494" y="1836"/>
                </a:lnTo>
                <a:lnTo>
                  <a:pt x="494" y="1836"/>
                </a:lnTo>
                <a:lnTo>
                  <a:pt x="494" y="1836"/>
                </a:lnTo>
                <a:lnTo>
                  <a:pt x="523" y="1869"/>
                </a:lnTo>
                <a:lnTo>
                  <a:pt x="523" y="1869"/>
                </a:lnTo>
                <a:lnTo>
                  <a:pt x="523" y="1869"/>
                </a:lnTo>
                <a:lnTo>
                  <a:pt x="553" y="1903"/>
                </a:lnTo>
                <a:lnTo>
                  <a:pt x="553" y="1903"/>
                </a:lnTo>
                <a:lnTo>
                  <a:pt x="553" y="1903"/>
                </a:lnTo>
                <a:lnTo>
                  <a:pt x="584" y="1938"/>
                </a:lnTo>
                <a:lnTo>
                  <a:pt x="584" y="1938"/>
                </a:lnTo>
                <a:lnTo>
                  <a:pt x="584" y="1938"/>
                </a:lnTo>
                <a:lnTo>
                  <a:pt x="615" y="1970"/>
                </a:lnTo>
                <a:lnTo>
                  <a:pt x="615" y="1970"/>
                </a:lnTo>
                <a:lnTo>
                  <a:pt x="615" y="1970"/>
                </a:lnTo>
                <a:lnTo>
                  <a:pt x="647" y="2003"/>
                </a:lnTo>
                <a:lnTo>
                  <a:pt x="647" y="2003"/>
                </a:lnTo>
                <a:lnTo>
                  <a:pt x="647" y="2003"/>
                </a:lnTo>
                <a:lnTo>
                  <a:pt x="682" y="2033"/>
                </a:lnTo>
                <a:lnTo>
                  <a:pt x="682" y="2033"/>
                </a:lnTo>
                <a:lnTo>
                  <a:pt x="682" y="2033"/>
                </a:lnTo>
                <a:lnTo>
                  <a:pt x="714" y="2066"/>
                </a:lnTo>
                <a:lnTo>
                  <a:pt x="714" y="2066"/>
                </a:lnTo>
                <a:lnTo>
                  <a:pt x="714" y="2066"/>
                </a:lnTo>
                <a:lnTo>
                  <a:pt x="750" y="2097"/>
                </a:lnTo>
                <a:lnTo>
                  <a:pt x="750" y="2097"/>
                </a:lnTo>
                <a:lnTo>
                  <a:pt x="750" y="2097"/>
                </a:lnTo>
                <a:lnTo>
                  <a:pt x="785" y="2127"/>
                </a:lnTo>
                <a:lnTo>
                  <a:pt x="785" y="2127"/>
                </a:lnTo>
                <a:lnTo>
                  <a:pt x="785" y="2127"/>
                </a:lnTo>
                <a:lnTo>
                  <a:pt x="821" y="2158"/>
                </a:lnTo>
                <a:lnTo>
                  <a:pt x="821" y="2158"/>
                </a:lnTo>
                <a:lnTo>
                  <a:pt x="821" y="2158"/>
                </a:lnTo>
                <a:lnTo>
                  <a:pt x="857" y="2187"/>
                </a:lnTo>
                <a:lnTo>
                  <a:pt x="857" y="2187"/>
                </a:lnTo>
                <a:lnTo>
                  <a:pt x="857" y="2187"/>
                </a:lnTo>
                <a:lnTo>
                  <a:pt x="895" y="2216"/>
                </a:lnTo>
                <a:lnTo>
                  <a:pt x="895" y="2216"/>
                </a:lnTo>
                <a:lnTo>
                  <a:pt x="895" y="2216"/>
                </a:lnTo>
                <a:lnTo>
                  <a:pt x="933" y="2245"/>
                </a:lnTo>
                <a:lnTo>
                  <a:pt x="933" y="2245"/>
                </a:lnTo>
                <a:lnTo>
                  <a:pt x="933" y="2245"/>
                </a:lnTo>
                <a:lnTo>
                  <a:pt x="973" y="2274"/>
                </a:lnTo>
                <a:lnTo>
                  <a:pt x="973" y="2274"/>
                </a:lnTo>
                <a:lnTo>
                  <a:pt x="973" y="2274"/>
                </a:lnTo>
                <a:lnTo>
                  <a:pt x="1011" y="2301"/>
                </a:lnTo>
                <a:lnTo>
                  <a:pt x="1011" y="2301"/>
                </a:lnTo>
                <a:lnTo>
                  <a:pt x="1011" y="2301"/>
                </a:lnTo>
                <a:lnTo>
                  <a:pt x="1052" y="2328"/>
                </a:lnTo>
                <a:lnTo>
                  <a:pt x="1052" y="2328"/>
                </a:lnTo>
                <a:lnTo>
                  <a:pt x="1052" y="2328"/>
                </a:lnTo>
                <a:lnTo>
                  <a:pt x="1092" y="2355"/>
                </a:lnTo>
                <a:lnTo>
                  <a:pt x="1092" y="2355"/>
                </a:lnTo>
                <a:lnTo>
                  <a:pt x="1092" y="2355"/>
                </a:lnTo>
                <a:lnTo>
                  <a:pt x="1133" y="2380"/>
                </a:lnTo>
                <a:lnTo>
                  <a:pt x="1133" y="2380"/>
                </a:lnTo>
                <a:lnTo>
                  <a:pt x="1133" y="2380"/>
                </a:lnTo>
                <a:lnTo>
                  <a:pt x="1175" y="2406"/>
                </a:lnTo>
                <a:lnTo>
                  <a:pt x="1175" y="2406"/>
                </a:lnTo>
                <a:lnTo>
                  <a:pt x="1175" y="2406"/>
                </a:lnTo>
                <a:lnTo>
                  <a:pt x="1217" y="2431"/>
                </a:lnTo>
                <a:lnTo>
                  <a:pt x="1217" y="2431"/>
                </a:lnTo>
                <a:lnTo>
                  <a:pt x="1217" y="2431"/>
                </a:lnTo>
                <a:lnTo>
                  <a:pt x="1260" y="2454"/>
                </a:lnTo>
                <a:lnTo>
                  <a:pt x="1260" y="2454"/>
                </a:lnTo>
                <a:lnTo>
                  <a:pt x="1260" y="2454"/>
                </a:lnTo>
                <a:lnTo>
                  <a:pt x="1303" y="2478"/>
                </a:lnTo>
                <a:lnTo>
                  <a:pt x="1303" y="2478"/>
                </a:lnTo>
                <a:lnTo>
                  <a:pt x="1303" y="2478"/>
                </a:lnTo>
                <a:lnTo>
                  <a:pt x="1347" y="2501"/>
                </a:lnTo>
                <a:lnTo>
                  <a:pt x="1347" y="2501"/>
                </a:lnTo>
                <a:lnTo>
                  <a:pt x="1347" y="2501"/>
                </a:lnTo>
                <a:lnTo>
                  <a:pt x="1392" y="2525"/>
                </a:lnTo>
                <a:lnTo>
                  <a:pt x="1392" y="2525"/>
                </a:lnTo>
                <a:lnTo>
                  <a:pt x="1392" y="2525"/>
                </a:lnTo>
                <a:lnTo>
                  <a:pt x="1437" y="2547"/>
                </a:lnTo>
                <a:lnTo>
                  <a:pt x="1437" y="2547"/>
                </a:lnTo>
                <a:lnTo>
                  <a:pt x="1437" y="2547"/>
                </a:lnTo>
                <a:lnTo>
                  <a:pt x="1482" y="2568"/>
                </a:lnTo>
                <a:lnTo>
                  <a:pt x="1482" y="2568"/>
                </a:lnTo>
                <a:lnTo>
                  <a:pt x="1482" y="2568"/>
                </a:lnTo>
                <a:lnTo>
                  <a:pt x="1527" y="2588"/>
                </a:lnTo>
                <a:lnTo>
                  <a:pt x="1527" y="2588"/>
                </a:lnTo>
                <a:lnTo>
                  <a:pt x="1527" y="2588"/>
                </a:lnTo>
                <a:lnTo>
                  <a:pt x="1574" y="2608"/>
                </a:lnTo>
                <a:lnTo>
                  <a:pt x="1574" y="2608"/>
                </a:lnTo>
                <a:lnTo>
                  <a:pt x="1574" y="2608"/>
                </a:lnTo>
                <a:lnTo>
                  <a:pt x="1621" y="2628"/>
                </a:lnTo>
                <a:lnTo>
                  <a:pt x="1621" y="2628"/>
                </a:lnTo>
                <a:lnTo>
                  <a:pt x="1621" y="2628"/>
                </a:lnTo>
                <a:lnTo>
                  <a:pt x="1668" y="2648"/>
                </a:lnTo>
                <a:lnTo>
                  <a:pt x="1668" y="2648"/>
                </a:lnTo>
                <a:lnTo>
                  <a:pt x="1668" y="2648"/>
                </a:lnTo>
                <a:lnTo>
                  <a:pt x="1717" y="2666"/>
                </a:lnTo>
                <a:lnTo>
                  <a:pt x="1717" y="2666"/>
                </a:lnTo>
                <a:lnTo>
                  <a:pt x="1717" y="2666"/>
                </a:lnTo>
                <a:lnTo>
                  <a:pt x="1764" y="2682"/>
                </a:lnTo>
                <a:lnTo>
                  <a:pt x="1764" y="2682"/>
                </a:lnTo>
                <a:lnTo>
                  <a:pt x="1764" y="2682"/>
                </a:lnTo>
                <a:lnTo>
                  <a:pt x="1813" y="2700"/>
                </a:lnTo>
                <a:lnTo>
                  <a:pt x="1813" y="2700"/>
                </a:lnTo>
                <a:lnTo>
                  <a:pt x="1813" y="2700"/>
                </a:lnTo>
                <a:lnTo>
                  <a:pt x="1862" y="2716"/>
                </a:lnTo>
                <a:lnTo>
                  <a:pt x="1862" y="2716"/>
                </a:lnTo>
                <a:lnTo>
                  <a:pt x="1862" y="2716"/>
                </a:lnTo>
                <a:lnTo>
                  <a:pt x="1912" y="2731"/>
                </a:lnTo>
                <a:lnTo>
                  <a:pt x="1912" y="2731"/>
                </a:lnTo>
                <a:lnTo>
                  <a:pt x="1912" y="2731"/>
                </a:lnTo>
                <a:lnTo>
                  <a:pt x="1961" y="2747"/>
                </a:lnTo>
                <a:lnTo>
                  <a:pt x="1961" y="2747"/>
                </a:lnTo>
                <a:lnTo>
                  <a:pt x="1961" y="2747"/>
                </a:lnTo>
                <a:lnTo>
                  <a:pt x="2012" y="2762"/>
                </a:lnTo>
                <a:lnTo>
                  <a:pt x="2012" y="2762"/>
                </a:lnTo>
                <a:lnTo>
                  <a:pt x="2012" y="2762"/>
                </a:lnTo>
                <a:lnTo>
                  <a:pt x="2062" y="2774"/>
                </a:lnTo>
                <a:lnTo>
                  <a:pt x="2062" y="2774"/>
                </a:lnTo>
                <a:lnTo>
                  <a:pt x="2062" y="2774"/>
                </a:lnTo>
                <a:lnTo>
                  <a:pt x="2113" y="2787"/>
                </a:lnTo>
                <a:lnTo>
                  <a:pt x="2113" y="2787"/>
                </a:lnTo>
                <a:lnTo>
                  <a:pt x="2113" y="2787"/>
                </a:lnTo>
                <a:lnTo>
                  <a:pt x="2163" y="2800"/>
                </a:lnTo>
                <a:lnTo>
                  <a:pt x="2163" y="2800"/>
                </a:lnTo>
                <a:lnTo>
                  <a:pt x="2163" y="2800"/>
                </a:lnTo>
                <a:lnTo>
                  <a:pt x="2214" y="2812"/>
                </a:lnTo>
                <a:lnTo>
                  <a:pt x="2214" y="2812"/>
                </a:lnTo>
                <a:lnTo>
                  <a:pt x="2214" y="2252"/>
                </a:lnTo>
                <a:close/>
              </a:path>
            </a:pathLst>
          </a:custGeom>
          <a:solidFill>
            <a:srgbClr val="330033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951200" y="3594240"/>
            <a:ext cx="2425680" cy="1785960"/>
          </a:xfrm>
          <a:custGeom>
            <a:avLst/>
            <a:gdLst/>
            <a:ahLst/>
            <a:rect l="l" t="t" r="r" b="b"/>
            <a:pathLst>
              <a:path w="3056" h="2252">
                <a:moveTo>
                  <a:pt x="2214" y="2252"/>
                </a:moveTo>
                <a:lnTo>
                  <a:pt x="2214" y="2252"/>
                </a:lnTo>
                <a:lnTo>
                  <a:pt x="2163" y="2239"/>
                </a:lnTo>
                <a:lnTo>
                  <a:pt x="2163" y="2239"/>
                </a:lnTo>
                <a:lnTo>
                  <a:pt x="2163" y="2239"/>
                </a:lnTo>
                <a:lnTo>
                  <a:pt x="2113" y="2227"/>
                </a:lnTo>
                <a:lnTo>
                  <a:pt x="2113" y="2227"/>
                </a:lnTo>
                <a:lnTo>
                  <a:pt x="2113" y="2227"/>
                </a:lnTo>
                <a:lnTo>
                  <a:pt x="2062" y="2214"/>
                </a:lnTo>
                <a:lnTo>
                  <a:pt x="2062" y="2214"/>
                </a:lnTo>
                <a:lnTo>
                  <a:pt x="2062" y="2214"/>
                </a:lnTo>
                <a:lnTo>
                  <a:pt x="2012" y="2201"/>
                </a:lnTo>
                <a:lnTo>
                  <a:pt x="2012" y="2201"/>
                </a:lnTo>
                <a:lnTo>
                  <a:pt x="2012" y="2201"/>
                </a:lnTo>
                <a:lnTo>
                  <a:pt x="1961" y="2187"/>
                </a:lnTo>
                <a:lnTo>
                  <a:pt x="1961" y="2187"/>
                </a:lnTo>
                <a:lnTo>
                  <a:pt x="1961" y="2187"/>
                </a:lnTo>
                <a:lnTo>
                  <a:pt x="1912" y="2171"/>
                </a:lnTo>
                <a:lnTo>
                  <a:pt x="1912" y="2171"/>
                </a:lnTo>
                <a:lnTo>
                  <a:pt x="1912" y="2171"/>
                </a:lnTo>
                <a:lnTo>
                  <a:pt x="1862" y="2156"/>
                </a:lnTo>
                <a:lnTo>
                  <a:pt x="1862" y="2156"/>
                </a:lnTo>
                <a:lnTo>
                  <a:pt x="1862" y="2156"/>
                </a:lnTo>
                <a:lnTo>
                  <a:pt x="1813" y="2140"/>
                </a:lnTo>
                <a:lnTo>
                  <a:pt x="1813" y="2140"/>
                </a:lnTo>
                <a:lnTo>
                  <a:pt x="1813" y="2140"/>
                </a:lnTo>
                <a:lnTo>
                  <a:pt x="1764" y="2122"/>
                </a:lnTo>
                <a:lnTo>
                  <a:pt x="1764" y="2122"/>
                </a:lnTo>
                <a:lnTo>
                  <a:pt x="1764" y="2122"/>
                </a:lnTo>
                <a:lnTo>
                  <a:pt x="1717" y="2106"/>
                </a:lnTo>
                <a:lnTo>
                  <a:pt x="1717" y="2106"/>
                </a:lnTo>
                <a:lnTo>
                  <a:pt x="1717" y="2106"/>
                </a:lnTo>
                <a:lnTo>
                  <a:pt x="1668" y="2088"/>
                </a:lnTo>
                <a:lnTo>
                  <a:pt x="1668" y="2088"/>
                </a:lnTo>
                <a:lnTo>
                  <a:pt x="1668" y="2088"/>
                </a:lnTo>
                <a:lnTo>
                  <a:pt x="1621" y="2068"/>
                </a:lnTo>
                <a:lnTo>
                  <a:pt x="1621" y="2068"/>
                </a:lnTo>
                <a:lnTo>
                  <a:pt x="1621" y="2068"/>
                </a:lnTo>
                <a:lnTo>
                  <a:pt x="1574" y="2048"/>
                </a:lnTo>
                <a:lnTo>
                  <a:pt x="1574" y="2048"/>
                </a:lnTo>
                <a:lnTo>
                  <a:pt x="1574" y="2048"/>
                </a:lnTo>
                <a:lnTo>
                  <a:pt x="1527" y="2028"/>
                </a:lnTo>
                <a:lnTo>
                  <a:pt x="1527" y="2028"/>
                </a:lnTo>
                <a:lnTo>
                  <a:pt x="1527" y="2028"/>
                </a:lnTo>
                <a:lnTo>
                  <a:pt x="1482" y="2008"/>
                </a:lnTo>
                <a:lnTo>
                  <a:pt x="1482" y="2008"/>
                </a:lnTo>
                <a:lnTo>
                  <a:pt x="1482" y="2008"/>
                </a:lnTo>
                <a:lnTo>
                  <a:pt x="1437" y="1986"/>
                </a:lnTo>
                <a:lnTo>
                  <a:pt x="1437" y="1986"/>
                </a:lnTo>
                <a:lnTo>
                  <a:pt x="1437" y="1986"/>
                </a:lnTo>
                <a:lnTo>
                  <a:pt x="1392" y="1965"/>
                </a:lnTo>
                <a:lnTo>
                  <a:pt x="1392" y="1965"/>
                </a:lnTo>
                <a:lnTo>
                  <a:pt x="1392" y="1965"/>
                </a:lnTo>
                <a:lnTo>
                  <a:pt x="1347" y="1941"/>
                </a:lnTo>
                <a:lnTo>
                  <a:pt x="1347" y="1941"/>
                </a:lnTo>
                <a:lnTo>
                  <a:pt x="1347" y="1941"/>
                </a:lnTo>
                <a:lnTo>
                  <a:pt x="1303" y="1918"/>
                </a:lnTo>
                <a:lnTo>
                  <a:pt x="1303" y="1918"/>
                </a:lnTo>
                <a:lnTo>
                  <a:pt x="1303" y="1918"/>
                </a:lnTo>
                <a:lnTo>
                  <a:pt x="1260" y="1894"/>
                </a:lnTo>
                <a:lnTo>
                  <a:pt x="1260" y="1894"/>
                </a:lnTo>
                <a:lnTo>
                  <a:pt x="1260" y="1894"/>
                </a:lnTo>
                <a:lnTo>
                  <a:pt x="1217" y="1871"/>
                </a:lnTo>
                <a:lnTo>
                  <a:pt x="1217" y="1871"/>
                </a:lnTo>
                <a:lnTo>
                  <a:pt x="1217" y="1871"/>
                </a:lnTo>
                <a:lnTo>
                  <a:pt x="1175" y="1845"/>
                </a:lnTo>
                <a:lnTo>
                  <a:pt x="1175" y="1845"/>
                </a:lnTo>
                <a:lnTo>
                  <a:pt x="1175" y="1845"/>
                </a:lnTo>
                <a:lnTo>
                  <a:pt x="1133" y="1820"/>
                </a:lnTo>
                <a:lnTo>
                  <a:pt x="1133" y="1820"/>
                </a:lnTo>
                <a:lnTo>
                  <a:pt x="1133" y="1820"/>
                </a:lnTo>
                <a:lnTo>
                  <a:pt x="1092" y="1795"/>
                </a:lnTo>
                <a:lnTo>
                  <a:pt x="1092" y="1795"/>
                </a:lnTo>
                <a:lnTo>
                  <a:pt x="1092" y="1795"/>
                </a:lnTo>
                <a:lnTo>
                  <a:pt x="1052" y="1768"/>
                </a:lnTo>
                <a:lnTo>
                  <a:pt x="1052" y="1768"/>
                </a:lnTo>
                <a:lnTo>
                  <a:pt x="1052" y="1768"/>
                </a:lnTo>
                <a:lnTo>
                  <a:pt x="1011" y="1741"/>
                </a:lnTo>
                <a:lnTo>
                  <a:pt x="1011" y="1741"/>
                </a:lnTo>
                <a:lnTo>
                  <a:pt x="1011" y="1741"/>
                </a:lnTo>
                <a:lnTo>
                  <a:pt x="973" y="1714"/>
                </a:lnTo>
                <a:lnTo>
                  <a:pt x="973" y="1714"/>
                </a:lnTo>
                <a:lnTo>
                  <a:pt x="973" y="1714"/>
                </a:lnTo>
                <a:lnTo>
                  <a:pt x="933" y="1685"/>
                </a:lnTo>
                <a:lnTo>
                  <a:pt x="933" y="1685"/>
                </a:lnTo>
                <a:lnTo>
                  <a:pt x="933" y="1685"/>
                </a:lnTo>
                <a:lnTo>
                  <a:pt x="895" y="1656"/>
                </a:lnTo>
                <a:lnTo>
                  <a:pt x="895" y="1656"/>
                </a:lnTo>
                <a:lnTo>
                  <a:pt x="895" y="1656"/>
                </a:lnTo>
                <a:lnTo>
                  <a:pt x="857" y="1627"/>
                </a:lnTo>
                <a:lnTo>
                  <a:pt x="857" y="1627"/>
                </a:lnTo>
                <a:lnTo>
                  <a:pt x="857" y="1627"/>
                </a:lnTo>
                <a:lnTo>
                  <a:pt x="821" y="1598"/>
                </a:lnTo>
                <a:lnTo>
                  <a:pt x="821" y="1598"/>
                </a:lnTo>
                <a:lnTo>
                  <a:pt x="821" y="1598"/>
                </a:lnTo>
                <a:lnTo>
                  <a:pt x="785" y="1567"/>
                </a:lnTo>
                <a:lnTo>
                  <a:pt x="785" y="1567"/>
                </a:lnTo>
                <a:lnTo>
                  <a:pt x="785" y="1567"/>
                </a:lnTo>
                <a:lnTo>
                  <a:pt x="750" y="1536"/>
                </a:lnTo>
                <a:lnTo>
                  <a:pt x="750" y="1536"/>
                </a:lnTo>
                <a:lnTo>
                  <a:pt x="750" y="1536"/>
                </a:lnTo>
                <a:lnTo>
                  <a:pt x="714" y="1506"/>
                </a:lnTo>
                <a:lnTo>
                  <a:pt x="714" y="1506"/>
                </a:lnTo>
                <a:lnTo>
                  <a:pt x="714" y="1506"/>
                </a:lnTo>
                <a:lnTo>
                  <a:pt x="682" y="1473"/>
                </a:lnTo>
                <a:lnTo>
                  <a:pt x="682" y="1473"/>
                </a:lnTo>
                <a:lnTo>
                  <a:pt x="682" y="1473"/>
                </a:lnTo>
                <a:lnTo>
                  <a:pt x="647" y="1442"/>
                </a:lnTo>
                <a:lnTo>
                  <a:pt x="647" y="1442"/>
                </a:lnTo>
                <a:lnTo>
                  <a:pt x="647" y="1442"/>
                </a:lnTo>
                <a:lnTo>
                  <a:pt x="615" y="1410"/>
                </a:lnTo>
                <a:lnTo>
                  <a:pt x="615" y="1410"/>
                </a:lnTo>
                <a:lnTo>
                  <a:pt x="615" y="1410"/>
                </a:lnTo>
                <a:lnTo>
                  <a:pt x="584" y="1377"/>
                </a:lnTo>
                <a:lnTo>
                  <a:pt x="584" y="1377"/>
                </a:lnTo>
                <a:lnTo>
                  <a:pt x="584" y="1377"/>
                </a:lnTo>
                <a:lnTo>
                  <a:pt x="553" y="1343"/>
                </a:lnTo>
                <a:lnTo>
                  <a:pt x="553" y="1343"/>
                </a:lnTo>
                <a:lnTo>
                  <a:pt x="553" y="1343"/>
                </a:lnTo>
                <a:lnTo>
                  <a:pt x="523" y="1309"/>
                </a:lnTo>
                <a:lnTo>
                  <a:pt x="523" y="1309"/>
                </a:lnTo>
                <a:lnTo>
                  <a:pt x="523" y="1309"/>
                </a:lnTo>
                <a:lnTo>
                  <a:pt x="494" y="1276"/>
                </a:lnTo>
                <a:lnTo>
                  <a:pt x="494" y="1276"/>
                </a:lnTo>
                <a:lnTo>
                  <a:pt x="494" y="1276"/>
                </a:lnTo>
                <a:lnTo>
                  <a:pt x="465" y="1242"/>
                </a:lnTo>
                <a:lnTo>
                  <a:pt x="465" y="1242"/>
                </a:lnTo>
                <a:lnTo>
                  <a:pt x="465" y="1242"/>
                </a:lnTo>
                <a:lnTo>
                  <a:pt x="436" y="1206"/>
                </a:lnTo>
                <a:lnTo>
                  <a:pt x="436" y="1206"/>
                </a:lnTo>
                <a:lnTo>
                  <a:pt x="436" y="1206"/>
                </a:lnTo>
                <a:lnTo>
                  <a:pt x="409" y="1171"/>
                </a:lnTo>
                <a:lnTo>
                  <a:pt x="409" y="1171"/>
                </a:lnTo>
                <a:lnTo>
                  <a:pt x="409" y="1171"/>
                </a:lnTo>
                <a:lnTo>
                  <a:pt x="384" y="1135"/>
                </a:lnTo>
                <a:lnTo>
                  <a:pt x="384" y="1135"/>
                </a:lnTo>
                <a:lnTo>
                  <a:pt x="384" y="1135"/>
                </a:lnTo>
                <a:lnTo>
                  <a:pt x="358" y="1099"/>
                </a:lnTo>
                <a:lnTo>
                  <a:pt x="358" y="1099"/>
                </a:lnTo>
                <a:lnTo>
                  <a:pt x="358" y="1099"/>
                </a:lnTo>
                <a:lnTo>
                  <a:pt x="333" y="1063"/>
                </a:lnTo>
                <a:lnTo>
                  <a:pt x="333" y="1063"/>
                </a:lnTo>
                <a:lnTo>
                  <a:pt x="333" y="1063"/>
                </a:lnTo>
                <a:lnTo>
                  <a:pt x="309" y="1027"/>
                </a:lnTo>
                <a:lnTo>
                  <a:pt x="309" y="1027"/>
                </a:lnTo>
                <a:lnTo>
                  <a:pt x="309" y="1027"/>
                </a:lnTo>
                <a:lnTo>
                  <a:pt x="286" y="989"/>
                </a:lnTo>
                <a:lnTo>
                  <a:pt x="286" y="989"/>
                </a:lnTo>
                <a:lnTo>
                  <a:pt x="286" y="989"/>
                </a:lnTo>
                <a:lnTo>
                  <a:pt x="264" y="953"/>
                </a:lnTo>
                <a:lnTo>
                  <a:pt x="264" y="953"/>
                </a:lnTo>
                <a:lnTo>
                  <a:pt x="264" y="953"/>
                </a:lnTo>
                <a:lnTo>
                  <a:pt x="243" y="915"/>
                </a:lnTo>
                <a:lnTo>
                  <a:pt x="243" y="915"/>
                </a:lnTo>
                <a:lnTo>
                  <a:pt x="243" y="915"/>
                </a:lnTo>
                <a:lnTo>
                  <a:pt x="223" y="877"/>
                </a:lnTo>
                <a:lnTo>
                  <a:pt x="223" y="877"/>
                </a:lnTo>
                <a:lnTo>
                  <a:pt x="223" y="877"/>
                </a:lnTo>
                <a:lnTo>
                  <a:pt x="203" y="839"/>
                </a:lnTo>
                <a:lnTo>
                  <a:pt x="203" y="839"/>
                </a:lnTo>
                <a:lnTo>
                  <a:pt x="203" y="839"/>
                </a:lnTo>
                <a:lnTo>
                  <a:pt x="185" y="801"/>
                </a:lnTo>
                <a:lnTo>
                  <a:pt x="185" y="801"/>
                </a:lnTo>
                <a:lnTo>
                  <a:pt x="185" y="801"/>
                </a:lnTo>
                <a:lnTo>
                  <a:pt x="167" y="763"/>
                </a:lnTo>
                <a:lnTo>
                  <a:pt x="167" y="763"/>
                </a:lnTo>
                <a:lnTo>
                  <a:pt x="167" y="763"/>
                </a:lnTo>
                <a:lnTo>
                  <a:pt x="150" y="723"/>
                </a:lnTo>
                <a:lnTo>
                  <a:pt x="150" y="723"/>
                </a:lnTo>
                <a:lnTo>
                  <a:pt x="150" y="723"/>
                </a:lnTo>
                <a:lnTo>
                  <a:pt x="134" y="685"/>
                </a:lnTo>
                <a:lnTo>
                  <a:pt x="134" y="685"/>
                </a:lnTo>
                <a:lnTo>
                  <a:pt x="134" y="685"/>
                </a:lnTo>
                <a:lnTo>
                  <a:pt x="118" y="646"/>
                </a:lnTo>
                <a:lnTo>
                  <a:pt x="118" y="646"/>
                </a:lnTo>
                <a:lnTo>
                  <a:pt x="118" y="646"/>
                </a:lnTo>
                <a:lnTo>
                  <a:pt x="103" y="606"/>
                </a:lnTo>
                <a:lnTo>
                  <a:pt x="103" y="606"/>
                </a:lnTo>
                <a:lnTo>
                  <a:pt x="103" y="606"/>
                </a:lnTo>
                <a:lnTo>
                  <a:pt x="91" y="566"/>
                </a:lnTo>
                <a:lnTo>
                  <a:pt x="91" y="566"/>
                </a:lnTo>
                <a:lnTo>
                  <a:pt x="91" y="566"/>
                </a:lnTo>
                <a:lnTo>
                  <a:pt x="78" y="526"/>
                </a:lnTo>
                <a:lnTo>
                  <a:pt x="78" y="526"/>
                </a:lnTo>
                <a:lnTo>
                  <a:pt x="78" y="526"/>
                </a:lnTo>
                <a:lnTo>
                  <a:pt x="67" y="487"/>
                </a:lnTo>
                <a:lnTo>
                  <a:pt x="67" y="487"/>
                </a:lnTo>
                <a:lnTo>
                  <a:pt x="67" y="487"/>
                </a:lnTo>
                <a:lnTo>
                  <a:pt x="56" y="447"/>
                </a:lnTo>
                <a:lnTo>
                  <a:pt x="56" y="447"/>
                </a:lnTo>
                <a:lnTo>
                  <a:pt x="56" y="447"/>
                </a:lnTo>
                <a:lnTo>
                  <a:pt x="46" y="407"/>
                </a:lnTo>
                <a:lnTo>
                  <a:pt x="46" y="407"/>
                </a:lnTo>
                <a:lnTo>
                  <a:pt x="46" y="407"/>
                </a:lnTo>
                <a:lnTo>
                  <a:pt x="38" y="366"/>
                </a:lnTo>
                <a:lnTo>
                  <a:pt x="38" y="366"/>
                </a:lnTo>
                <a:lnTo>
                  <a:pt x="38" y="366"/>
                </a:lnTo>
                <a:lnTo>
                  <a:pt x="29" y="326"/>
                </a:lnTo>
                <a:lnTo>
                  <a:pt x="29" y="326"/>
                </a:lnTo>
                <a:lnTo>
                  <a:pt x="29" y="326"/>
                </a:lnTo>
                <a:lnTo>
                  <a:pt x="22" y="286"/>
                </a:lnTo>
                <a:lnTo>
                  <a:pt x="22" y="286"/>
                </a:lnTo>
                <a:lnTo>
                  <a:pt x="22" y="286"/>
                </a:lnTo>
                <a:lnTo>
                  <a:pt x="17" y="244"/>
                </a:lnTo>
                <a:lnTo>
                  <a:pt x="17" y="244"/>
                </a:lnTo>
                <a:lnTo>
                  <a:pt x="17" y="244"/>
                </a:lnTo>
                <a:lnTo>
                  <a:pt x="11" y="205"/>
                </a:lnTo>
                <a:lnTo>
                  <a:pt x="11" y="205"/>
                </a:lnTo>
                <a:lnTo>
                  <a:pt x="11" y="205"/>
                </a:lnTo>
                <a:lnTo>
                  <a:pt x="8" y="163"/>
                </a:lnTo>
                <a:lnTo>
                  <a:pt x="8" y="163"/>
                </a:lnTo>
                <a:lnTo>
                  <a:pt x="8" y="163"/>
                </a:lnTo>
                <a:lnTo>
                  <a:pt x="4" y="123"/>
                </a:lnTo>
                <a:lnTo>
                  <a:pt x="4" y="123"/>
                </a:lnTo>
                <a:lnTo>
                  <a:pt x="4" y="123"/>
                </a:lnTo>
                <a:lnTo>
                  <a:pt x="2" y="82"/>
                </a:lnTo>
                <a:lnTo>
                  <a:pt x="2" y="82"/>
                </a:lnTo>
                <a:lnTo>
                  <a:pt x="2" y="82"/>
                </a:lnTo>
                <a:lnTo>
                  <a:pt x="0" y="40"/>
                </a:lnTo>
                <a:lnTo>
                  <a:pt x="0" y="40"/>
                </a:lnTo>
                <a:lnTo>
                  <a:pt x="0" y="40"/>
                </a:lnTo>
                <a:lnTo>
                  <a:pt x="0" y="0"/>
                </a:lnTo>
                <a:lnTo>
                  <a:pt x="0" y="0"/>
                </a:lnTo>
                <a:lnTo>
                  <a:pt x="3056" y="0"/>
                </a:lnTo>
                <a:lnTo>
                  <a:pt x="2214" y="2252"/>
                </a:lnTo>
                <a:close/>
              </a:path>
            </a:pathLst>
          </a:custGeom>
          <a:solidFill>
            <a:srgbClr val="660066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708360" y="3594240"/>
            <a:ext cx="3094200" cy="2303280"/>
          </a:xfrm>
          <a:custGeom>
            <a:avLst/>
            <a:gdLst/>
            <a:ahLst/>
            <a:rect l="l" t="t" r="r" b="b"/>
            <a:pathLst>
              <a:path w="3900" h="2903">
                <a:moveTo>
                  <a:pt x="3900" y="0"/>
                </a:moveTo>
                <a:lnTo>
                  <a:pt x="3900" y="0"/>
                </a:lnTo>
                <a:lnTo>
                  <a:pt x="3898" y="40"/>
                </a:lnTo>
                <a:lnTo>
                  <a:pt x="3898" y="40"/>
                </a:lnTo>
                <a:lnTo>
                  <a:pt x="3898" y="82"/>
                </a:lnTo>
                <a:lnTo>
                  <a:pt x="3898" y="82"/>
                </a:lnTo>
                <a:lnTo>
                  <a:pt x="3894" y="123"/>
                </a:lnTo>
                <a:lnTo>
                  <a:pt x="3894" y="123"/>
                </a:lnTo>
                <a:lnTo>
                  <a:pt x="3894" y="123"/>
                </a:lnTo>
                <a:lnTo>
                  <a:pt x="3892" y="163"/>
                </a:lnTo>
                <a:lnTo>
                  <a:pt x="3892" y="163"/>
                </a:lnTo>
                <a:lnTo>
                  <a:pt x="3887" y="205"/>
                </a:lnTo>
                <a:lnTo>
                  <a:pt x="3887" y="205"/>
                </a:lnTo>
                <a:lnTo>
                  <a:pt x="3882" y="244"/>
                </a:lnTo>
                <a:lnTo>
                  <a:pt x="3882" y="244"/>
                </a:lnTo>
                <a:lnTo>
                  <a:pt x="3882" y="244"/>
                </a:lnTo>
                <a:lnTo>
                  <a:pt x="3876" y="286"/>
                </a:lnTo>
                <a:lnTo>
                  <a:pt x="3876" y="286"/>
                </a:lnTo>
                <a:lnTo>
                  <a:pt x="3869" y="326"/>
                </a:lnTo>
                <a:lnTo>
                  <a:pt x="3869" y="326"/>
                </a:lnTo>
                <a:lnTo>
                  <a:pt x="3869" y="326"/>
                </a:lnTo>
                <a:lnTo>
                  <a:pt x="3862" y="366"/>
                </a:lnTo>
                <a:lnTo>
                  <a:pt x="3862" y="366"/>
                </a:lnTo>
                <a:lnTo>
                  <a:pt x="3853" y="407"/>
                </a:lnTo>
                <a:lnTo>
                  <a:pt x="3853" y="407"/>
                </a:lnTo>
                <a:lnTo>
                  <a:pt x="3844" y="447"/>
                </a:lnTo>
                <a:lnTo>
                  <a:pt x="3844" y="447"/>
                </a:lnTo>
                <a:lnTo>
                  <a:pt x="3844" y="447"/>
                </a:lnTo>
                <a:lnTo>
                  <a:pt x="3833" y="487"/>
                </a:lnTo>
                <a:lnTo>
                  <a:pt x="3833" y="487"/>
                </a:lnTo>
                <a:lnTo>
                  <a:pt x="3820" y="526"/>
                </a:lnTo>
                <a:lnTo>
                  <a:pt x="3820" y="526"/>
                </a:lnTo>
                <a:lnTo>
                  <a:pt x="3809" y="566"/>
                </a:lnTo>
                <a:lnTo>
                  <a:pt x="3809" y="566"/>
                </a:lnTo>
                <a:lnTo>
                  <a:pt x="3809" y="566"/>
                </a:lnTo>
                <a:lnTo>
                  <a:pt x="3795" y="606"/>
                </a:lnTo>
                <a:lnTo>
                  <a:pt x="3795" y="606"/>
                </a:lnTo>
                <a:lnTo>
                  <a:pt x="3780" y="646"/>
                </a:lnTo>
                <a:lnTo>
                  <a:pt x="3780" y="646"/>
                </a:lnTo>
                <a:lnTo>
                  <a:pt x="3766" y="685"/>
                </a:lnTo>
                <a:lnTo>
                  <a:pt x="3766" y="685"/>
                </a:lnTo>
                <a:lnTo>
                  <a:pt x="3766" y="685"/>
                </a:lnTo>
                <a:lnTo>
                  <a:pt x="3750" y="723"/>
                </a:lnTo>
                <a:lnTo>
                  <a:pt x="3750" y="723"/>
                </a:lnTo>
                <a:lnTo>
                  <a:pt x="3733" y="763"/>
                </a:lnTo>
                <a:lnTo>
                  <a:pt x="3733" y="763"/>
                </a:lnTo>
                <a:lnTo>
                  <a:pt x="3715" y="801"/>
                </a:lnTo>
                <a:lnTo>
                  <a:pt x="3715" y="801"/>
                </a:lnTo>
                <a:lnTo>
                  <a:pt x="3715" y="801"/>
                </a:lnTo>
                <a:lnTo>
                  <a:pt x="3696" y="839"/>
                </a:lnTo>
                <a:lnTo>
                  <a:pt x="3696" y="839"/>
                </a:lnTo>
                <a:lnTo>
                  <a:pt x="3677" y="877"/>
                </a:lnTo>
                <a:lnTo>
                  <a:pt x="3677" y="877"/>
                </a:lnTo>
                <a:lnTo>
                  <a:pt x="3677" y="877"/>
                </a:lnTo>
                <a:lnTo>
                  <a:pt x="3656" y="915"/>
                </a:lnTo>
                <a:lnTo>
                  <a:pt x="3656" y="915"/>
                </a:lnTo>
                <a:lnTo>
                  <a:pt x="3636" y="953"/>
                </a:lnTo>
                <a:lnTo>
                  <a:pt x="3636" y="953"/>
                </a:lnTo>
                <a:lnTo>
                  <a:pt x="3612" y="989"/>
                </a:lnTo>
                <a:lnTo>
                  <a:pt x="3612" y="989"/>
                </a:lnTo>
                <a:lnTo>
                  <a:pt x="3612" y="989"/>
                </a:lnTo>
                <a:lnTo>
                  <a:pt x="3591" y="1027"/>
                </a:lnTo>
                <a:lnTo>
                  <a:pt x="3591" y="1027"/>
                </a:lnTo>
                <a:lnTo>
                  <a:pt x="3565" y="1063"/>
                </a:lnTo>
                <a:lnTo>
                  <a:pt x="3565" y="1063"/>
                </a:lnTo>
                <a:lnTo>
                  <a:pt x="3542" y="1099"/>
                </a:lnTo>
                <a:lnTo>
                  <a:pt x="3542" y="1099"/>
                </a:lnTo>
                <a:lnTo>
                  <a:pt x="3542" y="1099"/>
                </a:lnTo>
                <a:lnTo>
                  <a:pt x="3517" y="1135"/>
                </a:lnTo>
                <a:lnTo>
                  <a:pt x="3517" y="1135"/>
                </a:lnTo>
                <a:lnTo>
                  <a:pt x="3490" y="1171"/>
                </a:lnTo>
                <a:lnTo>
                  <a:pt x="3490" y="1171"/>
                </a:lnTo>
                <a:lnTo>
                  <a:pt x="3462" y="1206"/>
                </a:lnTo>
                <a:lnTo>
                  <a:pt x="3462" y="1206"/>
                </a:lnTo>
                <a:lnTo>
                  <a:pt x="3462" y="1206"/>
                </a:lnTo>
                <a:lnTo>
                  <a:pt x="3435" y="1242"/>
                </a:lnTo>
                <a:lnTo>
                  <a:pt x="3435" y="1242"/>
                </a:lnTo>
                <a:lnTo>
                  <a:pt x="3406" y="1276"/>
                </a:lnTo>
                <a:lnTo>
                  <a:pt x="3406" y="1276"/>
                </a:lnTo>
                <a:lnTo>
                  <a:pt x="3406" y="1276"/>
                </a:lnTo>
                <a:lnTo>
                  <a:pt x="3377" y="1309"/>
                </a:lnTo>
                <a:lnTo>
                  <a:pt x="3377" y="1309"/>
                </a:lnTo>
                <a:lnTo>
                  <a:pt x="3347" y="1343"/>
                </a:lnTo>
                <a:lnTo>
                  <a:pt x="3347" y="1343"/>
                </a:lnTo>
                <a:lnTo>
                  <a:pt x="3316" y="1377"/>
                </a:lnTo>
                <a:lnTo>
                  <a:pt x="3316" y="1377"/>
                </a:lnTo>
                <a:lnTo>
                  <a:pt x="3316" y="1377"/>
                </a:lnTo>
                <a:lnTo>
                  <a:pt x="3284" y="1410"/>
                </a:lnTo>
                <a:lnTo>
                  <a:pt x="3284" y="1410"/>
                </a:lnTo>
                <a:lnTo>
                  <a:pt x="3251" y="1442"/>
                </a:lnTo>
                <a:lnTo>
                  <a:pt x="3251" y="1442"/>
                </a:lnTo>
                <a:lnTo>
                  <a:pt x="3218" y="1473"/>
                </a:lnTo>
                <a:lnTo>
                  <a:pt x="3218" y="1473"/>
                </a:lnTo>
                <a:lnTo>
                  <a:pt x="3218" y="1473"/>
                </a:lnTo>
                <a:lnTo>
                  <a:pt x="3184" y="1506"/>
                </a:lnTo>
                <a:lnTo>
                  <a:pt x="3184" y="1506"/>
                </a:lnTo>
                <a:lnTo>
                  <a:pt x="3150" y="1536"/>
                </a:lnTo>
                <a:lnTo>
                  <a:pt x="3150" y="1536"/>
                </a:lnTo>
                <a:lnTo>
                  <a:pt x="3114" y="1567"/>
                </a:lnTo>
                <a:lnTo>
                  <a:pt x="3114" y="1567"/>
                </a:lnTo>
                <a:lnTo>
                  <a:pt x="3114" y="1567"/>
                </a:lnTo>
                <a:lnTo>
                  <a:pt x="3077" y="1598"/>
                </a:lnTo>
                <a:lnTo>
                  <a:pt x="3077" y="1598"/>
                </a:lnTo>
                <a:lnTo>
                  <a:pt x="3041" y="1627"/>
                </a:lnTo>
                <a:lnTo>
                  <a:pt x="3041" y="1627"/>
                </a:lnTo>
                <a:lnTo>
                  <a:pt x="3003" y="1656"/>
                </a:lnTo>
                <a:lnTo>
                  <a:pt x="3003" y="1656"/>
                </a:lnTo>
                <a:lnTo>
                  <a:pt x="3003" y="1656"/>
                </a:lnTo>
                <a:lnTo>
                  <a:pt x="2965" y="1685"/>
                </a:lnTo>
                <a:lnTo>
                  <a:pt x="2965" y="1685"/>
                </a:lnTo>
                <a:lnTo>
                  <a:pt x="2928" y="1714"/>
                </a:lnTo>
                <a:lnTo>
                  <a:pt x="2928" y="1714"/>
                </a:lnTo>
                <a:lnTo>
                  <a:pt x="2928" y="1714"/>
                </a:lnTo>
                <a:lnTo>
                  <a:pt x="2888" y="1741"/>
                </a:lnTo>
                <a:lnTo>
                  <a:pt x="2888" y="1741"/>
                </a:lnTo>
                <a:lnTo>
                  <a:pt x="2848" y="1768"/>
                </a:lnTo>
                <a:lnTo>
                  <a:pt x="2848" y="1768"/>
                </a:lnTo>
                <a:lnTo>
                  <a:pt x="2808" y="1795"/>
                </a:lnTo>
                <a:lnTo>
                  <a:pt x="2808" y="1795"/>
                </a:lnTo>
                <a:lnTo>
                  <a:pt x="2808" y="1795"/>
                </a:lnTo>
                <a:lnTo>
                  <a:pt x="2767" y="1820"/>
                </a:lnTo>
                <a:lnTo>
                  <a:pt x="2767" y="1820"/>
                </a:lnTo>
                <a:lnTo>
                  <a:pt x="2725" y="1845"/>
                </a:lnTo>
                <a:lnTo>
                  <a:pt x="2725" y="1845"/>
                </a:lnTo>
                <a:lnTo>
                  <a:pt x="2682" y="1871"/>
                </a:lnTo>
                <a:lnTo>
                  <a:pt x="2682" y="1871"/>
                </a:lnTo>
                <a:lnTo>
                  <a:pt x="2682" y="1871"/>
                </a:lnTo>
                <a:lnTo>
                  <a:pt x="2638" y="1894"/>
                </a:lnTo>
                <a:lnTo>
                  <a:pt x="2638" y="1894"/>
                </a:lnTo>
                <a:lnTo>
                  <a:pt x="2595" y="1918"/>
                </a:lnTo>
                <a:lnTo>
                  <a:pt x="2595" y="1918"/>
                </a:lnTo>
                <a:lnTo>
                  <a:pt x="2552" y="1941"/>
                </a:lnTo>
                <a:lnTo>
                  <a:pt x="2552" y="1941"/>
                </a:lnTo>
                <a:lnTo>
                  <a:pt x="2552" y="1941"/>
                </a:lnTo>
                <a:lnTo>
                  <a:pt x="2506" y="1965"/>
                </a:lnTo>
                <a:lnTo>
                  <a:pt x="2506" y="1965"/>
                </a:lnTo>
                <a:lnTo>
                  <a:pt x="2463" y="1986"/>
                </a:lnTo>
                <a:lnTo>
                  <a:pt x="2463" y="1986"/>
                </a:lnTo>
                <a:lnTo>
                  <a:pt x="2416" y="2008"/>
                </a:lnTo>
                <a:lnTo>
                  <a:pt x="2416" y="2008"/>
                </a:lnTo>
                <a:lnTo>
                  <a:pt x="2416" y="2008"/>
                </a:lnTo>
                <a:lnTo>
                  <a:pt x="2371" y="2028"/>
                </a:lnTo>
                <a:lnTo>
                  <a:pt x="2371" y="2028"/>
                </a:lnTo>
                <a:lnTo>
                  <a:pt x="2324" y="2048"/>
                </a:lnTo>
                <a:lnTo>
                  <a:pt x="2324" y="2048"/>
                </a:lnTo>
                <a:lnTo>
                  <a:pt x="2324" y="2048"/>
                </a:lnTo>
                <a:lnTo>
                  <a:pt x="2277" y="2068"/>
                </a:lnTo>
                <a:lnTo>
                  <a:pt x="2277" y="2068"/>
                </a:lnTo>
                <a:lnTo>
                  <a:pt x="2230" y="2088"/>
                </a:lnTo>
                <a:lnTo>
                  <a:pt x="2230" y="2088"/>
                </a:lnTo>
                <a:lnTo>
                  <a:pt x="2183" y="2106"/>
                </a:lnTo>
                <a:lnTo>
                  <a:pt x="2183" y="2106"/>
                </a:lnTo>
                <a:lnTo>
                  <a:pt x="2183" y="2106"/>
                </a:lnTo>
                <a:lnTo>
                  <a:pt x="2134" y="2122"/>
                </a:lnTo>
                <a:lnTo>
                  <a:pt x="2134" y="2122"/>
                </a:lnTo>
                <a:lnTo>
                  <a:pt x="2085" y="2140"/>
                </a:lnTo>
                <a:lnTo>
                  <a:pt x="2085" y="2140"/>
                </a:lnTo>
                <a:lnTo>
                  <a:pt x="2037" y="2156"/>
                </a:lnTo>
                <a:lnTo>
                  <a:pt x="2037" y="2156"/>
                </a:lnTo>
                <a:lnTo>
                  <a:pt x="2037" y="2156"/>
                </a:lnTo>
                <a:lnTo>
                  <a:pt x="1988" y="2171"/>
                </a:lnTo>
                <a:lnTo>
                  <a:pt x="1988" y="2171"/>
                </a:lnTo>
                <a:lnTo>
                  <a:pt x="1937" y="2187"/>
                </a:lnTo>
                <a:lnTo>
                  <a:pt x="1937" y="2187"/>
                </a:lnTo>
                <a:lnTo>
                  <a:pt x="1888" y="2201"/>
                </a:lnTo>
                <a:lnTo>
                  <a:pt x="1888" y="2201"/>
                </a:lnTo>
                <a:lnTo>
                  <a:pt x="1888" y="2201"/>
                </a:lnTo>
                <a:lnTo>
                  <a:pt x="1838" y="2214"/>
                </a:lnTo>
                <a:lnTo>
                  <a:pt x="1838" y="2214"/>
                </a:lnTo>
                <a:lnTo>
                  <a:pt x="1787" y="2227"/>
                </a:lnTo>
                <a:lnTo>
                  <a:pt x="1787" y="2227"/>
                </a:lnTo>
                <a:lnTo>
                  <a:pt x="1737" y="2239"/>
                </a:lnTo>
                <a:lnTo>
                  <a:pt x="1737" y="2239"/>
                </a:lnTo>
                <a:lnTo>
                  <a:pt x="1737" y="2239"/>
                </a:lnTo>
                <a:lnTo>
                  <a:pt x="1686" y="2252"/>
                </a:lnTo>
                <a:lnTo>
                  <a:pt x="1686" y="2252"/>
                </a:lnTo>
                <a:lnTo>
                  <a:pt x="1634" y="2263"/>
                </a:lnTo>
                <a:lnTo>
                  <a:pt x="1634" y="2263"/>
                </a:lnTo>
                <a:lnTo>
                  <a:pt x="1634" y="2263"/>
                </a:lnTo>
                <a:lnTo>
                  <a:pt x="1581" y="2272"/>
                </a:lnTo>
                <a:lnTo>
                  <a:pt x="1581" y="2272"/>
                </a:lnTo>
                <a:lnTo>
                  <a:pt x="1531" y="2283"/>
                </a:lnTo>
                <a:lnTo>
                  <a:pt x="1531" y="2283"/>
                </a:lnTo>
                <a:lnTo>
                  <a:pt x="1478" y="2290"/>
                </a:lnTo>
                <a:lnTo>
                  <a:pt x="1478" y="2290"/>
                </a:lnTo>
                <a:lnTo>
                  <a:pt x="1478" y="2290"/>
                </a:lnTo>
                <a:lnTo>
                  <a:pt x="1426" y="2299"/>
                </a:lnTo>
                <a:lnTo>
                  <a:pt x="1426" y="2299"/>
                </a:lnTo>
                <a:lnTo>
                  <a:pt x="1373" y="2306"/>
                </a:lnTo>
                <a:lnTo>
                  <a:pt x="1373" y="2306"/>
                </a:lnTo>
                <a:lnTo>
                  <a:pt x="1321" y="2313"/>
                </a:lnTo>
                <a:lnTo>
                  <a:pt x="1321" y="2313"/>
                </a:lnTo>
                <a:lnTo>
                  <a:pt x="1321" y="2313"/>
                </a:lnTo>
                <a:lnTo>
                  <a:pt x="1269" y="2319"/>
                </a:lnTo>
                <a:lnTo>
                  <a:pt x="1269" y="2319"/>
                </a:lnTo>
                <a:lnTo>
                  <a:pt x="1214" y="2324"/>
                </a:lnTo>
                <a:lnTo>
                  <a:pt x="1214" y="2324"/>
                </a:lnTo>
                <a:lnTo>
                  <a:pt x="1162" y="2330"/>
                </a:lnTo>
                <a:lnTo>
                  <a:pt x="1162" y="2330"/>
                </a:lnTo>
                <a:lnTo>
                  <a:pt x="1162" y="2330"/>
                </a:lnTo>
                <a:lnTo>
                  <a:pt x="1110" y="2333"/>
                </a:lnTo>
                <a:lnTo>
                  <a:pt x="1110" y="2333"/>
                </a:lnTo>
                <a:lnTo>
                  <a:pt x="1055" y="2337"/>
                </a:lnTo>
                <a:lnTo>
                  <a:pt x="1055" y="2337"/>
                </a:lnTo>
                <a:lnTo>
                  <a:pt x="1055" y="2337"/>
                </a:lnTo>
                <a:lnTo>
                  <a:pt x="1003" y="2339"/>
                </a:lnTo>
                <a:lnTo>
                  <a:pt x="1003" y="2339"/>
                </a:lnTo>
                <a:lnTo>
                  <a:pt x="949" y="2341"/>
                </a:lnTo>
                <a:lnTo>
                  <a:pt x="949" y="2341"/>
                </a:lnTo>
                <a:lnTo>
                  <a:pt x="896" y="2342"/>
                </a:lnTo>
                <a:lnTo>
                  <a:pt x="896" y="2342"/>
                </a:lnTo>
                <a:lnTo>
                  <a:pt x="896" y="2342"/>
                </a:lnTo>
                <a:lnTo>
                  <a:pt x="842" y="2342"/>
                </a:lnTo>
                <a:lnTo>
                  <a:pt x="842" y="2342"/>
                </a:lnTo>
                <a:lnTo>
                  <a:pt x="790" y="2342"/>
                </a:lnTo>
                <a:lnTo>
                  <a:pt x="790" y="2342"/>
                </a:lnTo>
                <a:lnTo>
                  <a:pt x="736" y="2341"/>
                </a:lnTo>
                <a:lnTo>
                  <a:pt x="736" y="2341"/>
                </a:lnTo>
                <a:lnTo>
                  <a:pt x="736" y="2341"/>
                </a:lnTo>
                <a:lnTo>
                  <a:pt x="683" y="2339"/>
                </a:lnTo>
                <a:lnTo>
                  <a:pt x="683" y="2339"/>
                </a:lnTo>
                <a:lnTo>
                  <a:pt x="629" y="2337"/>
                </a:lnTo>
                <a:lnTo>
                  <a:pt x="629" y="2337"/>
                </a:lnTo>
                <a:lnTo>
                  <a:pt x="577" y="2333"/>
                </a:lnTo>
                <a:lnTo>
                  <a:pt x="577" y="2333"/>
                </a:lnTo>
                <a:lnTo>
                  <a:pt x="577" y="2333"/>
                </a:lnTo>
                <a:lnTo>
                  <a:pt x="522" y="2330"/>
                </a:lnTo>
                <a:lnTo>
                  <a:pt x="522" y="2330"/>
                </a:lnTo>
                <a:lnTo>
                  <a:pt x="470" y="2324"/>
                </a:lnTo>
                <a:lnTo>
                  <a:pt x="470" y="2324"/>
                </a:lnTo>
                <a:lnTo>
                  <a:pt x="418" y="2319"/>
                </a:lnTo>
                <a:lnTo>
                  <a:pt x="418" y="2319"/>
                </a:lnTo>
                <a:lnTo>
                  <a:pt x="418" y="2319"/>
                </a:lnTo>
                <a:lnTo>
                  <a:pt x="365" y="2313"/>
                </a:lnTo>
                <a:lnTo>
                  <a:pt x="365" y="2313"/>
                </a:lnTo>
                <a:lnTo>
                  <a:pt x="313" y="2306"/>
                </a:lnTo>
                <a:lnTo>
                  <a:pt x="313" y="2306"/>
                </a:lnTo>
                <a:lnTo>
                  <a:pt x="313" y="2306"/>
                </a:lnTo>
                <a:lnTo>
                  <a:pt x="260" y="2299"/>
                </a:lnTo>
                <a:lnTo>
                  <a:pt x="260" y="2299"/>
                </a:lnTo>
                <a:lnTo>
                  <a:pt x="208" y="2290"/>
                </a:lnTo>
                <a:lnTo>
                  <a:pt x="208" y="2290"/>
                </a:lnTo>
                <a:lnTo>
                  <a:pt x="155" y="2283"/>
                </a:lnTo>
                <a:lnTo>
                  <a:pt x="155" y="2283"/>
                </a:lnTo>
                <a:lnTo>
                  <a:pt x="155" y="2283"/>
                </a:lnTo>
                <a:lnTo>
                  <a:pt x="103" y="2272"/>
                </a:lnTo>
                <a:lnTo>
                  <a:pt x="103" y="2272"/>
                </a:lnTo>
                <a:lnTo>
                  <a:pt x="51" y="2263"/>
                </a:lnTo>
                <a:lnTo>
                  <a:pt x="51" y="2263"/>
                </a:lnTo>
                <a:lnTo>
                  <a:pt x="0" y="2252"/>
                </a:lnTo>
                <a:lnTo>
                  <a:pt x="0" y="2252"/>
                </a:lnTo>
                <a:lnTo>
                  <a:pt x="0" y="2812"/>
                </a:lnTo>
                <a:lnTo>
                  <a:pt x="0" y="2812"/>
                </a:lnTo>
                <a:lnTo>
                  <a:pt x="51" y="2823"/>
                </a:lnTo>
                <a:lnTo>
                  <a:pt x="51" y="2823"/>
                </a:lnTo>
                <a:lnTo>
                  <a:pt x="103" y="2832"/>
                </a:lnTo>
                <a:lnTo>
                  <a:pt x="103" y="2832"/>
                </a:lnTo>
                <a:lnTo>
                  <a:pt x="155" y="2843"/>
                </a:lnTo>
                <a:lnTo>
                  <a:pt x="155" y="2843"/>
                </a:lnTo>
                <a:lnTo>
                  <a:pt x="155" y="2843"/>
                </a:lnTo>
                <a:lnTo>
                  <a:pt x="208" y="2850"/>
                </a:lnTo>
                <a:lnTo>
                  <a:pt x="208" y="2850"/>
                </a:lnTo>
                <a:lnTo>
                  <a:pt x="260" y="2859"/>
                </a:lnTo>
                <a:lnTo>
                  <a:pt x="260" y="2859"/>
                </a:lnTo>
                <a:lnTo>
                  <a:pt x="313" y="2866"/>
                </a:lnTo>
                <a:lnTo>
                  <a:pt x="313" y="2866"/>
                </a:lnTo>
                <a:lnTo>
                  <a:pt x="313" y="2866"/>
                </a:lnTo>
                <a:lnTo>
                  <a:pt x="365" y="2874"/>
                </a:lnTo>
                <a:lnTo>
                  <a:pt x="365" y="2874"/>
                </a:lnTo>
                <a:lnTo>
                  <a:pt x="418" y="2879"/>
                </a:lnTo>
                <a:lnTo>
                  <a:pt x="418" y="2879"/>
                </a:lnTo>
                <a:lnTo>
                  <a:pt x="418" y="2879"/>
                </a:lnTo>
                <a:lnTo>
                  <a:pt x="470" y="2884"/>
                </a:lnTo>
                <a:lnTo>
                  <a:pt x="470" y="2884"/>
                </a:lnTo>
                <a:lnTo>
                  <a:pt x="522" y="2890"/>
                </a:lnTo>
                <a:lnTo>
                  <a:pt x="522" y="2890"/>
                </a:lnTo>
                <a:lnTo>
                  <a:pt x="577" y="2893"/>
                </a:lnTo>
                <a:lnTo>
                  <a:pt x="577" y="2893"/>
                </a:lnTo>
                <a:lnTo>
                  <a:pt x="577" y="2893"/>
                </a:lnTo>
                <a:lnTo>
                  <a:pt x="629" y="2897"/>
                </a:lnTo>
                <a:lnTo>
                  <a:pt x="629" y="2897"/>
                </a:lnTo>
                <a:lnTo>
                  <a:pt x="683" y="2899"/>
                </a:lnTo>
                <a:lnTo>
                  <a:pt x="683" y="2899"/>
                </a:lnTo>
                <a:lnTo>
                  <a:pt x="736" y="2901"/>
                </a:lnTo>
                <a:lnTo>
                  <a:pt x="736" y="2901"/>
                </a:lnTo>
                <a:lnTo>
                  <a:pt x="736" y="2901"/>
                </a:lnTo>
                <a:lnTo>
                  <a:pt x="790" y="2903"/>
                </a:lnTo>
                <a:lnTo>
                  <a:pt x="790" y="2903"/>
                </a:lnTo>
                <a:lnTo>
                  <a:pt x="842" y="2903"/>
                </a:lnTo>
                <a:lnTo>
                  <a:pt x="842" y="2903"/>
                </a:lnTo>
                <a:lnTo>
                  <a:pt x="896" y="2903"/>
                </a:lnTo>
                <a:lnTo>
                  <a:pt x="896" y="2903"/>
                </a:lnTo>
                <a:lnTo>
                  <a:pt x="896" y="2903"/>
                </a:lnTo>
                <a:lnTo>
                  <a:pt x="949" y="2901"/>
                </a:lnTo>
                <a:lnTo>
                  <a:pt x="949" y="2901"/>
                </a:lnTo>
                <a:lnTo>
                  <a:pt x="1003" y="2899"/>
                </a:lnTo>
                <a:lnTo>
                  <a:pt x="1003" y="2899"/>
                </a:lnTo>
                <a:lnTo>
                  <a:pt x="1055" y="2897"/>
                </a:lnTo>
                <a:lnTo>
                  <a:pt x="1055" y="2897"/>
                </a:lnTo>
                <a:lnTo>
                  <a:pt x="1055" y="2897"/>
                </a:lnTo>
                <a:lnTo>
                  <a:pt x="1110" y="2893"/>
                </a:lnTo>
                <a:lnTo>
                  <a:pt x="1110" y="2893"/>
                </a:lnTo>
                <a:lnTo>
                  <a:pt x="1162" y="2890"/>
                </a:lnTo>
                <a:lnTo>
                  <a:pt x="1162" y="2890"/>
                </a:lnTo>
                <a:lnTo>
                  <a:pt x="1162" y="2890"/>
                </a:lnTo>
                <a:lnTo>
                  <a:pt x="1214" y="2884"/>
                </a:lnTo>
                <a:lnTo>
                  <a:pt x="1214" y="2884"/>
                </a:lnTo>
                <a:lnTo>
                  <a:pt x="1269" y="2879"/>
                </a:lnTo>
                <a:lnTo>
                  <a:pt x="1269" y="2879"/>
                </a:lnTo>
                <a:lnTo>
                  <a:pt x="1321" y="2874"/>
                </a:lnTo>
                <a:lnTo>
                  <a:pt x="1321" y="2874"/>
                </a:lnTo>
                <a:lnTo>
                  <a:pt x="1321" y="2874"/>
                </a:lnTo>
                <a:lnTo>
                  <a:pt x="1373" y="2866"/>
                </a:lnTo>
                <a:lnTo>
                  <a:pt x="1373" y="2866"/>
                </a:lnTo>
                <a:lnTo>
                  <a:pt x="1426" y="2859"/>
                </a:lnTo>
                <a:lnTo>
                  <a:pt x="1426" y="2859"/>
                </a:lnTo>
                <a:lnTo>
                  <a:pt x="1478" y="2850"/>
                </a:lnTo>
                <a:lnTo>
                  <a:pt x="1478" y="2850"/>
                </a:lnTo>
                <a:lnTo>
                  <a:pt x="1478" y="2850"/>
                </a:lnTo>
                <a:lnTo>
                  <a:pt x="1531" y="2843"/>
                </a:lnTo>
                <a:lnTo>
                  <a:pt x="1531" y="2843"/>
                </a:lnTo>
                <a:lnTo>
                  <a:pt x="1581" y="2832"/>
                </a:lnTo>
                <a:lnTo>
                  <a:pt x="1581" y="2832"/>
                </a:lnTo>
                <a:lnTo>
                  <a:pt x="1634" y="2823"/>
                </a:lnTo>
                <a:lnTo>
                  <a:pt x="1634" y="2823"/>
                </a:lnTo>
                <a:lnTo>
                  <a:pt x="1634" y="2823"/>
                </a:lnTo>
                <a:lnTo>
                  <a:pt x="1686" y="2812"/>
                </a:lnTo>
                <a:lnTo>
                  <a:pt x="1686" y="2812"/>
                </a:lnTo>
                <a:lnTo>
                  <a:pt x="1737" y="2800"/>
                </a:lnTo>
                <a:lnTo>
                  <a:pt x="1737" y="2800"/>
                </a:lnTo>
                <a:lnTo>
                  <a:pt x="1737" y="2800"/>
                </a:lnTo>
                <a:lnTo>
                  <a:pt x="1787" y="2787"/>
                </a:lnTo>
                <a:lnTo>
                  <a:pt x="1787" y="2787"/>
                </a:lnTo>
                <a:lnTo>
                  <a:pt x="1838" y="2774"/>
                </a:lnTo>
                <a:lnTo>
                  <a:pt x="1838" y="2774"/>
                </a:lnTo>
                <a:lnTo>
                  <a:pt x="1888" y="2762"/>
                </a:lnTo>
                <a:lnTo>
                  <a:pt x="1888" y="2762"/>
                </a:lnTo>
                <a:lnTo>
                  <a:pt x="1888" y="2762"/>
                </a:lnTo>
                <a:lnTo>
                  <a:pt x="1937" y="2747"/>
                </a:lnTo>
                <a:lnTo>
                  <a:pt x="1937" y="2747"/>
                </a:lnTo>
                <a:lnTo>
                  <a:pt x="1988" y="2731"/>
                </a:lnTo>
                <a:lnTo>
                  <a:pt x="1988" y="2731"/>
                </a:lnTo>
                <a:lnTo>
                  <a:pt x="2037" y="2716"/>
                </a:lnTo>
                <a:lnTo>
                  <a:pt x="2037" y="2716"/>
                </a:lnTo>
                <a:lnTo>
                  <a:pt x="2037" y="2716"/>
                </a:lnTo>
                <a:lnTo>
                  <a:pt x="2085" y="2700"/>
                </a:lnTo>
                <a:lnTo>
                  <a:pt x="2085" y="2700"/>
                </a:lnTo>
                <a:lnTo>
                  <a:pt x="2134" y="2682"/>
                </a:lnTo>
                <a:lnTo>
                  <a:pt x="2134" y="2682"/>
                </a:lnTo>
                <a:lnTo>
                  <a:pt x="2183" y="2666"/>
                </a:lnTo>
                <a:lnTo>
                  <a:pt x="2183" y="2666"/>
                </a:lnTo>
                <a:lnTo>
                  <a:pt x="2183" y="2666"/>
                </a:lnTo>
                <a:lnTo>
                  <a:pt x="2230" y="2648"/>
                </a:lnTo>
                <a:lnTo>
                  <a:pt x="2230" y="2648"/>
                </a:lnTo>
                <a:lnTo>
                  <a:pt x="2277" y="2628"/>
                </a:lnTo>
                <a:lnTo>
                  <a:pt x="2277" y="2628"/>
                </a:lnTo>
                <a:lnTo>
                  <a:pt x="2324" y="2608"/>
                </a:lnTo>
                <a:lnTo>
                  <a:pt x="2324" y="2608"/>
                </a:lnTo>
                <a:lnTo>
                  <a:pt x="2324" y="2608"/>
                </a:lnTo>
                <a:lnTo>
                  <a:pt x="2371" y="2588"/>
                </a:lnTo>
                <a:lnTo>
                  <a:pt x="2371" y="2588"/>
                </a:lnTo>
                <a:lnTo>
                  <a:pt x="2416" y="2568"/>
                </a:lnTo>
                <a:lnTo>
                  <a:pt x="2416" y="2568"/>
                </a:lnTo>
                <a:lnTo>
                  <a:pt x="2416" y="2568"/>
                </a:lnTo>
                <a:lnTo>
                  <a:pt x="2463" y="2547"/>
                </a:lnTo>
                <a:lnTo>
                  <a:pt x="2463" y="2547"/>
                </a:lnTo>
                <a:lnTo>
                  <a:pt x="2506" y="2525"/>
                </a:lnTo>
                <a:lnTo>
                  <a:pt x="2506" y="2525"/>
                </a:lnTo>
                <a:lnTo>
                  <a:pt x="2552" y="2501"/>
                </a:lnTo>
                <a:lnTo>
                  <a:pt x="2552" y="2501"/>
                </a:lnTo>
                <a:lnTo>
                  <a:pt x="2552" y="2501"/>
                </a:lnTo>
                <a:lnTo>
                  <a:pt x="2595" y="2478"/>
                </a:lnTo>
                <a:lnTo>
                  <a:pt x="2595" y="2478"/>
                </a:lnTo>
                <a:lnTo>
                  <a:pt x="2638" y="2454"/>
                </a:lnTo>
                <a:lnTo>
                  <a:pt x="2638" y="2454"/>
                </a:lnTo>
                <a:lnTo>
                  <a:pt x="2682" y="2431"/>
                </a:lnTo>
                <a:lnTo>
                  <a:pt x="2682" y="2431"/>
                </a:lnTo>
                <a:lnTo>
                  <a:pt x="2682" y="2431"/>
                </a:lnTo>
                <a:lnTo>
                  <a:pt x="2725" y="2406"/>
                </a:lnTo>
                <a:lnTo>
                  <a:pt x="2725" y="2406"/>
                </a:lnTo>
                <a:lnTo>
                  <a:pt x="2767" y="2380"/>
                </a:lnTo>
                <a:lnTo>
                  <a:pt x="2767" y="2380"/>
                </a:lnTo>
                <a:lnTo>
                  <a:pt x="2808" y="2355"/>
                </a:lnTo>
                <a:lnTo>
                  <a:pt x="2808" y="2355"/>
                </a:lnTo>
                <a:lnTo>
                  <a:pt x="2808" y="2355"/>
                </a:lnTo>
                <a:lnTo>
                  <a:pt x="2848" y="2328"/>
                </a:lnTo>
                <a:lnTo>
                  <a:pt x="2848" y="2328"/>
                </a:lnTo>
                <a:lnTo>
                  <a:pt x="2888" y="2301"/>
                </a:lnTo>
                <a:lnTo>
                  <a:pt x="2888" y="2301"/>
                </a:lnTo>
                <a:lnTo>
                  <a:pt x="2928" y="2274"/>
                </a:lnTo>
                <a:lnTo>
                  <a:pt x="2928" y="2274"/>
                </a:lnTo>
                <a:lnTo>
                  <a:pt x="2928" y="2274"/>
                </a:lnTo>
                <a:lnTo>
                  <a:pt x="2965" y="2245"/>
                </a:lnTo>
                <a:lnTo>
                  <a:pt x="2965" y="2245"/>
                </a:lnTo>
                <a:lnTo>
                  <a:pt x="3003" y="2216"/>
                </a:lnTo>
                <a:lnTo>
                  <a:pt x="3003" y="2216"/>
                </a:lnTo>
                <a:lnTo>
                  <a:pt x="3003" y="2216"/>
                </a:lnTo>
                <a:lnTo>
                  <a:pt x="3041" y="2187"/>
                </a:lnTo>
                <a:lnTo>
                  <a:pt x="3041" y="2187"/>
                </a:lnTo>
                <a:lnTo>
                  <a:pt x="3077" y="2158"/>
                </a:lnTo>
                <a:lnTo>
                  <a:pt x="3077" y="2158"/>
                </a:lnTo>
                <a:lnTo>
                  <a:pt x="3114" y="2127"/>
                </a:lnTo>
                <a:lnTo>
                  <a:pt x="3114" y="2127"/>
                </a:lnTo>
                <a:lnTo>
                  <a:pt x="3114" y="2127"/>
                </a:lnTo>
                <a:lnTo>
                  <a:pt x="3150" y="2097"/>
                </a:lnTo>
                <a:lnTo>
                  <a:pt x="3150" y="2097"/>
                </a:lnTo>
                <a:lnTo>
                  <a:pt x="3184" y="2066"/>
                </a:lnTo>
                <a:lnTo>
                  <a:pt x="3184" y="2066"/>
                </a:lnTo>
                <a:lnTo>
                  <a:pt x="3218" y="2033"/>
                </a:lnTo>
                <a:lnTo>
                  <a:pt x="3218" y="2033"/>
                </a:lnTo>
                <a:lnTo>
                  <a:pt x="3218" y="2033"/>
                </a:lnTo>
                <a:lnTo>
                  <a:pt x="3251" y="2003"/>
                </a:lnTo>
                <a:lnTo>
                  <a:pt x="3251" y="2003"/>
                </a:lnTo>
                <a:lnTo>
                  <a:pt x="3284" y="1970"/>
                </a:lnTo>
                <a:lnTo>
                  <a:pt x="3284" y="1970"/>
                </a:lnTo>
                <a:lnTo>
                  <a:pt x="3316" y="1938"/>
                </a:lnTo>
                <a:lnTo>
                  <a:pt x="3316" y="1938"/>
                </a:lnTo>
                <a:lnTo>
                  <a:pt x="3316" y="1938"/>
                </a:lnTo>
                <a:lnTo>
                  <a:pt x="3347" y="1903"/>
                </a:lnTo>
                <a:lnTo>
                  <a:pt x="3347" y="1903"/>
                </a:lnTo>
                <a:lnTo>
                  <a:pt x="3377" y="1869"/>
                </a:lnTo>
                <a:lnTo>
                  <a:pt x="3377" y="1869"/>
                </a:lnTo>
                <a:lnTo>
                  <a:pt x="3406" y="1836"/>
                </a:lnTo>
                <a:lnTo>
                  <a:pt x="3406" y="1836"/>
                </a:lnTo>
                <a:lnTo>
                  <a:pt x="3406" y="1836"/>
                </a:lnTo>
                <a:lnTo>
                  <a:pt x="3435" y="1802"/>
                </a:lnTo>
                <a:lnTo>
                  <a:pt x="3435" y="1802"/>
                </a:lnTo>
                <a:lnTo>
                  <a:pt x="3462" y="1766"/>
                </a:lnTo>
                <a:lnTo>
                  <a:pt x="3462" y="1766"/>
                </a:lnTo>
                <a:lnTo>
                  <a:pt x="3462" y="1766"/>
                </a:lnTo>
                <a:lnTo>
                  <a:pt x="3490" y="1732"/>
                </a:lnTo>
                <a:lnTo>
                  <a:pt x="3490" y="1732"/>
                </a:lnTo>
                <a:lnTo>
                  <a:pt x="3517" y="1695"/>
                </a:lnTo>
                <a:lnTo>
                  <a:pt x="3517" y="1695"/>
                </a:lnTo>
                <a:lnTo>
                  <a:pt x="3542" y="1659"/>
                </a:lnTo>
                <a:lnTo>
                  <a:pt x="3542" y="1659"/>
                </a:lnTo>
                <a:lnTo>
                  <a:pt x="3542" y="1659"/>
                </a:lnTo>
                <a:lnTo>
                  <a:pt x="3565" y="1623"/>
                </a:lnTo>
                <a:lnTo>
                  <a:pt x="3565" y="1623"/>
                </a:lnTo>
                <a:lnTo>
                  <a:pt x="3591" y="1587"/>
                </a:lnTo>
                <a:lnTo>
                  <a:pt x="3591" y="1587"/>
                </a:lnTo>
                <a:lnTo>
                  <a:pt x="3612" y="1549"/>
                </a:lnTo>
                <a:lnTo>
                  <a:pt x="3612" y="1549"/>
                </a:lnTo>
                <a:lnTo>
                  <a:pt x="3612" y="1549"/>
                </a:lnTo>
                <a:lnTo>
                  <a:pt x="3636" y="1513"/>
                </a:lnTo>
                <a:lnTo>
                  <a:pt x="3636" y="1513"/>
                </a:lnTo>
                <a:lnTo>
                  <a:pt x="3656" y="1475"/>
                </a:lnTo>
                <a:lnTo>
                  <a:pt x="3656" y="1475"/>
                </a:lnTo>
                <a:lnTo>
                  <a:pt x="3677" y="1437"/>
                </a:lnTo>
                <a:lnTo>
                  <a:pt x="3677" y="1437"/>
                </a:lnTo>
                <a:lnTo>
                  <a:pt x="3677" y="1437"/>
                </a:lnTo>
                <a:lnTo>
                  <a:pt x="3696" y="1399"/>
                </a:lnTo>
                <a:lnTo>
                  <a:pt x="3696" y="1399"/>
                </a:lnTo>
                <a:lnTo>
                  <a:pt x="3715" y="1361"/>
                </a:lnTo>
                <a:lnTo>
                  <a:pt x="3715" y="1361"/>
                </a:lnTo>
                <a:lnTo>
                  <a:pt x="3715" y="1361"/>
                </a:lnTo>
                <a:lnTo>
                  <a:pt x="3733" y="1323"/>
                </a:lnTo>
                <a:lnTo>
                  <a:pt x="3733" y="1323"/>
                </a:lnTo>
                <a:lnTo>
                  <a:pt x="3750" y="1283"/>
                </a:lnTo>
                <a:lnTo>
                  <a:pt x="3750" y="1283"/>
                </a:lnTo>
                <a:lnTo>
                  <a:pt x="3766" y="1246"/>
                </a:lnTo>
                <a:lnTo>
                  <a:pt x="3766" y="1246"/>
                </a:lnTo>
                <a:lnTo>
                  <a:pt x="3766" y="1246"/>
                </a:lnTo>
                <a:lnTo>
                  <a:pt x="3780" y="1206"/>
                </a:lnTo>
                <a:lnTo>
                  <a:pt x="3780" y="1206"/>
                </a:lnTo>
                <a:lnTo>
                  <a:pt x="3795" y="1166"/>
                </a:lnTo>
                <a:lnTo>
                  <a:pt x="3795" y="1166"/>
                </a:lnTo>
                <a:lnTo>
                  <a:pt x="3809" y="1126"/>
                </a:lnTo>
                <a:lnTo>
                  <a:pt x="3809" y="1126"/>
                </a:lnTo>
                <a:lnTo>
                  <a:pt x="3809" y="1126"/>
                </a:lnTo>
                <a:lnTo>
                  <a:pt x="3820" y="1086"/>
                </a:lnTo>
                <a:lnTo>
                  <a:pt x="3820" y="1086"/>
                </a:lnTo>
                <a:lnTo>
                  <a:pt x="3833" y="1047"/>
                </a:lnTo>
                <a:lnTo>
                  <a:pt x="3833" y="1047"/>
                </a:lnTo>
                <a:lnTo>
                  <a:pt x="3844" y="1007"/>
                </a:lnTo>
                <a:lnTo>
                  <a:pt x="3844" y="1007"/>
                </a:lnTo>
                <a:lnTo>
                  <a:pt x="3844" y="1007"/>
                </a:lnTo>
                <a:lnTo>
                  <a:pt x="3853" y="967"/>
                </a:lnTo>
                <a:lnTo>
                  <a:pt x="3853" y="967"/>
                </a:lnTo>
                <a:lnTo>
                  <a:pt x="3862" y="926"/>
                </a:lnTo>
                <a:lnTo>
                  <a:pt x="3862" y="926"/>
                </a:lnTo>
                <a:lnTo>
                  <a:pt x="3869" y="886"/>
                </a:lnTo>
                <a:lnTo>
                  <a:pt x="3869" y="886"/>
                </a:lnTo>
                <a:lnTo>
                  <a:pt x="3869" y="886"/>
                </a:lnTo>
                <a:lnTo>
                  <a:pt x="3876" y="846"/>
                </a:lnTo>
                <a:lnTo>
                  <a:pt x="3876" y="846"/>
                </a:lnTo>
                <a:lnTo>
                  <a:pt x="3882" y="805"/>
                </a:lnTo>
                <a:lnTo>
                  <a:pt x="3882" y="805"/>
                </a:lnTo>
                <a:lnTo>
                  <a:pt x="3882" y="805"/>
                </a:lnTo>
                <a:lnTo>
                  <a:pt x="3887" y="765"/>
                </a:lnTo>
                <a:lnTo>
                  <a:pt x="3887" y="765"/>
                </a:lnTo>
                <a:lnTo>
                  <a:pt x="3892" y="723"/>
                </a:lnTo>
                <a:lnTo>
                  <a:pt x="3892" y="723"/>
                </a:lnTo>
                <a:lnTo>
                  <a:pt x="3894" y="684"/>
                </a:lnTo>
                <a:lnTo>
                  <a:pt x="3894" y="684"/>
                </a:lnTo>
                <a:lnTo>
                  <a:pt x="3894" y="684"/>
                </a:lnTo>
                <a:lnTo>
                  <a:pt x="3898" y="642"/>
                </a:lnTo>
                <a:lnTo>
                  <a:pt x="3898" y="642"/>
                </a:lnTo>
                <a:lnTo>
                  <a:pt x="3898" y="600"/>
                </a:lnTo>
                <a:lnTo>
                  <a:pt x="3898" y="600"/>
                </a:lnTo>
                <a:lnTo>
                  <a:pt x="3900" y="561"/>
                </a:lnTo>
                <a:lnTo>
                  <a:pt x="3900" y="561"/>
                </a:lnTo>
                <a:lnTo>
                  <a:pt x="3900" y="0"/>
                </a:lnTo>
                <a:close/>
              </a:path>
            </a:pathLst>
          </a:custGeom>
          <a:solidFill>
            <a:srgbClr val="668080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708360" y="2089080"/>
            <a:ext cx="3094200" cy="3363840"/>
          </a:xfrm>
          <a:custGeom>
            <a:avLst/>
            <a:gdLst/>
            <a:ahLst/>
            <a:rect l="l" t="t" r="r" b="b"/>
            <a:pathLst>
              <a:path w="3900" h="4237">
                <a:moveTo>
                  <a:pt x="2638" y="0"/>
                </a:moveTo>
                <a:lnTo>
                  <a:pt x="2638" y="0"/>
                </a:lnTo>
                <a:lnTo>
                  <a:pt x="2682" y="25"/>
                </a:lnTo>
                <a:lnTo>
                  <a:pt x="2682" y="25"/>
                </a:lnTo>
                <a:lnTo>
                  <a:pt x="2682" y="25"/>
                </a:lnTo>
                <a:lnTo>
                  <a:pt x="2725" y="49"/>
                </a:lnTo>
                <a:lnTo>
                  <a:pt x="2725" y="49"/>
                </a:lnTo>
                <a:lnTo>
                  <a:pt x="2725" y="49"/>
                </a:lnTo>
                <a:lnTo>
                  <a:pt x="2767" y="76"/>
                </a:lnTo>
                <a:lnTo>
                  <a:pt x="2767" y="76"/>
                </a:lnTo>
                <a:lnTo>
                  <a:pt x="2767" y="76"/>
                </a:lnTo>
                <a:lnTo>
                  <a:pt x="2808" y="101"/>
                </a:lnTo>
                <a:lnTo>
                  <a:pt x="2808" y="101"/>
                </a:lnTo>
                <a:lnTo>
                  <a:pt x="2808" y="101"/>
                </a:lnTo>
                <a:lnTo>
                  <a:pt x="2848" y="128"/>
                </a:lnTo>
                <a:lnTo>
                  <a:pt x="2848" y="128"/>
                </a:lnTo>
                <a:lnTo>
                  <a:pt x="2848" y="128"/>
                </a:lnTo>
                <a:lnTo>
                  <a:pt x="2888" y="155"/>
                </a:lnTo>
                <a:lnTo>
                  <a:pt x="2888" y="155"/>
                </a:lnTo>
                <a:lnTo>
                  <a:pt x="2888" y="155"/>
                </a:lnTo>
                <a:lnTo>
                  <a:pt x="2928" y="182"/>
                </a:lnTo>
                <a:lnTo>
                  <a:pt x="2928" y="182"/>
                </a:lnTo>
                <a:lnTo>
                  <a:pt x="2928" y="182"/>
                </a:lnTo>
                <a:lnTo>
                  <a:pt x="2965" y="210"/>
                </a:lnTo>
                <a:lnTo>
                  <a:pt x="2965" y="210"/>
                </a:lnTo>
                <a:lnTo>
                  <a:pt x="2965" y="210"/>
                </a:lnTo>
                <a:lnTo>
                  <a:pt x="3003" y="238"/>
                </a:lnTo>
                <a:lnTo>
                  <a:pt x="3003" y="238"/>
                </a:lnTo>
                <a:lnTo>
                  <a:pt x="3003" y="238"/>
                </a:lnTo>
                <a:lnTo>
                  <a:pt x="3041" y="267"/>
                </a:lnTo>
                <a:lnTo>
                  <a:pt x="3041" y="267"/>
                </a:lnTo>
                <a:lnTo>
                  <a:pt x="3041" y="267"/>
                </a:lnTo>
                <a:lnTo>
                  <a:pt x="3077" y="298"/>
                </a:lnTo>
                <a:lnTo>
                  <a:pt x="3077" y="298"/>
                </a:lnTo>
                <a:lnTo>
                  <a:pt x="3077" y="298"/>
                </a:lnTo>
                <a:lnTo>
                  <a:pt x="3114" y="329"/>
                </a:lnTo>
                <a:lnTo>
                  <a:pt x="3114" y="329"/>
                </a:lnTo>
                <a:lnTo>
                  <a:pt x="3114" y="329"/>
                </a:lnTo>
                <a:lnTo>
                  <a:pt x="3150" y="360"/>
                </a:lnTo>
                <a:lnTo>
                  <a:pt x="3150" y="360"/>
                </a:lnTo>
                <a:lnTo>
                  <a:pt x="3150" y="360"/>
                </a:lnTo>
                <a:lnTo>
                  <a:pt x="3184" y="390"/>
                </a:lnTo>
                <a:lnTo>
                  <a:pt x="3184" y="390"/>
                </a:lnTo>
                <a:lnTo>
                  <a:pt x="3184" y="390"/>
                </a:lnTo>
                <a:lnTo>
                  <a:pt x="3218" y="421"/>
                </a:lnTo>
                <a:lnTo>
                  <a:pt x="3218" y="421"/>
                </a:lnTo>
                <a:lnTo>
                  <a:pt x="3218" y="421"/>
                </a:lnTo>
                <a:lnTo>
                  <a:pt x="3251" y="454"/>
                </a:lnTo>
                <a:lnTo>
                  <a:pt x="3251" y="454"/>
                </a:lnTo>
                <a:lnTo>
                  <a:pt x="3251" y="454"/>
                </a:lnTo>
                <a:lnTo>
                  <a:pt x="3284" y="486"/>
                </a:lnTo>
                <a:lnTo>
                  <a:pt x="3284" y="486"/>
                </a:lnTo>
                <a:lnTo>
                  <a:pt x="3284" y="486"/>
                </a:lnTo>
                <a:lnTo>
                  <a:pt x="3316" y="519"/>
                </a:lnTo>
                <a:lnTo>
                  <a:pt x="3316" y="519"/>
                </a:lnTo>
                <a:lnTo>
                  <a:pt x="3316" y="519"/>
                </a:lnTo>
                <a:lnTo>
                  <a:pt x="3347" y="551"/>
                </a:lnTo>
                <a:lnTo>
                  <a:pt x="3347" y="551"/>
                </a:lnTo>
                <a:lnTo>
                  <a:pt x="3347" y="551"/>
                </a:lnTo>
                <a:lnTo>
                  <a:pt x="3377" y="585"/>
                </a:lnTo>
                <a:lnTo>
                  <a:pt x="3377" y="585"/>
                </a:lnTo>
                <a:lnTo>
                  <a:pt x="3377" y="585"/>
                </a:lnTo>
                <a:lnTo>
                  <a:pt x="3406" y="620"/>
                </a:lnTo>
                <a:lnTo>
                  <a:pt x="3406" y="620"/>
                </a:lnTo>
                <a:lnTo>
                  <a:pt x="3406" y="620"/>
                </a:lnTo>
                <a:lnTo>
                  <a:pt x="3435" y="654"/>
                </a:lnTo>
                <a:lnTo>
                  <a:pt x="3435" y="654"/>
                </a:lnTo>
                <a:lnTo>
                  <a:pt x="3435" y="654"/>
                </a:lnTo>
                <a:lnTo>
                  <a:pt x="3462" y="688"/>
                </a:lnTo>
                <a:lnTo>
                  <a:pt x="3462" y="688"/>
                </a:lnTo>
                <a:lnTo>
                  <a:pt x="3462" y="688"/>
                </a:lnTo>
                <a:lnTo>
                  <a:pt x="3490" y="725"/>
                </a:lnTo>
                <a:lnTo>
                  <a:pt x="3490" y="725"/>
                </a:lnTo>
                <a:lnTo>
                  <a:pt x="3490" y="725"/>
                </a:lnTo>
                <a:lnTo>
                  <a:pt x="3517" y="759"/>
                </a:lnTo>
                <a:lnTo>
                  <a:pt x="3517" y="759"/>
                </a:lnTo>
                <a:lnTo>
                  <a:pt x="3517" y="759"/>
                </a:lnTo>
                <a:lnTo>
                  <a:pt x="3542" y="795"/>
                </a:lnTo>
                <a:lnTo>
                  <a:pt x="3542" y="795"/>
                </a:lnTo>
                <a:lnTo>
                  <a:pt x="3542" y="795"/>
                </a:lnTo>
                <a:lnTo>
                  <a:pt x="3565" y="831"/>
                </a:lnTo>
                <a:lnTo>
                  <a:pt x="3565" y="831"/>
                </a:lnTo>
                <a:lnTo>
                  <a:pt x="3565" y="831"/>
                </a:lnTo>
                <a:lnTo>
                  <a:pt x="3591" y="869"/>
                </a:lnTo>
                <a:lnTo>
                  <a:pt x="3591" y="869"/>
                </a:lnTo>
                <a:lnTo>
                  <a:pt x="3591" y="869"/>
                </a:lnTo>
                <a:lnTo>
                  <a:pt x="3612" y="905"/>
                </a:lnTo>
                <a:lnTo>
                  <a:pt x="3612" y="905"/>
                </a:lnTo>
                <a:lnTo>
                  <a:pt x="3612" y="905"/>
                </a:lnTo>
                <a:lnTo>
                  <a:pt x="3636" y="943"/>
                </a:lnTo>
                <a:lnTo>
                  <a:pt x="3636" y="943"/>
                </a:lnTo>
                <a:lnTo>
                  <a:pt x="3636" y="943"/>
                </a:lnTo>
                <a:lnTo>
                  <a:pt x="3656" y="979"/>
                </a:lnTo>
                <a:lnTo>
                  <a:pt x="3656" y="979"/>
                </a:lnTo>
                <a:lnTo>
                  <a:pt x="3656" y="979"/>
                </a:lnTo>
                <a:lnTo>
                  <a:pt x="3677" y="1017"/>
                </a:lnTo>
                <a:lnTo>
                  <a:pt x="3677" y="1017"/>
                </a:lnTo>
                <a:lnTo>
                  <a:pt x="3677" y="1017"/>
                </a:lnTo>
                <a:lnTo>
                  <a:pt x="3696" y="1055"/>
                </a:lnTo>
                <a:lnTo>
                  <a:pt x="3696" y="1055"/>
                </a:lnTo>
                <a:lnTo>
                  <a:pt x="3696" y="1055"/>
                </a:lnTo>
                <a:lnTo>
                  <a:pt x="3715" y="1093"/>
                </a:lnTo>
                <a:lnTo>
                  <a:pt x="3715" y="1093"/>
                </a:lnTo>
                <a:lnTo>
                  <a:pt x="3715" y="1093"/>
                </a:lnTo>
                <a:lnTo>
                  <a:pt x="3733" y="1133"/>
                </a:lnTo>
                <a:lnTo>
                  <a:pt x="3733" y="1133"/>
                </a:lnTo>
                <a:lnTo>
                  <a:pt x="3733" y="1133"/>
                </a:lnTo>
                <a:lnTo>
                  <a:pt x="3750" y="1171"/>
                </a:lnTo>
                <a:lnTo>
                  <a:pt x="3750" y="1171"/>
                </a:lnTo>
                <a:lnTo>
                  <a:pt x="3750" y="1171"/>
                </a:lnTo>
                <a:lnTo>
                  <a:pt x="3766" y="1211"/>
                </a:lnTo>
                <a:lnTo>
                  <a:pt x="3766" y="1211"/>
                </a:lnTo>
                <a:lnTo>
                  <a:pt x="3766" y="1211"/>
                </a:lnTo>
                <a:lnTo>
                  <a:pt x="3780" y="1250"/>
                </a:lnTo>
                <a:lnTo>
                  <a:pt x="3780" y="1250"/>
                </a:lnTo>
                <a:lnTo>
                  <a:pt x="3780" y="1250"/>
                </a:lnTo>
                <a:lnTo>
                  <a:pt x="3795" y="1288"/>
                </a:lnTo>
                <a:lnTo>
                  <a:pt x="3795" y="1288"/>
                </a:lnTo>
                <a:lnTo>
                  <a:pt x="3795" y="1288"/>
                </a:lnTo>
                <a:lnTo>
                  <a:pt x="3809" y="1328"/>
                </a:lnTo>
                <a:lnTo>
                  <a:pt x="3809" y="1328"/>
                </a:lnTo>
                <a:lnTo>
                  <a:pt x="3809" y="1328"/>
                </a:lnTo>
                <a:lnTo>
                  <a:pt x="3820" y="1368"/>
                </a:lnTo>
                <a:lnTo>
                  <a:pt x="3820" y="1368"/>
                </a:lnTo>
                <a:lnTo>
                  <a:pt x="3820" y="1368"/>
                </a:lnTo>
                <a:lnTo>
                  <a:pt x="3833" y="1408"/>
                </a:lnTo>
                <a:lnTo>
                  <a:pt x="3833" y="1408"/>
                </a:lnTo>
                <a:lnTo>
                  <a:pt x="3833" y="1408"/>
                </a:lnTo>
                <a:lnTo>
                  <a:pt x="3844" y="1447"/>
                </a:lnTo>
                <a:lnTo>
                  <a:pt x="3844" y="1447"/>
                </a:lnTo>
                <a:lnTo>
                  <a:pt x="3844" y="1447"/>
                </a:lnTo>
                <a:lnTo>
                  <a:pt x="3853" y="1489"/>
                </a:lnTo>
                <a:lnTo>
                  <a:pt x="3853" y="1489"/>
                </a:lnTo>
                <a:lnTo>
                  <a:pt x="3853" y="1489"/>
                </a:lnTo>
                <a:lnTo>
                  <a:pt x="3862" y="1529"/>
                </a:lnTo>
                <a:lnTo>
                  <a:pt x="3862" y="1529"/>
                </a:lnTo>
                <a:lnTo>
                  <a:pt x="3862" y="1529"/>
                </a:lnTo>
                <a:lnTo>
                  <a:pt x="3869" y="1568"/>
                </a:lnTo>
                <a:lnTo>
                  <a:pt x="3869" y="1568"/>
                </a:lnTo>
                <a:lnTo>
                  <a:pt x="3869" y="1568"/>
                </a:lnTo>
                <a:lnTo>
                  <a:pt x="3876" y="1610"/>
                </a:lnTo>
                <a:lnTo>
                  <a:pt x="3876" y="1610"/>
                </a:lnTo>
                <a:lnTo>
                  <a:pt x="3876" y="1610"/>
                </a:lnTo>
                <a:lnTo>
                  <a:pt x="3882" y="1650"/>
                </a:lnTo>
                <a:lnTo>
                  <a:pt x="3882" y="1650"/>
                </a:lnTo>
                <a:lnTo>
                  <a:pt x="3882" y="1650"/>
                </a:lnTo>
                <a:lnTo>
                  <a:pt x="3887" y="1691"/>
                </a:lnTo>
                <a:lnTo>
                  <a:pt x="3887" y="1691"/>
                </a:lnTo>
                <a:lnTo>
                  <a:pt x="3887" y="1691"/>
                </a:lnTo>
                <a:lnTo>
                  <a:pt x="3892" y="1731"/>
                </a:lnTo>
                <a:lnTo>
                  <a:pt x="3892" y="1731"/>
                </a:lnTo>
                <a:lnTo>
                  <a:pt x="3892" y="1731"/>
                </a:lnTo>
                <a:lnTo>
                  <a:pt x="3894" y="1773"/>
                </a:lnTo>
                <a:lnTo>
                  <a:pt x="3894" y="1773"/>
                </a:lnTo>
                <a:lnTo>
                  <a:pt x="3894" y="1773"/>
                </a:lnTo>
                <a:lnTo>
                  <a:pt x="3898" y="1814"/>
                </a:lnTo>
                <a:lnTo>
                  <a:pt x="3898" y="1814"/>
                </a:lnTo>
                <a:lnTo>
                  <a:pt x="3898" y="1814"/>
                </a:lnTo>
                <a:lnTo>
                  <a:pt x="3898" y="1854"/>
                </a:lnTo>
                <a:lnTo>
                  <a:pt x="3898" y="1854"/>
                </a:lnTo>
                <a:lnTo>
                  <a:pt x="3898" y="1854"/>
                </a:lnTo>
                <a:lnTo>
                  <a:pt x="3900" y="1895"/>
                </a:lnTo>
                <a:lnTo>
                  <a:pt x="3900" y="1895"/>
                </a:lnTo>
                <a:lnTo>
                  <a:pt x="3900" y="1895"/>
                </a:lnTo>
                <a:lnTo>
                  <a:pt x="3898" y="1935"/>
                </a:lnTo>
                <a:lnTo>
                  <a:pt x="3898" y="1935"/>
                </a:lnTo>
                <a:lnTo>
                  <a:pt x="3898" y="1935"/>
                </a:lnTo>
                <a:lnTo>
                  <a:pt x="3898" y="1977"/>
                </a:lnTo>
                <a:lnTo>
                  <a:pt x="3898" y="1977"/>
                </a:lnTo>
                <a:lnTo>
                  <a:pt x="3898" y="1977"/>
                </a:lnTo>
                <a:lnTo>
                  <a:pt x="3894" y="2018"/>
                </a:lnTo>
                <a:lnTo>
                  <a:pt x="3894" y="2018"/>
                </a:lnTo>
                <a:lnTo>
                  <a:pt x="3894" y="2018"/>
                </a:lnTo>
                <a:lnTo>
                  <a:pt x="3892" y="2058"/>
                </a:lnTo>
                <a:lnTo>
                  <a:pt x="3892" y="2058"/>
                </a:lnTo>
                <a:lnTo>
                  <a:pt x="3892" y="2058"/>
                </a:lnTo>
                <a:lnTo>
                  <a:pt x="3887" y="2100"/>
                </a:lnTo>
                <a:lnTo>
                  <a:pt x="3887" y="2100"/>
                </a:lnTo>
                <a:lnTo>
                  <a:pt x="3887" y="2100"/>
                </a:lnTo>
                <a:lnTo>
                  <a:pt x="3882" y="2139"/>
                </a:lnTo>
                <a:lnTo>
                  <a:pt x="3882" y="2139"/>
                </a:lnTo>
                <a:lnTo>
                  <a:pt x="3882" y="2139"/>
                </a:lnTo>
                <a:lnTo>
                  <a:pt x="3876" y="2181"/>
                </a:lnTo>
                <a:lnTo>
                  <a:pt x="3876" y="2181"/>
                </a:lnTo>
                <a:lnTo>
                  <a:pt x="3876" y="2181"/>
                </a:lnTo>
                <a:lnTo>
                  <a:pt x="3869" y="2221"/>
                </a:lnTo>
                <a:lnTo>
                  <a:pt x="3869" y="2221"/>
                </a:lnTo>
                <a:lnTo>
                  <a:pt x="3869" y="2221"/>
                </a:lnTo>
                <a:lnTo>
                  <a:pt x="3862" y="2261"/>
                </a:lnTo>
                <a:lnTo>
                  <a:pt x="3862" y="2261"/>
                </a:lnTo>
                <a:lnTo>
                  <a:pt x="3862" y="2261"/>
                </a:lnTo>
                <a:lnTo>
                  <a:pt x="3853" y="2302"/>
                </a:lnTo>
                <a:lnTo>
                  <a:pt x="3853" y="2302"/>
                </a:lnTo>
                <a:lnTo>
                  <a:pt x="3853" y="2302"/>
                </a:lnTo>
                <a:lnTo>
                  <a:pt x="3844" y="2342"/>
                </a:lnTo>
                <a:lnTo>
                  <a:pt x="3844" y="2342"/>
                </a:lnTo>
                <a:lnTo>
                  <a:pt x="3844" y="2342"/>
                </a:lnTo>
                <a:lnTo>
                  <a:pt x="3833" y="2382"/>
                </a:lnTo>
                <a:lnTo>
                  <a:pt x="3833" y="2382"/>
                </a:lnTo>
                <a:lnTo>
                  <a:pt x="3833" y="2382"/>
                </a:lnTo>
                <a:lnTo>
                  <a:pt x="3820" y="2421"/>
                </a:lnTo>
                <a:lnTo>
                  <a:pt x="3820" y="2421"/>
                </a:lnTo>
                <a:lnTo>
                  <a:pt x="3820" y="2421"/>
                </a:lnTo>
                <a:lnTo>
                  <a:pt x="3809" y="2461"/>
                </a:lnTo>
                <a:lnTo>
                  <a:pt x="3809" y="2461"/>
                </a:lnTo>
                <a:lnTo>
                  <a:pt x="3809" y="2461"/>
                </a:lnTo>
                <a:lnTo>
                  <a:pt x="3795" y="2501"/>
                </a:lnTo>
                <a:lnTo>
                  <a:pt x="3795" y="2501"/>
                </a:lnTo>
                <a:lnTo>
                  <a:pt x="3795" y="2501"/>
                </a:lnTo>
                <a:lnTo>
                  <a:pt x="3780" y="2541"/>
                </a:lnTo>
                <a:lnTo>
                  <a:pt x="3780" y="2541"/>
                </a:lnTo>
                <a:lnTo>
                  <a:pt x="3780" y="2541"/>
                </a:lnTo>
                <a:lnTo>
                  <a:pt x="3766" y="2580"/>
                </a:lnTo>
                <a:lnTo>
                  <a:pt x="3766" y="2580"/>
                </a:lnTo>
                <a:lnTo>
                  <a:pt x="3766" y="2580"/>
                </a:lnTo>
                <a:lnTo>
                  <a:pt x="3750" y="2618"/>
                </a:lnTo>
                <a:lnTo>
                  <a:pt x="3750" y="2618"/>
                </a:lnTo>
                <a:lnTo>
                  <a:pt x="3750" y="2618"/>
                </a:lnTo>
                <a:lnTo>
                  <a:pt x="3733" y="2658"/>
                </a:lnTo>
                <a:lnTo>
                  <a:pt x="3733" y="2658"/>
                </a:lnTo>
                <a:lnTo>
                  <a:pt x="3733" y="2658"/>
                </a:lnTo>
                <a:lnTo>
                  <a:pt x="3715" y="2696"/>
                </a:lnTo>
                <a:lnTo>
                  <a:pt x="3715" y="2696"/>
                </a:lnTo>
                <a:lnTo>
                  <a:pt x="3715" y="2696"/>
                </a:lnTo>
                <a:lnTo>
                  <a:pt x="3696" y="2734"/>
                </a:lnTo>
                <a:lnTo>
                  <a:pt x="3696" y="2734"/>
                </a:lnTo>
                <a:lnTo>
                  <a:pt x="3696" y="2734"/>
                </a:lnTo>
                <a:lnTo>
                  <a:pt x="3677" y="2772"/>
                </a:lnTo>
                <a:lnTo>
                  <a:pt x="3677" y="2772"/>
                </a:lnTo>
                <a:lnTo>
                  <a:pt x="3677" y="2772"/>
                </a:lnTo>
                <a:lnTo>
                  <a:pt x="3656" y="2810"/>
                </a:lnTo>
                <a:lnTo>
                  <a:pt x="3656" y="2810"/>
                </a:lnTo>
                <a:lnTo>
                  <a:pt x="3656" y="2810"/>
                </a:lnTo>
                <a:lnTo>
                  <a:pt x="3636" y="2848"/>
                </a:lnTo>
                <a:lnTo>
                  <a:pt x="3636" y="2848"/>
                </a:lnTo>
                <a:lnTo>
                  <a:pt x="3636" y="2848"/>
                </a:lnTo>
                <a:lnTo>
                  <a:pt x="3612" y="2884"/>
                </a:lnTo>
                <a:lnTo>
                  <a:pt x="3612" y="2884"/>
                </a:lnTo>
                <a:lnTo>
                  <a:pt x="3612" y="2884"/>
                </a:lnTo>
                <a:lnTo>
                  <a:pt x="3591" y="2922"/>
                </a:lnTo>
                <a:lnTo>
                  <a:pt x="3591" y="2922"/>
                </a:lnTo>
                <a:lnTo>
                  <a:pt x="3591" y="2922"/>
                </a:lnTo>
                <a:lnTo>
                  <a:pt x="3565" y="2958"/>
                </a:lnTo>
                <a:lnTo>
                  <a:pt x="3565" y="2958"/>
                </a:lnTo>
                <a:lnTo>
                  <a:pt x="3565" y="2958"/>
                </a:lnTo>
                <a:lnTo>
                  <a:pt x="3542" y="2994"/>
                </a:lnTo>
                <a:lnTo>
                  <a:pt x="3542" y="2994"/>
                </a:lnTo>
                <a:lnTo>
                  <a:pt x="3542" y="2994"/>
                </a:lnTo>
                <a:lnTo>
                  <a:pt x="3517" y="3030"/>
                </a:lnTo>
                <a:lnTo>
                  <a:pt x="3517" y="3030"/>
                </a:lnTo>
                <a:lnTo>
                  <a:pt x="3517" y="3030"/>
                </a:lnTo>
                <a:lnTo>
                  <a:pt x="3490" y="3066"/>
                </a:lnTo>
                <a:lnTo>
                  <a:pt x="3490" y="3066"/>
                </a:lnTo>
                <a:lnTo>
                  <a:pt x="3490" y="3066"/>
                </a:lnTo>
                <a:lnTo>
                  <a:pt x="3462" y="3101"/>
                </a:lnTo>
                <a:lnTo>
                  <a:pt x="3462" y="3101"/>
                </a:lnTo>
                <a:lnTo>
                  <a:pt x="3462" y="3101"/>
                </a:lnTo>
                <a:lnTo>
                  <a:pt x="3435" y="3137"/>
                </a:lnTo>
                <a:lnTo>
                  <a:pt x="3435" y="3137"/>
                </a:lnTo>
                <a:lnTo>
                  <a:pt x="3435" y="3137"/>
                </a:lnTo>
                <a:lnTo>
                  <a:pt x="3406" y="3171"/>
                </a:lnTo>
                <a:lnTo>
                  <a:pt x="3406" y="3171"/>
                </a:lnTo>
                <a:lnTo>
                  <a:pt x="3406" y="3171"/>
                </a:lnTo>
                <a:lnTo>
                  <a:pt x="3377" y="3204"/>
                </a:lnTo>
                <a:lnTo>
                  <a:pt x="3377" y="3204"/>
                </a:lnTo>
                <a:lnTo>
                  <a:pt x="3377" y="3204"/>
                </a:lnTo>
                <a:lnTo>
                  <a:pt x="3347" y="3238"/>
                </a:lnTo>
                <a:lnTo>
                  <a:pt x="3347" y="3238"/>
                </a:lnTo>
                <a:lnTo>
                  <a:pt x="3347" y="3238"/>
                </a:lnTo>
                <a:lnTo>
                  <a:pt x="3316" y="3272"/>
                </a:lnTo>
                <a:lnTo>
                  <a:pt x="3316" y="3272"/>
                </a:lnTo>
                <a:lnTo>
                  <a:pt x="3316" y="3272"/>
                </a:lnTo>
                <a:lnTo>
                  <a:pt x="3284" y="3305"/>
                </a:lnTo>
                <a:lnTo>
                  <a:pt x="3284" y="3305"/>
                </a:lnTo>
                <a:lnTo>
                  <a:pt x="3284" y="3305"/>
                </a:lnTo>
                <a:lnTo>
                  <a:pt x="3251" y="3337"/>
                </a:lnTo>
                <a:lnTo>
                  <a:pt x="3251" y="3337"/>
                </a:lnTo>
                <a:lnTo>
                  <a:pt x="3251" y="3337"/>
                </a:lnTo>
                <a:lnTo>
                  <a:pt x="3218" y="3368"/>
                </a:lnTo>
                <a:lnTo>
                  <a:pt x="3218" y="3368"/>
                </a:lnTo>
                <a:lnTo>
                  <a:pt x="3218" y="3368"/>
                </a:lnTo>
                <a:lnTo>
                  <a:pt x="3184" y="3401"/>
                </a:lnTo>
                <a:lnTo>
                  <a:pt x="3184" y="3401"/>
                </a:lnTo>
                <a:lnTo>
                  <a:pt x="3184" y="3401"/>
                </a:lnTo>
                <a:lnTo>
                  <a:pt x="3150" y="3431"/>
                </a:lnTo>
                <a:lnTo>
                  <a:pt x="3150" y="3431"/>
                </a:lnTo>
                <a:lnTo>
                  <a:pt x="3150" y="3431"/>
                </a:lnTo>
                <a:lnTo>
                  <a:pt x="3114" y="3462"/>
                </a:lnTo>
                <a:lnTo>
                  <a:pt x="3114" y="3462"/>
                </a:lnTo>
                <a:lnTo>
                  <a:pt x="3114" y="3462"/>
                </a:lnTo>
                <a:lnTo>
                  <a:pt x="3077" y="3493"/>
                </a:lnTo>
                <a:lnTo>
                  <a:pt x="3077" y="3493"/>
                </a:lnTo>
                <a:lnTo>
                  <a:pt x="3077" y="3493"/>
                </a:lnTo>
                <a:lnTo>
                  <a:pt x="3041" y="3522"/>
                </a:lnTo>
                <a:lnTo>
                  <a:pt x="3041" y="3522"/>
                </a:lnTo>
                <a:lnTo>
                  <a:pt x="3041" y="3522"/>
                </a:lnTo>
                <a:lnTo>
                  <a:pt x="3003" y="3551"/>
                </a:lnTo>
                <a:lnTo>
                  <a:pt x="3003" y="3551"/>
                </a:lnTo>
                <a:lnTo>
                  <a:pt x="3003" y="3551"/>
                </a:lnTo>
                <a:lnTo>
                  <a:pt x="2965" y="3580"/>
                </a:lnTo>
                <a:lnTo>
                  <a:pt x="2965" y="3580"/>
                </a:lnTo>
                <a:lnTo>
                  <a:pt x="2965" y="3580"/>
                </a:lnTo>
                <a:lnTo>
                  <a:pt x="2928" y="3609"/>
                </a:lnTo>
                <a:lnTo>
                  <a:pt x="2928" y="3609"/>
                </a:lnTo>
                <a:lnTo>
                  <a:pt x="2928" y="3609"/>
                </a:lnTo>
                <a:lnTo>
                  <a:pt x="2888" y="3636"/>
                </a:lnTo>
                <a:lnTo>
                  <a:pt x="2888" y="3636"/>
                </a:lnTo>
                <a:lnTo>
                  <a:pt x="2888" y="3636"/>
                </a:lnTo>
                <a:lnTo>
                  <a:pt x="2848" y="3663"/>
                </a:lnTo>
                <a:lnTo>
                  <a:pt x="2848" y="3663"/>
                </a:lnTo>
                <a:lnTo>
                  <a:pt x="2848" y="3663"/>
                </a:lnTo>
                <a:lnTo>
                  <a:pt x="2808" y="3690"/>
                </a:lnTo>
                <a:lnTo>
                  <a:pt x="2808" y="3690"/>
                </a:lnTo>
                <a:lnTo>
                  <a:pt x="2808" y="3690"/>
                </a:lnTo>
                <a:lnTo>
                  <a:pt x="2767" y="3715"/>
                </a:lnTo>
                <a:lnTo>
                  <a:pt x="2767" y="3715"/>
                </a:lnTo>
                <a:lnTo>
                  <a:pt x="2767" y="3715"/>
                </a:lnTo>
                <a:lnTo>
                  <a:pt x="2725" y="3740"/>
                </a:lnTo>
                <a:lnTo>
                  <a:pt x="2725" y="3740"/>
                </a:lnTo>
                <a:lnTo>
                  <a:pt x="2725" y="3740"/>
                </a:lnTo>
                <a:lnTo>
                  <a:pt x="2682" y="3766"/>
                </a:lnTo>
                <a:lnTo>
                  <a:pt x="2682" y="3766"/>
                </a:lnTo>
                <a:lnTo>
                  <a:pt x="2682" y="3766"/>
                </a:lnTo>
                <a:lnTo>
                  <a:pt x="2638" y="3789"/>
                </a:lnTo>
                <a:lnTo>
                  <a:pt x="2638" y="3789"/>
                </a:lnTo>
                <a:lnTo>
                  <a:pt x="2638" y="3789"/>
                </a:lnTo>
                <a:lnTo>
                  <a:pt x="2595" y="3813"/>
                </a:lnTo>
                <a:lnTo>
                  <a:pt x="2595" y="3813"/>
                </a:lnTo>
                <a:lnTo>
                  <a:pt x="2595" y="3813"/>
                </a:lnTo>
                <a:lnTo>
                  <a:pt x="2552" y="3836"/>
                </a:lnTo>
                <a:lnTo>
                  <a:pt x="2552" y="3836"/>
                </a:lnTo>
                <a:lnTo>
                  <a:pt x="2552" y="3836"/>
                </a:lnTo>
                <a:lnTo>
                  <a:pt x="2506" y="3860"/>
                </a:lnTo>
                <a:lnTo>
                  <a:pt x="2506" y="3860"/>
                </a:lnTo>
                <a:lnTo>
                  <a:pt x="2506" y="3860"/>
                </a:lnTo>
                <a:lnTo>
                  <a:pt x="2463" y="3881"/>
                </a:lnTo>
                <a:lnTo>
                  <a:pt x="2463" y="3881"/>
                </a:lnTo>
                <a:lnTo>
                  <a:pt x="2463" y="3881"/>
                </a:lnTo>
                <a:lnTo>
                  <a:pt x="2416" y="3903"/>
                </a:lnTo>
                <a:lnTo>
                  <a:pt x="2416" y="3903"/>
                </a:lnTo>
                <a:lnTo>
                  <a:pt x="2416" y="3903"/>
                </a:lnTo>
                <a:lnTo>
                  <a:pt x="2371" y="3923"/>
                </a:lnTo>
                <a:lnTo>
                  <a:pt x="2371" y="3923"/>
                </a:lnTo>
                <a:lnTo>
                  <a:pt x="2371" y="3923"/>
                </a:lnTo>
                <a:lnTo>
                  <a:pt x="2324" y="3943"/>
                </a:lnTo>
                <a:lnTo>
                  <a:pt x="2324" y="3943"/>
                </a:lnTo>
                <a:lnTo>
                  <a:pt x="2324" y="3943"/>
                </a:lnTo>
                <a:lnTo>
                  <a:pt x="2277" y="3963"/>
                </a:lnTo>
                <a:lnTo>
                  <a:pt x="2277" y="3963"/>
                </a:lnTo>
                <a:lnTo>
                  <a:pt x="2277" y="3963"/>
                </a:lnTo>
                <a:lnTo>
                  <a:pt x="2230" y="3983"/>
                </a:lnTo>
                <a:lnTo>
                  <a:pt x="2230" y="3983"/>
                </a:lnTo>
                <a:lnTo>
                  <a:pt x="2230" y="3983"/>
                </a:lnTo>
                <a:lnTo>
                  <a:pt x="2183" y="4001"/>
                </a:lnTo>
                <a:lnTo>
                  <a:pt x="2183" y="4001"/>
                </a:lnTo>
                <a:lnTo>
                  <a:pt x="2183" y="4001"/>
                </a:lnTo>
                <a:lnTo>
                  <a:pt x="2134" y="4017"/>
                </a:lnTo>
                <a:lnTo>
                  <a:pt x="2134" y="4017"/>
                </a:lnTo>
                <a:lnTo>
                  <a:pt x="2134" y="4017"/>
                </a:lnTo>
                <a:lnTo>
                  <a:pt x="2085" y="4035"/>
                </a:lnTo>
                <a:lnTo>
                  <a:pt x="2085" y="4035"/>
                </a:lnTo>
                <a:lnTo>
                  <a:pt x="2085" y="4035"/>
                </a:lnTo>
                <a:lnTo>
                  <a:pt x="2037" y="4051"/>
                </a:lnTo>
                <a:lnTo>
                  <a:pt x="2037" y="4051"/>
                </a:lnTo>
                <a:lnTo>
                  <a:pt x="2037" y="4051"/>
                </a:lnTo>
                <a:lnTo>
                  <a:pt x="1988" y="4066"/>
                </a:lnTo>
                <a:lnTo>
                  <a:pt x="1988" y="4066"/>
                </a:lnTo>
                <a:lnTo>
                  <a:pt x="1988" y="4066"/>
                </a:lnTo>
                <a:lnTo>
                  <a:pt x="1937" y="4082"/>
                </a:lnTo>
                <a:lnTo>
                  <a:pt x="1937" y="4082"/>
                </a:lnTo>
                <a:lnTo>
                  <a:pt x="1937" y="4082"/>
                </a:lnTo>
                <a:lnTo>
                  <a:pt x="1888" y="4096"/>
                </a:lnTo>
                <a:lnTo>
                  <a:pt x="1888" y="4096"/>
                </a:lnTo>
                <a:lnTo>
                  <a:pt x="1888" y="4096"/>
                </a:lnTo>
                <a:lnTo>
                  <a:pt x="1838" y="4109"/>
                </a:lnTo>
                <a:lnTo>
                  <a:pt x="1838" y="4109"/>
                </a:lnTo>
                <a:lnTo>
                  <a:pt x="1838" y="4109"/>
                </a:lnTo>
                <a:lnTo>
                  <a:pt x="1787" y="4122"/>
                </a:lnTo>
                <a:lnTo>
                  <a:pt x="1787" y="4122"/>
                </a:lnTo>
                <a:lnTo>
                  <a:pt x="1787" y="4122"/>
                </a:lnTo>
                <a:lnTo>
                  <a:pt x="1737" y="4134"/>
                </a:lnTo>
                <a:lnTo>
                  <a:pt x="1737" y="4134"/>
                </a:lnTo>
                <a:lnTo>
                  <a:pt x="1737" y="4134"/>
                </a:lnTo>
                <a:lnTo>
                  <a:pt x="1686" y="4147"/>
                </a:lnTo>
                <a:lnTo>
                  <a:pt x="1686" y="4147"/>
                </a:lnTo>
                <a:lnTo>
                  <a:pt x="1686" y="4147"/>
                </a:lnTo>
                <a:lnTo>
                  <a:pt x="1634" y="4158"/>
                </a:lnTo>
                <a:lnTo>
                  <a:pt x="1634" y="4158"/>
                </a:lnTo>
                <a:lnTo>
                  <a:pt x="1634" y="4158"/>
                </a:lnTo>
                <a:lnTo>
                  <a:pt x="1581" y="4167"/>
                </a:lnTo>
                <a:lnTo>
                  <a:pt x="1581" y="4167"/>
                </a:lnTo>
                <a:lnTo>
                  <a:pt x="1581" y="4167"/>
                </a:lnTo>
                <a:lnTo>
                  <a:pt x="1531" y="4178"/>
                </a:lnTo>
                <a:lnTo>
                  <a:pt x="1531" y="4178"/>
                </a:lnTo>
                <a:lnTo>
                  <a:pt x="1531" y="4178"/>
                </a:lnTo>
                <a:lnTo>
                  <a:pt x="1478" y="4185"/>
                </a:lnTo>
                <a:lnTo>
                  <a:pt x="1478" y="4185"/>
                </a:lnTo>
                <a:lnTo>
                  <a:pt x="1478" y="4185"/>
                </a:lnTo>
                <a:lnTo>
                  <a:pt x="1426" y="4194"/>
                </a:lnTo>
                <a:lnTo>
                  <a:pt x="1426" y="4194"/>
                </a:lnTo>
                <a:lnTo>
                  <a:pt x="1426" y="4194"/>
                </a:lnTo>
                <a:lnTo>
                  <a:pt x="1373" y="4201"/>
                </a:lnTo>
                <a:lnTo>
                  <a:pt x="1373" y="4201"/>
                </a:lnTo>
                <a:lnTo>
                  <a:pt x="1373" y="4201"/>
                </a:lnTo>
                <a:lnTo>
                  <a:pt x="1321" y="4208"/>
                </a:lnTo>
                <a:lnTo>
                  <a:pt x="1321" y="4208"/>
                </a:lnTo>
                <a:lnTo>
                  <a:pt x="1321" y="4208"/>
                </a:lnTo>
                <a:lnTo>
                  <a:pt x="1269" y="4214"/>
                </a:lnTo>
                <a:lnTo>
                  <a:pt x="1269" y="4214"/>
                </a:lnTo>
                <a:lnTo>
                  <a:pt x="1269" y="4214"/>
                </a:lnTo>
                <a:lnTo>
                  <a:pt x="1214" y="4219"/>
                </a:lnTo>
                <a:lnTo>
                  <a:pt x="1214" y="4219"/>
                </a:lnTo>
                <a:lnTo>
                  <a:pt x="1214" y="4219"/>
                </a:lnTo>
                <a:lnTo>
                  <a:pt x="1162" y="4225"/>
                </a:lnTo>
                <a:lnTo>
                  <a:pt x="1162" y="4225"/>
                </a:lnTo>
                <a:lnTo>
                  <a:pt x="1162" y="4225"/>
                </a:lnTo>
                <a:lnTo>
                  <a:pt x="1110" y="4228"/>
                </a:lnTo>
                <a:lnTo>
                  <a:pt x="1110" y="4228"/>
                </a:lnTo>
                <a:lnTo>
                  <a:pt x="1110" y="4228"/>
                </a:lnTo>
                <a:lnTo>
                  <a:pt x="1055" y="4232"/>
                </a:lnTo>
                <a:lnTo>
                  <a:pt x="1055" y="4232"/>
                </a:lnTo>
                <a:lnTo>
                  <a:pt x="1055" y="4232"/>
                </a:lnTo>
                <a:lnTo>
                  <a:pt x="1003" y="4234"/>
                </a:lnTo>
                <a:lnTo>
                  <a:pt x="1003" y="4234"/>
                </a:lnTo>
                <a:lnTo>
                  <a:pt x="1003" y="4234"/>
                </a:lnTo>
                <a:lnTo>
                  <a:pt x="949" y="4236"/>
                </a:lnTo>
                <a:lnTo>
                  <a:pt x="949" y="4236"/>
                </a:lnTo>
                <a:lnTo>
                  <a:pt x="949" y="4236"/>
                </a:lnTo>
                <a:lnTo>
                  <a:pt x="896" y="4237"/>
                </a:lnTo>
                <a:lnTo>
                  <a:pt x="896" y="4237"/>
                </a:lnTo>
                <a:lnTo>
                  <a:pt x="896" y="4237"/>
                </a:lnTo>
                <a:lnTo>
                  <a:pt x="842" y="4237"/>
                </a:lnTo>
                <a:lnTo>
                  <a:pt x="842" y="4237"/>
                </a:lnTo>
                <a:lnTo>
                  <a:pt x="842" y="4237"/>
                </a:lnTo>
                <a:lnTo>
                  <a:pt x="790" y="4237"/>
                </a:lnTo>
                <a:lnTo>
                  <a:pt x="790" y="4237"/>
                </a:lnTo>
                <a:lnTo>
                  <a:pt x="790" y="4237"/>
                </a:lnTo>
                <a:lnTo>
                  <a:pt x="736" y="4236"/>
                </a:lnTo>
                <a:lnTo>
                  <a:pt x="736" y="4236"/>
                </a:lnTo>
                <a:lnTo>
                  <a:pt x="736" y="4236"/>
                </a:lnTo>
                <a:lnTo>
                  <a:pt x="683" y="4234"/>
                </a:lnTo>
                <a:lnTo>
                  <a:pt x="683" y="4234"/>
                </a:lnTo>
                <a:lnTo>
                  <a:pt x="683" y="4234"/>
                </a:lnTo>
                <a:lnTo>
                  <a:pt x="629" y="4232"/>
                </a:lnTo>
                <a:lnTo>
                  <a:pt x="629" y="4232"/>
                </a:lnTo>
                <a:lnTo>
                  <a:pt x="629" y="4232"/>
                </a:lnTo>
                <a:lnTo>
                  <a:pt x="577" y="4228"/>
                </a:lnTo>
                <a:lnTo>
                  <a:pt x="577" y="4228"/>
                </a:lnTo>
                <a:lnTo>
                  <a:pt x="577" y="4228"/>
                </a:lnTo>
                <a:lnTo>
                  <a:pt x="522" y="4225"/>
                </a:lnTo>
                <a:lnTo>
                  <a:pt x="522" y="4225"/>
                </a:lnTo>
                <a:lnTo>
                  <a:pt x="522" y="4225"/>
                </a:lnTo>
                <a:lnTo>
                  <a:pt x="470" y="4219"/>
                </a:lnTo>
                <a:lnTo>
                  <a:pt x="470" y="4219"/>
                </a:lnTo>
                <a:lnTo>
                  <a:pt x="470" y="4219"/>
                </a:lnTo>
                <a:lnTo>
                  <a:pt x="418" y="4214"/>
                </a:lnTo>
                <a:lnTo>
                  <a:pt x="418" y="4214"/>
                </a:lnTo>
                <a:lnTo>
                  <a:pt x="418" y="4214"/>
                </a:lnTo>
                <a:lnTo>
                  <a:pt x="365" y="4208"/>
                </a:lnTo>
                <a:lnTo>
                  <a:pt x="365" y="4208"/>
                </a:lnTo>
                <a:lnTo>
                  <a:pt x="365" y="4208"/>
                </a:lnTo>
                <a:lnTo>
                  <a:pt x="313" y="4201"/>
                </a:lnTo>
                <a:lnTo>
                  <a:pt x="313" y="4201"/>
                </a:lnTo>
                <a:lnTo>
                  <a:pt x="313" y="4201"/>
                </a:lnTo>
                <a:lnTo>
                  <a:pt x="260" y="4194"/>
                </a:lnTo>
                <a:lnTo>
                  <a:pt x="260" y="4194"/>
                </a:lnTo>
                <a:lnTo>
                  <a:pt x="260" y="4194"/>
                </a:lnTo>
                <a:lnTo>
                  <a:pt x="208" y="4185"/>
                </a:lnTo>
                <a:lnTo>
                  <a:pt x="208" y="4185"/>
                </a:lnTo>
                <a:lnTo>
                  <a:pt x="208" y="4185"/>
                </a:lnTo>
                <a:lnTo>
                  <a:pt x="155" y="4178"/>
                </a:lnTo>
                <a:lnTo>
                  <a:pt x="155" y="4178"/>
                </a:lnTo>
                <a:lnTo>
                  <a:pt x="155" y="4178"/>
                </a:lnTo>
                <a:lnTo>
                  <a:pt x="103" y="4167"/>
                </a:lnTo>
                <a:lnTo>
                  <a:pt x="103" y="4167"/>
                </a:lnTo>
                <a:lnTo>
                  <a:pt x="103" y="4167"/>
                </a:lnTo>
                <a:lnTo>
                  <a:pt x="51" y="4158"/>
                </a:lnTo>
                <a:lnTo>
                  <a:pt x="51" y="4158"/>
                </a:lnTo>
                <a:lnTo>
                  <a:pt x="51" y="4158"/>
                </a:lnTo>
                <a:lnTo>
                  <a:pt x="0" y="4147"/>
                </a:lnTo>
                <a:lnTo>
                  <a:pt x="0" y="4147"/>
                </a:lnTo>
                <a:lnTo>
                  <a:pt x="842" y="1895"/>
                </a:lnTo>
                <a:lnTo>
                  <a:pt x="2638" y="0"/>
                </a:lnTo>
                <a:close/>
              </a:path>
            </a:pathLst>
          </a:custGeom>
          <a:solidFill>
            <a:srgbClr val="ccffff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294200" y="2752560"/>
            <a:ext cx="721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4.3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406040" y="1447920"/>
            <a:ext cx="5799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7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375880" y="1595520"/>
            <a:ext cx="5799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.0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647400" y="4848120"/>
            <a:ext cx="721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4.5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218240" y="4657680"/>
            <a:ext cx="721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.6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800760" y="2513160"/>
            <a:ext cx="1886040" cy="136188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935760" y="2625840"/>
            <a:ext cx="103320" cy="102960"/>
          </a:xfrm>
          <a:prstGeom prst="rect">
            <a:avLst/>
          </a:prstGeom>
          <a:solidFill>
            <a:srgbClr val="9999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075440" y="2583000"/>
            <a:ext cx="15292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quinam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935760" y="2859120"/>
            <a:ext cx="103320" cy="103320"/>
          </a:xfrm>
          <a:prstGeom prst="rect">
            <a:avLst/>
          </a:prstGeom>
          <a:solidFill>
            <a:srgbClr val="993366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073640" y="2816280"/>
            <a:ext cx="10645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as ser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935760" y="3092400"/>
            <a:ext cx="103320" cy="103320"/>
          </a:xfrm>
          <a:prstGeom prst="rect">
            <a:avLst/>
          </a:prstGeom>
          <a:solidFill>
            <a:srgbClr val="ffffcc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074720" y="3049560"/>
            <a:ext cx="808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um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935760" y="3327480"/>
            <a:ext cx="103320" cy="102960"/>
          </a:xfrm>
          <a:prstGeom prst="rect">
            <a:avLst/>
          </a:prstGeom>
          <a:solidFill>
            <a:srgbClr val="cc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074720" y="3282840"/>
            <a:ext cx="1375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gesti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935760" y="3560760"/>
            <a:ext cx="103320" cy="103320"/>
          </a:xfrm>
          <a:prstGeom prst="rect">
            <a:avLst/>
          </a:prstGeom>
          <a:solidFill>
            <a:srgbClr val="660066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7076520" y="3517920"/>
            <a:ext cx="934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ciden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133720" y="3233880"/>
            <a:ext cx="4572000" cy="966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Times New Roman"/>
              </a:rPr>
              <a:t>680 milioni di €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(530 al netto dei premi assicurativ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ichiardi, I costi esterni della mobilità metropolitana a Torin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2714BF-5B75-446A-98F4-DED8429130D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6600"/>
                </a:solidFill>
                <a:latin typeface="Times New Roman"/>
              </a:rPr>
              <a:t>Costi complessivi (200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065480" y="1978200"/>
            <a:ext cx="125640" cy="129960"/>
          </a:xfrm>
          <a:custGeom>
            <a:avLst/>
            <a:gdLst/>
            <a:ahLst/>
            <a:rect l="l" t="t" r="r" b="b"/>
            <a:pathLst>
              <a:path w="88" h="90">
                <a:moveTo>
                  <a:pt x="88" y="0"/>
                </a:moveTo>
                <a:lnTo>
                  <a:pt x="0" y="0"/>
                </a:lnTo>
                <a:lnTo>
                  <a:pt x="0" y="9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065480" y="1695600"/>
            <a:ext cx="125640" cy="412560"/>
          </a:xfrm>
          <a:custGeom>
            <a:avLst/>
            <a:gdLst/>
            <a:ahLst/>
            <a:rect l="l" t="t" r="r" b="b"/>
            <a:pathLst>
              <a:path w="88" h="287">
                <a:moveTo>
                  <a:pt x="88" y="0"/>
                </a:moveTo>
                <a:lnTo>
                  <a:pt x="0" y="0"/>
                </a:lnTo>
                <a:lnTo>
                  <a:pt x="0" y="287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568600" y="2108160"/>
            <a:ext cx="1496880" cy="1617840"/>
          </a:xfrm>
          <a:custGeom>
            <a:avLst/>
            <a:gdLst/>
            <a:ahLst/>
            <a:rect l="l" t="t" r="r" b="b"/>
            <a:pathLst>
              <a:path w="1884" h="2040">
                <a:moveTo>
                  <a:pt x="0" y="598"/>
                </a:moveTo>
                <a:lnTo>
                  <a:pt x="0" y="598"/>
                </a:lnTo>
                <a:lnTo>
                  <a:pt x="34" y="573"/>
                </a:lnTo>
                <a:lnTo>
                  <a:pt x="34" y="573"/>
                </a:lnTo>
                <a:lnTo>
                  <a:pt x="34" y="573"/>
                </a:lnTo>
                <a:lnTo>
                  <a:pt x="66" y="547"/>
                </a:lnTo>
                <a:lnTo>
                  <a:pt x="66" y="547"/>
                </a:lnTo>
                <a:lnTo>
                  <a:pt x="66" y="547"/>
                </a:lnTo>
                <a:lnTo>
                  <a:pt x="101" y="524"/>
                </a:lnTo>
                <a:lnTo>
                  <a:pt x="101" y="524"/>
                </a:lnTo>
                <a:lnTo>
                  <a:pt x="101" y="524"/>
                </a:lnTo>
                <a:lnTo>
                  <a:pt x="137" y="500"/>
                </a:lnTo>
                <a:lnTo>
                  <a:pt x="137" y="500"/>
                </a:lnTo>
                <a:lnTo>
                  <a:pt x="137" y="500"/>
                </a:lnTo>
                <a:lnTo>
                  <a:pt x="171" y="477"/>
                </a:lnTo>
                <a:lnTo>
                  <a:pt x="171" y="477"/>
                </a:lnTo>
                <a:lnTo>
                  <a:pt x="171" y="477"/>
                </a:lnTo>
                <a:lnTo>
                  <a:pt x="207" y="453"/>
                </a:lnTo>
                <a:lnTo>
                  <a:pt x="207" y="453"/>
                </a:lnTo>
                <a:lnTo>
                  <a:pt x="207" y="453"/>
                </a:lnTo>
                <a:lnTo>
                  <a:pt x="244" y="432"/>
                </a:lnTo>
                <a:lnTo>
                  <a:pt x="244" y="432"/>
                </a:lnTo>
                <a:lnTo>
                  <a:pt x="244" y="432"/>
                </a:lnTo>
                <a:lnTo>
                  <a:pt x="282" y="410"/>
                </a:lnTo>
                <a:lnTo>
                  <a:pt x="282" y="410"/>
                </a:lnTo>
                <a:lnTo>
                  <a:pt x="282" y="410"/>
                </a:lnTo>
                <a:lnTo>
                  <a:pt x="318" y="388"/>
                </a:lnTo>
                <a:lnTo>
                  <a:pt x="318" y="388"/>
                </a:lnTo>
                <a:lnTo>
                  <a:pt x="318" y="388"/>
                </a:lnTo>
                <a:lnTo>
                  <a:pt x="356" y="369"/>
                </a:lnTo>
                <a:lnTo>
                  <a:pt x="356" y="369"/>
                </a:lnTo>
                <a:lnTo>
                  <a:pt x="356" y="369"/>
                </a:lnTo>
                <a:lnTo>
                  <a:pt x="395" y="349"/>
                </a:lnTo>
                <a:lnTo>
                  <a:pt x="395" y="349"/>
                </a:lnTo>
                <a:lnTo>
                  <a:pt x="395" y="349"/>
                </a:lnTo>
                <a:lnTo>
                  <a:pt x="433" y="329"/>
                </a:lnTo>
                <a:lnTo>
                  <a:pt x="433" y="329"/>
                </a:lnTo>
                <a:lnTo>
                  <a:pt x="433" y="329"/>
                </a:lnTo>
                <a:lnTo>
                  <a:pt x="473" y="309"/>
                </a:lnTo>
                <a:lnTo>
                  <a:pt x="473" y="309"/>
                </a:lnTo>
                <a:lnTo>
                  <a:pt x="473" y="309"/>
                </a:lnTo>
                <a:lnTo>
                  <a:pt x="513" y="291"/>
                </a:lnTo>
                <a:lnTo>
                  <a:pt x="513" y="291"/>
                </a:lnTo>
                <a:lnTo>
                  <a:pt x="513" y="291"/>
                </a:lnTo>
                <a:lnTo>
                  <a:pt x="553" y="273"/>
                </a:lnTo>
                <a:lnTo>
                  <a:pt x="553" y="273"/>
                </a:lnTo>
                <a:lnTo>
                  <a:pt x="553" y="273"/>
                </a:lnTo>
                <a:lnTo>
                  <a:pt x="592" y="255"/>
                </a:lnTo>
                <a:lnTo>
                  <a:pt x="592" y="255"/>
                </a:lnTo>
                <a:lnTo>
                  <a:pt x="592" y="255"/>
                </a:lnTo>
                <a:lnTo>
                  <a:pt x="634" y="239"/>
                </a:lnTo>
                <a:lnTo>
                  <a:pt x="634" y="239"/>
                </a:lnTo>
                <a:lnTo>
                  <a:pt x="634" y="239"/>
                </a:lnTo>
                <a:lnTo>
                  <a:pt x="675" y="222"/>
                </a:lnTo>
                <a:lnTo>
                  <a:pt x="675" y="222"/>
                </a:lnTo>
                <a:lnTo>
                  <a:pt x="675" y="222"/>
                </a:lnTo>
                <a:lnTo>
                  <a:pt x="717" y="206"/>
                </a:lnTo>
                <a:lnTo>
                  <a:pt x="717" y="206"/>
                </a:lnTo>
                <a:lnTo>
                  <a:pt x="717" y="206"/>
                </a:lnTo>
                <a:lnTo>
                  <a:pt x="759" y="192"/>
                </a:lnTo>
                <a:lnTo>
                  <a:pt x="759" y="192"/>
                </a:lnTo>
                <a:lnTo>
                  <a:pt x="759" y="192"/>
                </a:lnTo>
                <a:lnTo>
                  <a:pt x="800" y="175"/>
                </a:lnTo>
                <a:lnTo>
                  <a:pt x="800" y="175"/>
                </a:lnTo>
                <a:lnTo>
                  <a:pt x="800" y="175"/>
                </a:lnTo>
                <a:lnTo>
                  <a:pt x="844" y="163"/>
                </a:lnTo>
                <a:lnTo>
                  <a:pt x="844" y="163"/>
                </a:lnTo>
                <a:lnTo>
                  <a:pt x="844" y="163"/>
                </a:lnTo>
                <a:lnTo>
                  <a:pt x="887" y="148"/>
                </a:lnTo>
                <a:lnTo>
                  <a:pt x="887" y="148"/>
                </a:lnTo>
                <a:lnTo>
                  <a:pt x="887" y="148"/>
                </a:lnTo>
                <a:lnTo>
                  <a:pt x="928" y="136"/>
                </a:lnTo>
                <a:lnTo>
                  <a:pt x="928" y="136"/>
                </a:lnTo>
                <a:lnTo>
                  <a:pt x="928" y="136"/>
                </a:lnTo>
                <a:lnTo>
                  <a:pt x="974" y="123"/>
                </a:lnTo>
                <a:lnTo>
                  <a:pt x="974" y="123"/>
                </a:lnTo>
                <a:lnTo>
                  <a:pt x="974" y="123"/>
                </a:lnTo>
                <a:lnTo>
                  <a:pt x="1017" y="110"/>
                </a:lnTo>
                <a:lnTo>
                  <a:pt x="1017" y="110"/>
                </a:lnTo>
                <a:lnTo>
                  <a:pt x="1017" y="110"/>
                </a:lnTo>
                <a:lnTo>
                  <a:pt x="1060" y="99"/>
                </a:lnTo>
                <a:lnTo>
                  <a:pt x="1060" y="99"/>
                </a:lnTo>
                <a:lnTo>
                  <a:pt x="1060" y="99"/>
                </a:lnTo>
                <a:lnTo>
                  <a:pt x="1106" y="89"/>
                </a:lnTo>
                <a:lnTo>
                  <a:pt x="1106" y="89"/>
                </a:lnTo>
                <a:lnTo>
                  <a:pt x="1106" y="89"/>
                </a:lnTo>
                <a:lnTo>
                  <a:pt x="1149" y="78"/>
                </a:lnTo>
                <a:lnTo>
                  <a:pt x="1149" y="78"/>
                </a:lnTo>
                <a:lnTo>
                  <a:pt x="1149" y="78"/>
                </a:lnTo>
                <a:lnTo>
                  <a:pt x="1194" y="69"/>
                </a:lnTo>
                <a:lnTo>
                  <a:pt x="1194" y="69"/>
                </a:lnTo>
                <a:lnTo>
                  <a:pt x="1194" y="69"/>
                </a:lnTo>
                <a:lnTo>
                  <a:pt x="1239" y="60"/>
                </a:lnTo>
                <a:lnTo>
                  <a:pt x="1239" y="60"/>
                </a:lnTo>
                <a:lnTo>
                  <a:pt x="1239" y="60"/>
                </a:lnTo>
                <a:lnTo>
                  <a:pt x="1284" y="52"/>
                </a:lnTo>
                <a:lnTo>
                  <a:pt x="1284" y="52"/>
                </a:lnTo>
                <a:lnTo>
                  <a:pt x="1284" y="52"/>
                </a:lnTo>
                <a:lnTo>
                  <a:pt x="1330" y="43"/>
                </a:lnTo>
                <a:lnTo>
                  <a:pt x="1330" y="43"/>
                </a:lnTo>
                <a:lnTo>
                  <a:pt x="1330" y="43"/>
                </a:lnTo>
                <a:lnTo>
                  <a:pt x="1377" y="38"/>
                </a:lnTo>
                <a:lnTo>
                  <a:pt x="1377" y="38"/>
                </a:lnTo>
                <a:lnTo>
                  <a:pt x="1377" y="38"/>
                </a:lnTo>
                <a:lnTo>
                  <a:pt x="1422" y="31"/>
                </a:lnTo>
                <a:lnTo>
                  <a:pt x="1422" y="31"/>
                </a:lnTo>
                <a:lnTo>
                  <a:pt x="1422" y="31"/>
                </a:lnTo>
                <a:lnTo>
                  <a:pt x="1467" y="25"/>
                </a:lnTo>
                <a:lnTo>
                  <a:pt x="1467" y="25"/>
                </a:lnTo>
                <a:lnTo>
                  <a:pt x="1467" y="25"/>
                </a:lnTo>
                <a:lnTo>
                  <a:pt x="1514" y="20"/>
                </a:lnTo>
                <a:lnTo>
                  <a:pt x="1514" y="20"/>
                </a:lnTo>
                <a:lnTo>
                  <a:pt x="1514" y="20"/>
                </a:lnTo>
                <a:lnTo>
                  <a:pt x="1559" y="15"/>
                </a:lnTo>
                <a:lnTo>
                  <a:pt x="1559" y="15"/>
                </a:lnTo>
                <a:lnTo>
                  <a:pt x="1559" y="15"/>
                </a:lnTo>
                <a:lnTo>
                  <a:pt x="1606" y="11"/>
                </a:lnTo>
                <a:lnTo>
                  <a:pt x="1606" y="11"/>
                </a:lnTo>
                <a:lnTo>
                  <a:pt x="1606" y="11"/>
                </a:lnTo>
                <a:lnTo>
                  <a:pt x="1651" y="7"/>
                </a:lnTo>
                <a:lnTo>
                  <a:pt x="1651" y="7"/>
                </a:lnTo>
                <a:lnTo>
                  <a:pt x="1651" y="7"/>
                </a:lnTo>
                <a:lnTo>
                  <a:pt x="1698" y="6"/>
                </a:lnTo>
                <a:lnTo>
                  <a:pt x="1698" y="6"/>
                </a:lnTo>
                <a:lnTo>
                  <a:pt x="1698" y="6"/>
                </a:lnTo>
                <a:lnTo>
                  <a:pt x="1745" y="2"/>
                </a:lnTo>
                <a:lnTo>
                  <a:pt x="1745" y="2"/>
                </a:lnTo>
                <a:lnTo>
                  <a:pt x="1745" y="2"/>
                </a:lnTo>
                <a:lnTo>
                  <a:pt x="1790" y="0"/>
                </a:lnTo>
                <a:lnTo>
                  <a:pt x="1790" y="0"/>
                </a:lnTo>
                <a:lnTo>
                  <a:pt x="1790" y="0"/>
                </a:lnTo>
                <a:lnTo>
                  <a:pt x="1837" y="0"/>
                </a:lnTo>
                <a:lnTo>
                  <a:pt x="1837" y="0"/>
                </a:lnTo>
                <a:lnTo>
                  <a:pt x="1837" y="0"/>
                </a:lnTo>
                <a:lnTo>
                  <a:pt x="1884" y="0"/>
                </a:lnTo>
                <a:lnTo>
                  <a:pt x="1884" y="0"/>
                </a:lnTo>
                <a:lnTo>
                  <a:pt x="1884" y="2040"/>
                </a:lnTo>
                <a:lnTo>
                  <a:pt x="0" y="598"/>
                </a:lnTo>
                <a:close/>
              </a:path>
            </a:pathLst>
          </a:custGeom>
          <a:solidFill>
            <a:srgbClr val="ffcc99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022480" y="2583000"/>
            <a:ext cx="2043000" cy="1143000"/>
          </a:xfrm>
          <a:custGeom>
            <a:avLst/>
            <a:gdLst/>
            <a:ahLst/>
            <a:rect l="l" t="t" r="r" b="b"/>
            <a:pathLst>
              <a:path w="2573" h="1442">
                <a:moveTo>
                  <a:pt x="0" y="914"/>
                </a:moveTo>
                <a:lnTo>
                  <a:pt x="0" y="914"/>
                </a:lnTo>
                <a:lnTo>
                  <a:pt x="13" y="880"/>
                </a:lnTo>
                <a:lnTo>
                  <a:pt x="13" y="880"/>
                </a:lnTo>
                <a:lnTo>
                  <a:pt x="13" y="880"/>
                </a:lnTo>
                <a:lnTo>
                  <a:pt x="25" y="845"/>
                </a:lnTo>
                <a:lnTo>
                  <a:pt x="25" y="845"/>
                </a:lnTo>
                <a:lnTo>
                  <a:pt x="25" y="845"/>
                </a:lnTo>
                <a:lnTo>
                  <a:pt x="40" y="811"/>
                </a:lnTo>
                <a:lnTo>
                  <a:pt x="40" y="811"/>
                </a:lnTo>
                <a:lnTo>
                  <a:pt x="40" y="811"/>
                </a:lnTo>
                <a:lnTo>
                  <a:pt x="54" y="779"/>
                </a:lnTo>
                <a:lnTo>
                  <a:pt x="54" y="779"/>
                </a:lnTo>
                <a:lnTo>
                  <a:pt x="54" y="779"/>
                </a:lnTo>
                <a:lnTo>
                  <a:pt x="71" y="744"/>
                </a:lnTo>
                <a:lnTo>
                  <a:pt x="71" y="744"/>
                </a:lnTo>
                <a:lnTo>
                  <a:pt x="71" y="744"/>
                </a:lnTo>
                <a:lnTo>
                  <a:pt x="87" y="710"/>
                </a:lnTo>
                <a:lnTo>
                  <a:pt x="87" y="710"/>
                </a:lnTo>
                <a:lnTo>
                  <a:pt x="87" y="710"/>
                </a:lnTo>
                <a:lnTo>
                  <a:pt x="103" y="677"/>
                </a:lnTo>
                <a:lnTo>
                  <a:pt x="103" y="677"/>
                </a:lnTo>
                <a:lnTo>
                  <a:pt x="103" y="677"/>
                </a:lnTo>
                <a:lnTo>
                  <a:pt x="121" y="645"/>
                </a:lnTo>
                <a:lnTo>
                  <a:pt x="121" y="645"/>
                </a:lnTo>
                <a:lnTo>
                  <a:pt x="121" y="645"/>
                </a:lnTo>
                <a:lnTo>
                  <a:pt x="139" y="612"/>
                </a:lnTo>
                <a:lnTo>
                  <a:pt x="139" y="612"/>
                </a:lnTo>
                <a:lnTo>
                  <a:pt x="139" y="612"/>
                </a:lnTo>
                <a:lnTo>
                  <a:pt x="159" y="580"/>
                </a:lnTo>
                <a:lnTo>
                  <a:pt x="159" y="580"/>
                </a:lnTo>
                <a:lnTo>
                  <a:pt x="159" y="580"/>
                </a:lnTo>
                <a:lnTo>
                  <a:pt x="179" y="547"/>
                </a:lnTo>
                <a:lnTo>
                  <a:pt x="179" y="547"/>
                </a:lnTo>
                <a:lnTo>
                  <a:pt x="179" y="547"/>
                </a:lnTo>
                <a:lnTo>
                  <a:pt x="199" y="515"/>
                </a:lnTo>
                <a:lnTo>
                  <a:pt x="199" y="515"/>
                </a:lnTo>
                <a:lnTo>
                  <a:pt x="199" y="515"/>
                </a:lnTo>
                <a:lnTo>
                  <a:pt x="221" y="484"/>
                </a:lnTo>
                <a:lnTo>
                  <a:pt x="221" y="484"/>
                </a:lnTo>
                <a:lnTo>
                  <a:pt x="221" y="484"/>
                </a:lnTo>
                <a:lnTo>
                  <a:pt x="244" y="453"/>
                </a:lnTo>
                <a:lnTo>
                  <a:pt x="244" y="453"/>
                </a:lnTo>
                <a:lnTo>
                  <a:pt x="244" y="453"/>
                </a:lnTo>
                <a:lnTo>
                  <a:pt x="266" y="421"/>
                </a:lnTo>
                <a:lnTo>
                  <a:pt x="266" y="421"/>
                </a:lnTo>
                <a:lnTo>
                  <a:pt x="266" y="421"/>
                </a:lnTo>
                <a:lnTo>
                  <a:pt x="289" y="392"/>
                </a:lnTo>
                <a:lnTo>
                  <a:pt x="289" y="392"/>
                </a:lnTo>
                <a:lnTo>
                  <a:pt x="289" y="392"/>
                </a:lnTo>
                <a:lnTo>
                  <a:pt x="315" y="361"/>
                </a:lnTo>
                <a:lnTo>
                  <a:pt x="315" y="361"/>
                </a:lnTo>
                <a:lnTo>
                  <a:pt x="315" y="361"/>
                </a:lnTo>
                <a:lnTo>
                  <a:pt x="340" y="331"/>
                </a:lnTo>
                <a:lnTo>
                  <a:pt x="340" y="331"/>
                </a:lnTo>
                <a:lnTo>
                  <a:pt x="340" y="331"/>
                </a:lnTo>
                <a:lnTo>
                  <a:pt x="365" y="302"/>
                </a:lnTo>
                <a:lnTo>
                  <a:pt x="365" y="302"/>
                </a:lnTo>
                <a:lnTo>
                  <a:pt x="365" y="302"/>
                </a:lnTo>
                <a:lnTo>
                  <a:pt x="390" y="271"/>
                </a:lnTo>
                <a:lnTo>
                  <a:pt x="390" y="271"/>
                </a:lnTo>
                <a:lnTo>
                  <a:pt x="390" y="271"/>
                </a:lnTo>
                <a:lnTo>
                  <a:pt x="418" y="242"/>
                </a:lnTo>
                <a:lnTo>
                  <a:pt x="418" y="242"/>
                </a:lnTo>
                <a:lnTo>
                  <a:pt x="418" y="242"/>
                </a:lnTo>
                <a:lnTo>
                  <a:pt x="446" y="213"/>
                </a:lnTo>
                <a:lnTo>
                  <a:pt x="446" y="213"/>
                </a:lnTo>
                <a:lnTo>
                  <a:pt x="446" y="213"/>
                </a:lnTo>
                <a:lnTo>
                  <a:pt x="474" y="186"/>
                </a:lnTo>
                <a:lnTo>
                  <a:pt x="474" y="186"/>
                </a:lnTo>
                <a:lnTo>
                  <a:pt x="474" y="186"/>
                </a:lnTo>
                <a:lnTo>
                  <a:pt x="503" y="157"/>
                </a:lnTo>
                <a:lnTo>
                  <a:pt x="503" y="157"/>
                </a:lnTo>
                <a:lnTo>
                  <a:pt x="503" y="157"/>
                </a:lnTo>
                <a:lnTo>
                  <a:pt x="533" y="130"/>
                </a:lnTo>
                <a:lnTo>
                  <a:pt x="533" y="130"/>
                </a:lnTo>
                <a:lnTo>
                  <a:pt x="533" y="130"/>
                </a:lnTo>
                <a:lnTo>
                  <a:pt x="562" y="103"/>
                </a:lnTo>
                <a:lnTo>
                  <a:pt x="562" y="103"/>
                </a:lnTo>
                <a:lnTo>
                  <a:pt x="562" y="103"/>
                </a:lnTo>
                <a:lnTo>
                  <a:pt x="593" y="76"/>
                </a:lnTo>
                <a:lnTo>
                  <a:pt x="593" y="76"/>
                </a:lnTo>
                <a:lnTo>
                  <a:pt x="593" y="76"/>
                </a:lnTo>
                <a:lnTo>
                  <a:pt x="625" y="51"/>
                </a:lnTo>
                <a:lnTo>
                  <a:pt x="625" y="51"/>
                </a:lnTo>
                <a:lnTo>
                  <a:pt x="625" y="51"/>
                </a:lnTo>
                <a:lnTo>
                  <a:pt x="656" y="25"/>
                </a:lnTo>
                <a:lnTo>
                  <a:pt x="656" y="25"/>
                </a:lnTo>
                <a:lnTo>
                  <a:pt x="656" y="25"/>
                </a:lnTo>
                <a:lnTo>
                  <a:pt x="689" y="0"/>
                </a:lnTo>
                <a:lnTo>
                  <a:pt x="689" y="0"/>
                </a:lnTo>
                <a:lnTo>
                  <a:pt x="2573" y="1442"/>
                </a:lnTo>
                <a:lnTo>
                  <a:pt x="0" y="914"/>
                </a:lnTo>
                <a:close/>
              </a:path>
            </a:pathLst>
          </a:custGeom>
          <a:solidFill>
            <a:srgbClr val="ccffff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004840" y="3308400"/>
            <a:ext cx="2060640" cy="417600"/>
          </a:xfrm>
          <a:custGeom>
            <a:avLst/>
            <a:gdLst/>
            <a:ahLst/>
            <a:rect l="l" t="t" r="r" b="b"/>
            <a:pathLst>
              <a:path w="2595" h="528">
                <a:moveTo>
                  <a:pt x="0" y="69"/>
                </a:moveTo>
                <a:lnTo>
                  <a:pt x="0" y="69"/>
                </a:lnTo>
                <a:lnTo>
                  <a:pt x="11" y="34"/>
                </a:lnTo>
                <a:lnTo>
                  <a:pt x="11" y="34"/>
                </a:lnTo>
                <a:lnTo>
                  <a:pt x="11" y="34"/>
                </a:lnTo>
                <a:lnTo>
                  <a:pt x="22" y="0"/>
                </a:lnTo>
                <a:lnTo>
                  <a:pt x="22" y="0"/>
                </a:lnTo>
                <a:lnTo>
                  <a:pt x="2595" y="528"/>
                </a:lnTo>
                <a:lnTo>
                  <a:pt x="0" y="69"/>
                </a:lnTo>
                <a:close/>
              </a:path>
            </a:pathLst>
          </a:custGeom>
          <a:solidFill>
            <a:srgbClr val="ff8080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951200" y="3726000"/>
            <a:ext cx="301320" cy="1224000"/>
          </a:xfrm>
          <a:custGeom>
            <a:avLst/>
            <a:gdLst/>
            <a:ahLst/>
            <a:rect l="l" t="t" r="r" b="b"/>
            <a:pathLst>
              <a:path w="379" h="1540">
                <a:moveTo>
                  <a:pt x="379" y="1051"/>
                </a:moveTo>
                <a:lnTo>
                  <a:pt x="379" y="1051"/>
                </a:lnTo>
                <a:lnTo>
                  <a:pt x="356" y="1020"/>
                </a:lnTo>
                <a:lnTo>
                  <a:pt x="356" y="1020"/>
                </a:lnTo>
                <a:lnTo>
                  <a:pt x="356" y="1020"/>
                </a:lnTo>
                <a:lnTo>
                  <a:pt x="334" y="989"/>
                </a:lnTo>
                <a:lnTo>
                  <a:pt x="334" y="989"/>
                </a:lnTo>
                <a:lnTo>
                  <a:pt x="334" y="989"/>
                </a:lnTo>
                <a:lnTo>
                  <a:pt x="311" y="959"/>
                </a:lnTo>
                <a:lnTo>
                  <a:pt x="311" y="959"/>
                </a:lnTo>
                <a:lnTo>
                  <a:pt x="311" y="959"/>
                </a:lnTo>
                <a:lnTo>
                  <a:pt x="289" y="926"/>
                </a:lnTo>
                <a:lnTo>
                  <a:pt x="289" y="926"/>
                </a:lnTo>
                <a:lnTo>
                  <a:pt x="289" y="926"/>
                </a:lnTo>
                <a:lnTo>
                  <a:pt x="269" y="894"/>
                </a:lnTo>
                <a:lnTo>
                  <a:pt x="269" y="894"/>
                </a:lnTo>
                <a:lnTo>
                  <a:pt x="269" y="894"/>
                </a:lnTo>
                <a:lnTo>
                  <a:pt x="249" y="863"/>
                </a:lnTo>
                <a:lnTo>
                  <a:pt x="249" y="863"/>
                </a:lnTo>
                <a:lnTo>
                  <a:pt x="249" y="863"/>
                </a:lnTo>
                <a:lnTo>
                  <a:pt x="229" y="831"/>
                </a:lnTo>
                <a:lnTo>
                  <a:pt x="229" y="831"/>
                </a:lnTo>
                <a:lnTo>
                  <a:pt x="229" y="831"/>
                </a:lnTo>
                <a:lnTo>
                  <a:pt x="211" y="798"/>
                </a:lnTo>
                <a:lnTo>
                  <a:pt x="211" y="798"/>
                </a:lnTo>
                <a:lnTo>
                  <a:pt x="211" y="798"/>
                </a:lnTo>
                <a:lnTo>
                  <a:pt x="193" y="764"/>
                </a:lnTo>
                <a:lnTo>
                  <a:pt x="193" y="764"/>
                </a:lnTo>
                <a:lnTo>
                  <a:pt x="193" y="764"/>
                </a:lnTo>
                <a:lnTo>
                  <a:pt x="177" y="731"/>
                </a:lnTo>
                <a:lnTo>
                  <a:pt x="177" y="731"/>
                </a:lnTo>
                <a:lnTo>
                  <a:pt x="177" y="731"/>
                </a:lnTo>
                <a:lnTo>
                  <a:pt x="161" y="699"/>
                </a:lnTo>
                <a:lnTo>
                  <a:pt x="161" y="699"/>
                </a:lnTo>
                <a:lnTo>
                  <a:pt x="161" y="699"/>
                </a:lnTo>
                <a:lnTo>
                  <a:pt x="144" y="664"/>
                </a:lnTo>
                <a:lnTo>
                  <a:pt x="144" y="664"/>
                </a:lnTo>
                <a:lnTo>
                  <a:pt x="144" y="664"/>
                </a:lnTo>
                <a:lnTo>
                  <a:pt x="130" y="630"/>
                </a:lnTo>
                <a:lnTo>
                  <a:pt x="130" y="630"/>
                </a:lnTo>
                <a:lnTo>
                  <a:pt x="130" y="630"/>
                </a:lnTo>
                <a:lnTo>
                  <a:pt x="115" y="596"/>
                </a:lnTo>
                <a:lnTo>
                  <a:pt x="115" y="596"/>
                </a:lnTo>
                <a:lnTo>
                  <a:pt x="115" y="596"/>
                </a:lnTo>
                <a:lnTo>
                  <a:pt x="103" y="563"/>
                </a:lnTo>
                <a:lnTo>
                  <a:pt x="103" y="563"/>
                </a:lnTo>
                <a:lnTo>
                  <a:pt x="103" y="563"/>
                </a:lnTo>
                <a:lnTo>
                  <a:pt x="90" y="529"/>
                </a:lnTo>
                <a:lnTo>
                  <a:pt x="90" y="529"/>
                </a:lnTo>
                <a:lnTo>
                  <a:pt x="90" y="529"/>
                </a:lnTo>
                <a:lnTo>
                  <a:pt x="79" y="493"/>
                </a:lnTo>
                <a:lnTo>
                  <a:pt x="79" y="493"/>
                </a:lnTo>
                <a:lnTo>
                  <a:pt x="79" y="493"/>
                </a:lnTo>
                <a:lnTo>
                  <a:pt x="68" y="458"/>
                </a:lnTo>
                <a:lnTo>
                  <a:pt x="68" y="458"/>
                </a:lnTo>
                <a:lnTo>
                  <a:pt x="68" y="458"/>
                </a:lnTo>
                <a:lnTo>
                  <a:pt x="58" y="424"/>
                </a:lnTo>
                <a:lnTo>
                  <a:pt x="58" y="424"/>
                </a:lnTo>
                <a:lnTo>
                  <a:pt x="58" y="424"/>
                </a:lnTo>
                <a:lnTo>
                  <a:pt x="49" y="390"/>
                </a:lnTo>
                <a:lnTo>
                  <a:pt x="49" y="390"/>
                </a:lnTo>
                <a:lnTo>
                  <a:pt x="49" y="390"/>
                </a:lnTo>
                <a:lnTo>
                  <a:pt x="40" y="354"/>
                </a:lnTo>
                <a:lnTo>
                  <a:pt x="40" y="354"/>
                </a:lnTo>
                <a:lnTo>
                  <a:pt x="40" y="354"/>
                </a:lnTo>
                <a:lnTo>
                  <a:pt x="32" y="319"/>
                </a:lnTo>
                <a:lnTo>
                  <a:pt x="32" y="319"/>
                </a:lnTo>
                <a:lnTo>
                  <a:pt x="32" y="319"/>
                </a:lnTo>
                <a:lnTo>
                  <a:pt x="25" y="283"/>
                </a:lnTo>
                <a:lnTo>
                  <a:pt x="25" y="283"/>
                </a:lnTo>
                <a:lnTo>
                  <a:pt x="25" y="283"/>
                </a:lnTo>
                <a:lnTo>
                  <a:pt x="20" y="249"/>
                </a:lnTo>
                <a:lnTo>
                  <a:pt x="20" y="249"/>
                </a:lnTo>
                <a:lnTo>
                  <a:pt x="20" y="249"/>
                </a:lnTo>
                <a:lnTo>
                  <a:pt x="14" y="213"/>
                </a:lnTo>
                <a:lnTo>
                  <a:pt x="14" y="213"/>
                </a:lnTo>
                <a:lnTo>
                  <a:pt x="14" y="213"/>
                </a:lnTo>
                <a:lnTo>
                  <a:pt x="9" y="178"/>
                </a:lnTo>
                <a:lnTo>
                  <a:pt x="9" y="178"/>
                </a:lnTo>
                <a:lnTo>
                  <a:pt x="9" y="178"/>
                </a:lnTo>
                <a:lnTo>
                  <a:pt x="5" y="142"/>
                </a:lnTo>
                <a:lnTo>
                  <a:pt x="5" y="142"/>
                </a:lnTo>
                <a:lnTo>
                  <a:pt x="5" y="142"/>
                </a:lnTo>
                <a:lnTo>
                  <a:pt x="3" y="106"/>
                </a:lnTo>
                <a:lnTo>
                  <a:pt x="3" y="106"/>
                </a:lnTo>
                <a:lnTo>
                  <a:pt x="3" y="106"/>
                </a:lnTo>
                <a:lnTo>
                  <a:pt x="2" y="72"/>
                </a:lnTo>
                <a:lnTo>
                  <a:pt x="2" y="72"/>
                </a:lnTo>
                <a:lnTo>
                  <a:pt x="2" y="72"/>
                </a:lnTo>
                <a:lnTo>
                  <a:pt x="0" y="36"/>
                </a:lnTo>
                <a:lnTo>
                  <a:pt x="0" y="36"/>
                </a:lnTo>
                <a:lnTo>
                  <a:pt x="0" y="36"/>
                </a:lnTo>
                <a:lnTo>
                  <a:pt x="0" y="0"/>
                </a:lnTo>
                <a:lnTo>
                  <a:pt x="0" y="0"/>
                </a:lnTo>
                <a:lnTo>
                  <a:pt x="0" y="489"/>
                </a:lnTo>
                <a:lnTo>
                  <a:pt x="0" y="489"/>
                </a:lnTo>
                <a:lnTo>
                  <a:pt x="0" y="525"/>
                </a:lnTo>
                <a:lnTo>
                  <a:pt x="0" y="525"/>
                </a:lnTo>
                <a:lnTo>
                  <a:pt x="0" y="525"/>
                </a:lnTo>
                <a:lnTo>
                  <a:pt x="2" y="561"/>
                </a:lnTo>
                <a:lnTo>
                  <a:pt x="2" y="561"/>
                </a:lnTo>
                <a:lnTo>
                  <a:pt x="2" y="561"/>
                </a:lnTo>
                <a:lnTo>
                  <a:pt x="3" y="596"/>
                </a:lnTo>
                <a:lnTo>
                  <a:pt x="3" y="596"/>
                </a:lnTo>
                <a:lnTo>
                  <a:pt x="3" y="596"/>
                </a:lnTo>
                <a:lnTo>
                  <a:pt x="5" y="632"/>
                </a:lnTo>
                <a:lnTo>
                  <a:pt x="5" y="632"/>
                </a:lnTo>
                <a:lnTo>
                  <a:pt x="5" y="632"/>
                </a:lnTo>
                <a:lnTo>
                  <a:pt x="9" y="668"/>
                </a:lnTo>
                <a:lnTo>
                  <a:pt x="9" y="668"/>
                </a:lnTo>
                <a:lnTo>
                  <a:pt x="9" y="668"/>
                </a:lnTo>
                <a:lnTo>
                  <a:pt x="14" y="702"/>
                </a:lnTo>
                <a:lnTo>
                  <a:pt x="14" y="702"/>
                </a:lnTo>
                <a:lnTo>
                  <a:pt x="14" y="702"/>
                </a:lnTo>
                <a:lnTo>
                  <a:pt x="20" y="738"/>
                </a:lnTo>
                <a:lnTo>
                  <a:pt x="20" y="738"/>
                </a:lnTo>
                <a:lnTo>
                  <a:pt x="20" y="738"/>
                </a:lnTo>
                <a:lnTo>
                  <a:pt x="25" y="773"/>
                </a:lnTo>
                <a:lnTo>
                  <a:pt x="25" y="773"/>
                </a:lnTo>
                <a:lnTo>
                  <a:pt x="25" y="773"/>
                </a:lnTo>
                <a:lnTo>
                  <a:pt x="32" y="809"/>
                </a:lnTo>
                <a:lnTo>
                  <a:pt x="32" y="809"/>
                </a:lnTo>
                <a:lnTo>
                  <a:pt x="32" y="809"/>
                </a:lnTo>
                <a:lnTo>
                  <a:pt x="40" y="843"/>
                </a:lnTo>
                <a:lnTo>
                  <a:pt x="40" y="843"/>
                </a:lnTo>
                <a:lnTo>
                  <a:pt x="40" y="843"/>
                </a:lnTo>
                <a:lnTo>
                  <a:pt x="49" y="879"/>
                </a:lnTo>
                <a:lnTo>
                  <a:pt x="49" y="879"/>
                </a:lnTo>
                <a:lnTo>
                  <a:pt x="49" y="879"/>
                </a:lnTo>
                <a:lnTo>
                  <a:pt x="58" y="914"/>
                </a:lnTo>
                <a:lnTo>
                  <a:pt x="58" y="914"/>
                </a:lnTo>
                <a:lnTo>
                  <a:pt x="58" y="914"/>
                </a:lnTo>
                <a:lnTo>
                  <a:pt x="68" y="948"/>
                </a:lnTo>
                <a:lnTo>
                  <a:pt x="68" y="948"/>
                </a:lnTo>
                <a:lnTo>
                  <a:pt x="68" y="948"/>
                </a:lnTo>
                <a:lnTo>
                  <a:pt x="79" y="982"/>
                </a:lnTo>
                <a:lnTo>
                  <a:pt x="79" y="982"/>
                </a:lnTo>
                <a:lnTo>
                  <a:pt x="79" y="982"/>
                </a:lnTo>
                <a:lnTo>
                  <a:pt x="90" y="1018"/>
                </a:lnTo>
                <a:lnTo>
                  <a:pt x="90" y="1018"/>
                </a:lnTo>
                <a:lnTo>
                  <a:pt x="90" y="1018"/>
                </a:lnTo>
                <a:lnTo>
                  <a:pt x="103" y="1053"/>
                </a:lnTo>
                <a:lnTo>
                  <a:pt x="103" y="1053"/>
                </a:lnTo>
                <a:lnTo>
                  <a:pt x="103" y="1053"/>
                </a:lnTo>
                <a:lnTo>
                  <a:pt x="115" y="1085"/>
                </a:lnTo>
                <a:lnTo>
                  <a:pt x="115" y="1085"/>
                </a:lnTo>
                <a:lnTo>
                  <a:pt x="115" y="1085"/>
                </a:lnTo>
                <a:lnTo>
                  <a:pt x="130" y="1120"/>
                </a:lnTo>
                <a:lnTo>
                  <a:pt x="130" y="1120"/>
                </a:lnTo>
                <a:lnTo>
                  <a:pt x="130" y="1120"/>
                </a:lnTo>
                <a:lnTo>
                  <a:pt x="144" y="1154"/>
                </a:lnTo>
                <a:lnTo>
                  <a:pt x="144" y="1154"/>
                </a:lnTo>
                <a:lnTo>
                  <a:pt x="144" y="1154"/>
                </a:lnTo>
                <a:lnTo>
                  <a:pt x="161" y="1188"/>
                </a:lnTo>
                <a:lnTo>
                  <a:pt x="161" y="1188"/>
                </a:lnTo>
                <a:lnTo>
                  <a:pt x="161" y="1188"/>
                </a:lnTo>
                <a:lnTo>
                  <a:pt x="177" y="1221"/>
                </a:lnTo>
                <a:lnTo>
                  <a:pt x="177" y="1221"/>
                </a:lnTo>
                <a:lnTo>
                  <a:pt x="177" y="1221"/>
                </a:lnTo>
                <a:lnTo>
                  <a:pt x="193" y="1253"/>
                </a:lnTo>
                <a:lnTo>
                  <a:pt x="193" y="1253"/>
                </a:lnTo>
                <a:lnTo>
                  <a:pt x="193" y="1253"/>
                </a:lnTo>
                <a:lnTo>
                  <a:pt x="211" y="1288"/>
                </a:lnTo>
                <a:lnTo>
                  <a:pt x="211" y="1288"/>
                </a:lnTo>
                <a:lnTo>
                  <a:pt x="211" y="1288"/>
                </a:lnTo>
                <a:lnTo>
                  <a:pt x="229" y="1320"/>
                </a:lnTo>
                <a:lnTo>
                  <a:pt x="229" y="1320"/>
                </a:lnTo>
                <a:lnTo>
                  <a:pt x="229" y="1320"/>
                </a:lnTo>
                <a:lnTo>
                  <a:pt x="249" y="1353"/>
                </a:lnTo>
                <a:lnTo>
                  <a:pt x="249" y="1353"/>
                </a:lnTo>
                <a:lnTo>
                  <a:pt x="249" y="1353"/>
                </a:lnTo>
                <a:lnTo>
                  <a:pt x="269" y="1383"/>
                </a:lnTo>
                <a:lnTo>
                  <a:pt x="269" y="1383"/>
                </a:lnTo>
                <a:lnTo>
                  <a:pt x="269" y="1383"/>
                </a:lnTo>
                <a:lnTo>
                  <a:pt x="289" y="1416"/>
                </a:lnTo>
                <a:lnTo>
                  <a:pt x="289" y="1416"/>
                </a:lnTo>
                <a:lnTo>
                  <a:pt x="289" y="1416"/>
                </a:lnTo>
                <a:lnTo>
                  <a:pt x="311" y="1448"/>
                </a:lnTo>
                <a:lnTo>
                  <a:pt x="311" y="1448"/>
                </a:lnTo>
                <a:lnTo>
                  <a:pt x="311" y="1448"/>
                </a:lnTo>
                <a:lnTo>
                  <a:pt x="334" y="1479"/>
                </a:lnTo>
                <a:lnTo>
                  <a:pt x="334" y="1479"/>
                </a:lnTo>
                <a:lnTo>
                  <a:pt x="334" y="1479"/>
                </a:lnTo>
                <a:lnTo>
                  <a:pt x="356" y="1510"/>
                </a:lnTo>
                <a:lnTo>
                  <a:pt x="356" y="1510"/>
                </a:lnTo>
                <a:lnTo>
                  <a:pt x="356" y="1510"/>
                </a:lnTo>
                <a:lnTo>
                  <a:pt x="379" y="1540"/>
                </a:lnTo>
                <a:lnTo>
                  <a:pt x="379" y="1540"/>
                </a:lnTo>
                <a:lnTo>
                  <a:pt x="379" y="1051"/>
                </a:lnTo>
                <a:close/>
              </a:path>
            </a:pathLst>
          </a:custGeom>
          <a:solidFill>
            <a:srgbClr val="330033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951200" y="3362400"/>
            <a:ext cx="2114280" cy="1198440"/>
          </a:xfrm>
          <a:custGeom>
            <a:avLst/>
            <a:gdLst/>
            <a:ahLst/>
            <a:rect l="l" t="t" r="r" b="b"/>
            <a:pathLst>
              <a:path w="2663" h="1510">
                <a:moveTo>
                  <a:pt x="379" y="1510"/>
                </a:moveTo>
                <a:lnTo>
                  <a:pt x="379" y="1510"/>
                </a:lnTo>
                <a:lnTo>
                  <a:pt x="356" y="1479"/>
                </a:lnTo>
                <a:lnTo>
                  <a:pt x="356" y="1479"/>
                </a:lnTo>
                <a:lnTo>
                  <a:pt x="356" y="1479"/>
                </a:lnTo>
                <a:lnTo>
                  <a:pt x="334" y="1448"/>
                </a:lnTo>
                <a:lnTo>
                  <a:pt x="334" y="1448"/>
                </a:lnTo>
                <a:lnTo>
                  <a:pt x="334" y="1448"/>
                </a:lnTo>
                <a:lnTo>
                  <a:pt x="311" y="1418"/>
                </a:lnTo>
                <a:lnTo>
                  <a:pt x="311" y="1418"/>
                </a:lnTo>
                <a:lnTo>
                  <a:pt x="311" y="1418"/>
                </a:lnTo>
                <a:lnTo>
                  <a:pt x="289" y="1385"/>
                </a:lnTo>
                <a:lnTo>
                  <a:pt x="289" y="1385"/>
                </a:lnTo>
                <a:lnTo>
                  <a:pt x="289" y="1385"/>
                </a:lnTo>
                <a:lnTo>
                  <a:pt x="269" y="1353"/>
                </a:lnTo>
                <a:lnTo>
                  <a:pt x="269" y="1353"/>
                </a:lnTo>
                <a:lnTo>
                  <a:pt x="269" y="1353"/>
                </a:lnTo>
                <a:lnTo>
                  <a:pt x="249" y="1322"/>
                </a:lnTo>
                <a:lnTo>
                  <a:pt x="249" y="1322"/>
                </a:lnTo>
                <a:lnTo>
                  <a:pt x="249" y="1322"/>
                </a:lnTo>
                <a:lnTo>
                  <a:pt x="229" y="1290"/>
                </a:lnTo>
                <a:lnTo>
                  <a:pt x="229" y="1290"/>
                </a:lnTo>
                <a:lnTo>
                  <a:pt x="229" y="1290"/>
                </a:lnTo>
                <a:lnTo>
                  <a:pt x="211" y="1257"/>
                </a:lnTo>
                <a:lnTo>
                  <a:pt x="211" y="1257"/>
                </a:lnTo>
                <a:lnTo>
                  <a:pt x="211" y="1257"/>
                </a:lnTo>
                <a:lnTo>
                  <a:pt x="193" y="1223"/>
                </a:lnTo>
                <a:lnTo>
                  <a:pt x="193" y="1223"/>
                </a:lnTo>
                <a:lnTo>
                  <a:pt x="193" y="1223"/>
                </a:lnTo>
                <a:lnTo>
                  <a:pt x="177" y="1190"/>
                </a:lnTo>
                <a:lnTo>
                  <a:pt x="177" y="1190"/>
                </a:lnTo>
                <a:lnTo>
                  <a:pt x="177" y="1190"/>
                </a:lnTo>
                <a:lnTo>
                  <a:pt x="161" y="1158"/>
                </a:lnTo>
                <a:lnTo>
                  <a:pt x="161" y="1158"/>
                </a:lnTo>
                <a:lnTo>
                  <a:pt x="161" y="1158"/>
                </a:lnTo>
                <a:lnTo>
                  <a:pt x="144" y="1123"/>
                </a:lnTo>
                <a:lnTo>
                  <a:pt x="144" y="1123"/>
                </a:lnTo>
                <a:lnTo>
                  <a:pt x="144" y="1123"/>
                </a:lnTo>
                <a:lnTo>
                  <a:pt x="130" y="1089"/>
                </a:lnTo>
                <a:lnTo>
                  <a:pt x="130" y="1089"/>
                </a:lnTo>
                <a:lnTo>
                  <a:pt x="130" y="1089"/>
                </a:lnTo>
                <a:lnTo>
                  <a:pt x="115" y="1055"/>
                </a:lnTo>
                <a:lnTo>
                  <a:pt x="115" y="1055"/>
                </a:lnTo>
                <a:lnTo>
                  <a:pt x="115" y="1055"/>
                </a:lnTo>
                <a:lnTo>
                  <a:pt x="103" y="1022"/>
                </a:lnTo>
                <a:lnTo>
                  <a:pt x="103" y="1022"/>
                </a:lnTo>
                <a:lnTo>
                  <a:pt x="103" y="1022"/>
                </a:lnTo>
                <a:lnTo>
                  <a:pt x="90" y="988"/>
                </a:lnTo>
                <a:lnTo>
                  <a:pt x="90" y="988"/>
                </a:lnTo>
                <a:lnTo>
                  <a:pt x="90" y="988"/>
                </a:lnTo>
                <a:lnTo>
                  <a:pt x="79" y="952"/>
                </a:lnTo>
                <a:lnTo>
                  <a:pt x="79" y="952"/>
                </a:lnTo>
                <a:lnTo>
                  <a:pt x="79" y="952"/>
                </a:lnTo>
                <a:lnTo>
                  <a:pt x="68" y="917"/>
                </a:lnTo>
                <a:lnTo>
                  <a:pt x="68" y="917"/>
                </a:lnTo>
                <a:lnTo>
                  <a:pt x="68" y="917"/>
                </a:lnTo>
                <a:lnTo>
                  <a:pt x="58" y="883"/>
                </a:lnTo>
                <a:lnTo>
                  <a:pt x="58" y="883"/>
                </a:lnTo>
                <a:lnTo>
                  <a:pt x="58" y="883"/>
                </a:lnTo>
                <a:lnTo>
                  <a:pt x="49" y="849"/>
                </a:lnTo>
                <a:lnTo>
                  <a:pt x="49" y="849"/>
                </a:lnTo>
                <a:lnTo>
                  <a:pt x="49" y="849"/>
                </a:lnTo>
                <a:lnTo>
                  <a:pt x="40" y="813"/>
                </a:lnTo>
                <a:lnTo>
                  <a:pt x="40" y="813"/>
                </a:lnTo>
                <a:lnTo>
                  <a:pt x="40" y="813"/>
                </a:lnTo>
                <a:lnTo>
                  <a:pt x="32" y="778"/>
                </a:lnTo>
                <a:lnTo>
                  <a:pt x="32" y="778"/>
                </a:lnTo>
                <a:lnTo>
                  <a:pt x="32" y="778"/>
                </a:lnTo>
                <a:lnTo>
                  <a:pt x="25" y="742"/>
                </a:lnTo>
                <a:lnTo>
                  <a:pt x="25" y="742"/>
                </a:lnTo>
                <a:lnTo>
                  <a:pt x="25" y="742"/>
                </a:lnTo>
                <a:lnTo>
                  <a:pt x="20" y="708"/>
                </a:lnTo>
                <a:lnTo>
                  <a:pt x="20" y="708"/>
                </a:lnTo>
                <a:lnTo>
                  <a:pt x="20" y="708"/>
                </a:lnTo>
                <a:lnTo>
                  <a:pt x="14" y="672"/>
                </a:lnTo>
                <a:lnTo>
                  <a:pt x="14" y="672"/>
                </a:lnTo>
                <a:lnTo>
                  <a:pt x="14" y="672"/>
                </a:lnTo>
                <a:lnTo>
                  <a:pt x="9" y="637"/>
                </a:lnTo>
                <a:lnTo>
                  <a:pt x="9" y="637"/>
                </a:lnTo>
                <a:lnTo>
                  <a:pt x="9" y="637"/>
                </a:lnTo>
                <a:lnTo>
                  <a:pt x="5" y="601"/>
                </a:lnTo>
                <a:lnTo>
                  <a:pt x="5" y="601"/>
                </a:lnTo>
                <a:lnTo>
                  <a:pt x="5" y="601"/>
                </a:lnTo>
                <a:lnTo>
                  <a:pt x="3" y="565"/>
                </a:lnTo>
                <a:lnTo>
                  <a:pt x="3" y="565"/>
                </a:lnTo>
                <a:lnTo>
                  <a:pt x="3" y="565"/>
                </a:lnTo>
                <a:lnTo>
                  <a:pt x="2" y="531"/>
                </a:lnTo>
                <a:lnTo>
                  <a:pt x="2" y="531"/>
                </a:lnTo>
                <a:lnTo>
                  <a:pt x="2" y="531"/>
                </a:lnTo>
                <a:lnTo>
                  <a:pt x="0" y="495"/>
                </a:lnTo>
                <a:lnTo>
                  <a:pt x="0" y="495"/>
                </a:lnTo>
                <a:lnTo>
                  <a:pt x="0" y="495"/>
                </a:lnTo>
                <a:lnTo>
                  <a:pt x="0" y="459"/>
                </a:lnTo>
                <a:lnTo>
                  <a:pt x="0" y="459"/>
                </a:lnTo>
                <a:lnTo>
                  <a:pt x="0" y="459"/>
                </a:lnTo>
                <a:lnTo>
                  <a:pt x="0" y="424"/>
                </a:lnTo>
                <a:lnTo>
                  <a:pt x="0" y="424"/>
                </a:lnTo>
                <a:lnTo>
                  <a:pt x="0" y="424"/>
                </a:lnTo>
                <a:lnTo>
                  <a:pt x="2" y="388"/>
                </a:lnTo>
                <a:lnTo>
                  <a:pt x="2" y="388"/>
                </a:lnTo>
                <a:lnTo>
                  <a:pt x="2" y="388"/>
                </a:lnTo>
                <a:lnTo>
                  <a:pt x="3" y="352"/>
                </a:lnTo>
                <a:lnTo>
                  <a:pt x="3" y="352"/>
                </a:lnTo>
                <a:lnTo>
                  <a:pt x="3" y="352"/>
                </a:lnTo>
                <a:lnTo>
                  <a:pt x="5" y="316"/>
                </a:lnTo>
                <a:lnTo>
                  <a:pt x="5" y="316"/>
                </a:lnTo>
                <a:lnTo>
                  <a:pt x="5" y="316"/>
                </a:lnTo>
                <a:lnTo>
                  <a:pt x="9" y="282"/>
                </a:lnTo>
                <a:lnTo>
                  <a:pt x="9" y="282"/>
                </a:lnTo>
                <a:lnTo>
                  <a:pt x="9" y="282"/>
                </a:lnTo>
                <a:lnTo>
                  <a:pt x="14" y="245"/>
                </a:lnTo>
                <a:lnTo>
                  <a:pt x="14" y="245"/>
                </a:lnTo>
                <a:lnTo>
                  <a:pt x="14" y="245"/>
                </a:lnTo>
                <a:lnTo>
                  <a:pt x="20" y="211"/>
                </a:lnTo>
                <a:lnTo>
                  <a:pt x="20" y="211"/>
                </a:lnTo>
                <a:lnTo>
                  <a:pt x="20" y="211"/>
                </a:lnTo>
                <a:lnTo>
                  <a:pt x="25" y="175"/>
                </a:lnTo>
                <a:lnTo>
                  <a:pt x="25" y="175"/>
                </a:lnTo>
                <a:lnTo>
                  <a:pt x="25" y="175"/>
                </a:lnTo>
                <a:lnTo>
                  <a:pt x="32" y="141"/>
                </a:lnTo>
                <a:lnTo>
                  <a:pt x="32" y="141"/>
                </a:lnTo>
                <a:lnTo>
                  <a:pt x="32" y="141"/>
                </a:lnTo>
                <a:lnTo>
                  <a:pt x="40" y="104"/>
                </a:lnTo>
                <a:lnTo>
                  <a:pt x="40" y="104"/>
                </a:lnTo>
                <a:lnTo>
                  <a:pt x="40" y="104"/>
                </a:lnTo>
                <a:lnTo>
                  <a:pt x="49" y="70"/>
                </a:lnTo>
                <a:lnTo>
                  <a:pt x="49" y="70"/>
                </a:lnTo>
                <a:lnTo>
                  <a:pt x="49" y="70"/>
                </a:lnTo>
                <a:lnTo>
                  <a:pt x="58" y="34"/>
                </a:lnTo>
                <a:lnTo>
                  <a:pt x="58" y="34"/>
                </a:lnTo>
                <a:lnTo>
                  <a:pt x="58" y="34"/>
                </a:lnTo>
                <a:lnTo>
                  <a:pt x="68" y="0"/>
                </a:lnTo>
                <a:lnTo>
                  <a:pt x="68" y="0"/>
                </a:lnTo>
                <a:lnTo>
                  <a:pt x="2663" y="459"/>
                </a:lnTo>
                <a:lnTo>
                  <a:pt x="379" y="1510"/>
                </a:lnTo>
                <a:close/>
              </a:path>
            </a:pathLst>
          </a:custGeom>
          <a:solidFill>
            <a:srgbClr val="660066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252520" y="4560840"/>
            <a:ext cx="19080" cy="412920"/>
          </a:xfrm>
          <a:custGeom>
            <a:avLst/>
            <a:gdLst/>
            <a:ahLst/>
            <a:rect l="l" t="t" r="r" b="b"/>
            <a:pathLst>
              <a:path w="26" h="520">
                <a:moveTo>
                  <a:pt x="26" y="31"/>
                </a:moveTo>
                <a:lnTo>
                  <a:pt x="26" y="31"/>
                </a:lnTo>
                <a:lnTo>
                  <a:pt x="0" y="0"/>
                </a:lnTo>
                <a:lnTo>
                  <a:pt x="0" y="0"/>
                </a:lnTo>
                <a:lnTo>
                  <a:pt x="0" y="489"/>
                </a:lnTo>
                <a:lnTo>
                  <a:pt x="0" y="489"/>
                </a:lnTo>
                <a:lnTo>
                  <a:pt x="26" y="520"/>
                </a:lnTo>
                <a:lnTo>
                  <a:pt x="26" y="520"/>
                </a:lnTo>
                <a:lnTo>
                  <a:pt x="26" y="31"/>
                </a:lnTo>
                <a:close/>
              </a:path>
            </a:pathLst>
          </a:custGeom>
          <a:solidFill>
            <a:srgbClr val="668080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252520" y="3726000"/>
            <a:ext cx="1812960" cy="858600"/>
          </a:xfrm>
          <a:custGeom>
            <a:avLst/>
            <a:gdLst/>
            <a:ahLst/>
            <a:rect l="l" t="t" r="r" b="b"/>
            <a:pathLst>
              <a:path w="2284" h="1082">
                <a:moveTo>
                  <a:pt x="26" y="1082"/>
                </a:moveTo>
                <a:lnTo>
                  <a:pt x="26" y="1082"/>
                </a:lnTo>
                <a:lnTo>
                  <a:pt x="0" y="1051"/>
                </a:lnTo>
                <a:lnTo>
                  <a:pt x="0" y="1051"/>
                </a:lnTo>
                <a:lnTo>
                  <a:pt x="2284" y="0"/>
                </a:lnTo>
                <a:lnTo>
                  <a:pt x="26" y="1082"/>
                </a:lnTo>
                <a:close/>
              </a:path>
            </a:pathLst>
          </a:custGeom>
          <a:solidFill>
            <a:srgbClr val="ccffff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001960" y="4971960"/>
            <a:ext cx="269640" cy="69840"/>
          </a:xfrm>
          <a:custGeom>
            <a:avLst/>
            <a:gdLst/>
            <a:ahLst/>
            <a:rect l="l" t="t" r="r" b="b"/>
            <a:pathLst>
              <a:path w="189" h="48">
                <a:moveTo>
                  <a:pt x="0" y="48"/>
                </a:moveTo>
                <a:lnTo>
                  <a:pt x="88" y="48"/>
                </a:lnTo>
                <a:lnTo>
                  <a:pt x="189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271600" y="4584600"/>
            <a:ext cx="60480" cy="459000"/>
          </a:xfrm>
          <a:custGeom>
            <a:avLst/>
            <a:gdLst/>
            <a:ahLst/>
            <a:rect l="l" t="t" r="r" b="b"/>
            <a:pathLst>
              <a:path w="75" h="578">
                <a:moveTo>
                  <a:pt x="75" y="88"/>
                </a:moveTo>
                <a:lnTo>
                  <a:pt x="75" y="88"/>
                </a:lnTo>
                <a:lnTo>
                  <a:pt x="50" y="59"/>
                </a:lnTo>
                <a:lnTo>
                  <a:pt x="50" y="59"/>
                </a:lnTo>
                <a:lnTo>
                  <a:pt x="50" y="59"/>
                </a:lnTo>
                <a:lnTo>
                  <a:pt x="25" y="29"/>
                </a:lnTo>
                <a:lnTo>
                  <a:pt x="25" y="29"/>
                </a:lnTo>
                <a:lnTo>
                  <a:pt x="25" y="29"/>
                </a:lnTo>
                <a:lnTo>
                  <a:pt x="0" y="0"/>
                </a:lnTo>
                <a:lnTo>
                  <a:pt x="0" y="0"/>
                </a:lnTo>
                <a:lnTo>
                  <a:pt x="0" y="489"/>
                </a:lnTo>
                <a:lnTo>
                  <a:pt x="0" y="489"/>
                </a:lnTo>
                <a:lnTo>
                  <a:pt x="25" y="518"/>
                </a:lnTo>
                <a:lnTo>
                  <a:pt x="25" y="518"/>
                </a:lnTo>
                <a:lnTo>
                  <a:pt x="25" y="518"/>
                </a:lnTo>
                <a:lnTo>
                  <a:pt x="50" y="549"/>
                </a:lnTo>
                <a:lnTo>
                  <a:pt x="50" y="549"/>
                </a:lnTo>
                <a:lnTo>
                  <a:pt x="50" y="549"/>
                </a:lnTo>
                <a:lnTo>
                  <a:pt x="75" y="578"/>
                </a:lnTo>
                <a:lnTo>
                  <a:pt x="75" y="578"/>
                </a:lnTo>
                <a:lnTo>
                  <a:pt x="75" y="88"/>
                </a:lnTo>
                <a:close/>
              </a:path>
            </a:pathLst>
          </a:custGeom>
          <a:solidFill>
            <a:srgbClr val="808066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71600" y="3726000"/>
            <a:ext cx="1793880" cy="930240"/>
          </a:xfrm>
          <a:custGeom>
            <a:avLst/>
            <a:gdLst/>
            <a:ahLst/>
            <a:rect l="l" t="t" r="r" b="b"/>
            <a:pathLst>
              <a:path w="2258" h="1170">
                <a:moveTo>
                  <a:pt x="75" y="1170"/>
                </a:moveTo>
                <a:lnTo>
                  <a:pt x="75" y="1170"/>
                </a:lnTo>
                <a:lnTo>
                  <a:pt x="50" y="1141"/>
                </a:lnTo>
                <a:lnTo>
                  <a:pt x="50" y="1141"/>
                </a:lnTo>
                <a:lnTo>
                  <a:pt x="50" y="1141"/>
                </a:lnTo>
                <a:lnTo>
                  <a:pt x="25" y="1111"/>
                </a:lnTo>
                <a:lnTo>
                  <a:pt x="25" y="1111"/>
                </a:lnTo>
                <a:lnTo>
                  <a:pt x="25" y="1111"/>
                </a:lnTo>
                <a:lnTo>
                  <a:pt x="0" y="1082"/>
                </a:lnTo>
                <a:lnTo>
                  <a:pt x="0" y="1082"/>
                </a:lnTo>
                <a:lnTo>
                  <a:pt x="2258" y="0"/>
                </a:lnTo>
                <a:lnTo>
                  <a:pt x="75" y="1170"/>
                </a:lnTo>
                <a:close/>
              </a:path>
            </a:pathLst>
          </a:custGeom>
          <a:solidFill>
            <a:srgbClr val="ffffcc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044800" y="5019840"/>
            <a:ext cx="268200" cy="303120"/>
          </a:xfrm>
          <a:custGeom>
            <a:avLst/>
            <a:gdLst/>
            <a:ahLst/>
            <a:rect l="l" t="t" r="r" b="b"/>
            <a:pathLst>
              <a:path w="187" h="212">
                <a:moveTo>
                  <a:pt x="0" y="212"/>
                </a:moveTo>
                <a:lnTo>
                  <a:pt x="88" y="212"/>
                </a:lnTo>
                <a:lnTo>
                  <a:pt x="187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332080" y="4656240"/>
            <a:ext cx="460440" cy="752400"/>
          </a:xfrm>
          <a:custGeom>
            <a:avLst/>
            <a:gdLst/>
            <a:ahLst/>
            <a:rect l="l" t="t" r="r" b="b"/>
            <a:pathLst>
              <a:path w="581" h="948">
                <a:moveTo>
                  <a:pt x="581" y="459"/>
                </a:moveTo>
                <a:lnTo>
                  <a:pt x="581" y="459"/>
                </a:lnTo>
                <a:lnTo>
                  <a:pt x="543" y="437"/>
                </a:lnTo>
                <a:lnTo>
                  <a:pt x="543" y="437"/>
                </a:lnTo>
                <a:lnTo>
                  <a:pt x="543" y="437"/>
                </a:lnTo>
                <a:lnTo>
                  <a:pt x="506" y="416"/>
                </a:lnTo>
                <a:lnTo>
                  <a:pt x="506" y="416"/>
                </a:lnTo>
                <a:lnTo>
                  <a:pt x="506" y="416"/>
                </a:lnTo>
                <a:lnTo>
                  <a:pt x="470" y="392"/>
                </a:lnTo>
                <a:lnTo>
                  <a:pt x="470" y="392"/>
                </a:lnTo>
                <a:lnTo>
                  <a:pt x="470" y="392"/>
                </a:lnTo>
                <a:lnTo>
                  <a:pt x="436" y="370"/>
                </a:lnTo>
                <a:lnTo>
                  <a:pt x="436" y="370"/>
                </a:lnTo>
                <a:lnTo>
                  <a:pt x="436" y="370"/>
                </a:lnTo>
                <a:lnTo>
                  <a:pt x="400" y="347"/>
                </a:lnTo>
                <a:lnTo>
                  <a:pt x="400" y="347"/>
                </a:lnTo>
                <a:lnTo>
                  <a:pt x="400" y="347"/>
                </a:lnTo>
                <a:lnTo>
                  <a:pt x="365" y="322"/>
                </a:lnTo>
                <a:lnTo>
                  <a:pt x="365" y="322"/>
                </a:lnTo>
                <a:lnTo>
                  <a:pt x="365" y="322"/>
                </a:lnTo>
                <a:lnTo>
                  <a:pt x="333" y="298"/>
                </a:lnTo>
                <a:lnTo>
                  <a:pt x="333" y="298"/>
                </a:lnTo>
                <a:lnTo>
                  <a:pt x="333" y="298"/>
                </a:lnTo>
                <a:lnTo>
                  <a:pt x="299" y="273"/>
                </a:lnTo>
                <a:lnTo>
                  <a:pt x="299" y="273"/>
                </a:lnTo>
                <a:lnTo>
                  <a:pt x="299" y="273"/>
                </a:lnTo>
                <a:lnTo>
                  <a:pt x="266" y="248"/>
                </a:lnTo>
                <a:lnTo>
                  <a:pt x="266" y="248"/>
                </a:lnTo>
                <a:lnTo>
                  <a:pt x="266" y="248"/>
                </a:lnTo>
                <a:lnTo>
                  <a:pt x="235" y="222"/>
                </a:lnTo>
                <a:lnTo>
                  <a:pt x="235" y="222"/>
                </a:lnTo>
                <a:lnTo>
                  <a:pt x="235" y="222"/>
                </a:lnTo>
                <a:lnTo>
                  <a:pt x="203" y="195"/>
                </a:lnTo>
                <a:lnTo>
                  <a:pt x="203" y="195"/>
                </a:lnTo>
                <a:lnTo>
                  <a:pt x="203" y="195"/>
                </a:lnTo>
                <a:lnTo>
                  <a:pt x="172" y="168"/>
                </a:lnTo>
                <a:lnTo>
                  <a:pt x="172" y="168"/>
                </a:lnTo>
                <a:lnTo>
                  <a:pt x="172" y="168"/>
                </a:lnTo>
                <a:lnTo>
                  <a:pt x="143" y="141"/>
                </a:lnTo>
                <a:lnTo>
                  <a:pt x="143" y="141"/>
                </a:lnTo>
                <a:lnTo>
                  <a:pt x="143" y="141"/>
                </a:lnTo>
                <a:lnTo>
                  <a:pt x="113" y="114"/>
                </a:lnTo>
                <a:lnTo>
                  <a:pt x="113" y="114"/>
                </a:lnTo>
                <a:lnTo>
                  <a:pt x="113" y="114"/>
                </a:lnTo>
                <a:lnTo>
                  <a:pt x="84" y="87"/>
                </a:lnTo>
                <a:lnTo>
                  <a:pt x="84" y="87"/>
                </a:lnTo>
                <a:lnTo>
                  <a:pt x="84" y="87"/>
                </a:lnTo>
                <a:lnTo>
                  <a:pt x="56" y="58"/>
                </a:lnTo>
                <a:lnTo>
                  <a:pt x="56" y="58"/>
                </a:lnTo>
                <a:lnTo>
                  <a:pt x="56" y="58"/>
                </a:lnTo>
                <a:lnTo>
                  <a:pt x="28" y="29"/>
                </a:lnTo>
                <a:lnTo>
                  <a:pt x="28" y="29"/>
                </a:lnTo>
                <a:lnTo>
                  <a:pt x="28" y="29"/>
                </a:lnTo>
                <a:lnTo>
                  <a:pt x="0" y="0"/>
                </a:lnTo>
                <a:lnTo>
                  <a:pt x="0" y="0"/>
                </a:lnTo>
                <a:lnTo>
                  <a:pt x="0" y="490"/>
                </a:lnTo>
                <a:lnTo>
                  <a:pt x="0" y="490"/>
                </a:lnTo>
                <a:lnTo>
                  <a:pt x="28" y="519"/>
                </a:lnTo>
                <a:lnTo>
                  <a:pt x="28" y="519"/>
                </a:lnTo>
                <a:lnTo>
                  <a:pt x="28" y="519"/>
                </a:lnTo>
                <a:lnTo>
                  <a:pt x="56" y="547"/>
                </a:lnTo>
                <a:lnTo>
                  <a:pt x="56" y="547"/>
                </a:lnTo>
                <a:lnTo>
                  <a:pt x="56" y="547"/>
                </a:lnTo>
                <a:lnTo>
                  <a:pt x="84" y="576"/>
                </a:lnTo>
                <a:lnTo>
                  <a:pt x="84" y="576"/>
                </a:lnTo>
                <a:lnTo>
                  <a:pt x="84" y="576"/>
                </a:lnTo>
                <a:lnTo>
                  <a:pt x="113" y="603"/>
                </a:lnTo>
                <a:lnTo>
                  <a:pt x="113" y="603"/>
                </a:lnTo>
                <a:lnTo>
                  <a:pt x="113" y="603"/>
                </a:lnTo>
                <a:lnTo>
                  <a:pt x="143" y="631"/>
                </a:lnTo>
                <a:lnTo>
                  <a:pt x="143" y="631"/>
                </a:lnTo>
                <a:lnTo>
                  <a:pt x="143" y="631"/>
                </a:lnTo>
                <a:lnTo>
                  <a:pt x="172" y="658"/>
                </a:lnTo>
                <a:lnTo>
                  <a:pt x="172" y="658"/>
                </a:lnTo>
                <a:lnTo>
                  <a:pt x="172" y="658"/>
                </a:lnTo>
                <a:lnTo>
                  <a:pt x="203" y="685"/>
                </a:lnTo>
                <a:lnTo>
                  <a:pt x="203" y="685"/>
                </a:lnTo>
                <a:lnTo>
                  <a:pt x="203" y="685"/>
                </a:lnTo>
                <a:lnTo>
                  <a:pt x="235" y="712"/>
                </a:lnTo>
                <a:lnTo>
                  <a:pt x="235" y="712"/>
                </a:lnTo>
                <a:lnTo>
                  <a:pt x="235" y="712"/>
                </a:lnTo>
                <a:lnTo>
                  <a:pt x="266" y="737"/>
                </a:lnTo>
                <a:lnTo>
                  <a:pt x="266" y="737"/>
                </a:lnTo>
                <a:lnTo>
                  <a:pt x="266" y="737"/>
                </a:lnTo>
                <a:lnTo>
                  <a:pt x="299" y="762"/>
                </a:lnTo>
                <a:lnTo>
                  <a:pt x="299" y="762"/>
                </a:lnTo>
                <a:lnTo>
                  <a:pt x="299" y="762"/>
                </a:lnTo>
                <a:lnTo>
                  <a:pt x="333" y="788"/>
                </a:lnTo>
                <a:lnTo>
                  <a:pt x="333" y="788"/>
                </a:lnTo>
                <a:lnTo>
                  <a:pt x="333" y="788"/>
                </a:lnTo>
                <a:lnTo>
                  <a:pt x="365" y="811"/>
                </a:lnTo>
                <a:lnTo>
                  <a:pt x="365" y="811"/>
                </a:lnTo>
                <a:lnTo>
                  <a:pt x="365" y="811"/>
                </a:lnTo>
                <a:lnTo>
                  <a:pt x="400" y="836"/>
                </a:lnTo>
                <a:lnTo>
                  <a:pt x="400" y="836"/>
                </a:lnTo>
                <a:lnTo>
                  <a:pt x="400" y="836"/>
                </a:lnTo>
                <a:lnTo>
                  <a:pt x="436" y="860"/>
                </a:lnTo>
                <a:lnTo>
                  <a:pt x="436" y="860"/>
                </a:lnTo>
                <a:lnTo>
                  <a:pt x="436" y="860"/>
                </a:lnTo>
                <a:lnTo>
                  <a:pt x="470" y="882"/>
                </a:lnTo>
                <a:lnTo>
                  <a:pt x="470" y="882"/>
                </a:lnTo>
                <a:lnTo>
                  <a:pt x="470" y="882"/>
                </a:lnTo>
                <a:lnTo>
                  <a:pt x="506" y="905"/>
                </a:lnTo>
                <a:lnTo>
                  <a:pt x="506" y="905"/>
                </a:lnTo>
                <a:lnTo>
                  <a:pt x="506" y="905"/>
                </a:lnTo>
                <a:lnTo>
                  <a:pt x="543" y="927"/>
                </a:lnTo>
                <a:lnTo>
                  <a:pt x="543" y="927"/>
                </a:lnTo>
                <a:lnTo>
                  <a:pt x="543" y="927"/>
                </a:lnTo>
                <a:lnTo>
                  <a:pt x="581" y="948"/>
                </a:lnTo>
                <a:lnTo>
                  <a:pt x="581" y="948"/>
                </a:lnTo>
                <a:lnTo>
                  <a:pt x="581" y="459"/>
                </a:lnTo>
                <a:close/>
              </a:path>
            </a:pathLst>
          </a:custGeom>
          <a:solidFill>
            <a:srgbClr val="4d1a33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332080" y="3726000"/>
            <a:ext cx="1733400" cy="1293840"/>
          </a:xfrm>
          <a:custGeom>
            <a:avLst/>
            <a:gdLst/>
            <a:ahLst/>
            <a:rect l="l" t="t" r="r" b="b"/>
            <a:pathLst>
              <a:path w="2183" h="1629">
                <a:moveTo>
                  <a:pt x="581" y="1629"/>
                </a:moveTo>
                <a:lnTo>
                  <a:pt x="581" y="1629"/>
                </a:lnTo>
                <a:lnTo>
                  <a:pt x="543" y="1607"/>
                </a:lnTo>
                <a:lnTo>
                  <a:pt x="543" y="1607"/>
                </a:lnTo>
                <a:lnTo>
                  <a:pt x="543" y="1607"/>
                </a:lnTo>
                <a:lnTo>
                  <a:pt x="506" y="1586"/>
                </a:lnTo>
                <a:lnTo>
                  <a:pt x="506" y="1586"/>
                </a:lnTo>
                <a:lnTo>
                  <a:pt x="506" y="1586"/>
                </a:lnTo>
                <a:lnTo>
                  <a:pt x="470" y="1562"/>
                </a:lnTo>
                <a:lnTo>
                  <a:pt x="470" y="1562"/>
                </a:lnTo>
                <a:lnTo>
                  <a:pt x="470" y="1562"/>
                </a:lnTo>
                <a:lnTo>
                  <a:pt x="436" y="1540"/>
                </a:lnTo>
                <a:lnTo>
                  <a:pt x="436" y="1540"/>
                </a:lnTo>
                <a:lnTo>
                  <a:pt x="436" y="1540"/>
                </a:lnTo>
                <a:lnTo>
                  <a:pt x="400" y="1517"/>
                </a:lnTo>
                <a:lnTo>
                  <a:pt x="400" y="1517"/>
                </a:lnTo>
                <a:lnTo>
                  <a:pt x="400" y="1517"/>
                </a:lnTo>
                <a:lnTo>
                  <a:pt x="365" y="1492"/>
                </a:lnTo>
                <a:lnTo>
                  <a:pt x="365" y="1492"/>
                </a:lnTo>
                <a:lnTo>
                  <a:pt x="365" y="1492"/>
                </a:lnTo>
                <a:lnTo>
                  <a:pt x="333" y="1468"/>
                </a:lnTo>
                <a:lnTo>
                  <a:pt x="333" y="1468"/>
                </a:lnTo>
                <a:lnTo>
                  <a:pt x="333" y="1468"/>
                </a:lnTo>
                <a:lnTo>
                  <a:pt x="299" y="1443"/>
                </a:lnTo>
                <a:lnTo>
                  <a:pt x="299" y="1443"/>
                </a:lnTo>
                <a:lnTo>
                  <a:pt x="299" y="1443"/>
                </a:lnTo>
                <a:lnTo>
                  <a:pt x="266" y="1418"/>
                </a:lnTo>
                <a:lnTo>
                  <a:pt x="266" y="1418"/>
                </a:lnTo>
                <a:lnTo>
                  <a:pt x="266" y="1418"/>
                </a:lnTo>
                <a:lnTo>
                  <a:pt x="235" y="1392"/>
                </a:lnTo>
                <a:lnTo>
                  <a:pt x="235" y="1392"/>
                </a:lnTo>
                <a:lnTo>
                  <a:pt x="235" y="1392"/>
                </a:lnTo>
                <a:lnTo>
                  <a:pt x="203" y="1365"/>
                </a:lnTo>
                <a:lnTo>
                  <a:pt x="203" y="1365"/>
                </a:lnTo>
                <a:lnTo>
                  <a:pt x="203" y="1365"/>
                </a:lnTo>
                <a:lnTo>
                  <a:pt x="172" y="1338"/>
                </a:lnTo>
                <a:lnTo>
                  <a:pt x="172" y="1338"/>
                </a:lnTo>
                <a:lnTo>
                  <a:pt x="172" y="1338"/>
                </a:lnTo>
                <a:lnTo>
                  <a:pt x="143" y="1311"/>
                </a:lnTo>
                <a:lnTo>
                  <a:pt x="143" y="1311"/>
                </a:lnTo>
                <a:lnTo>
                  <a:pt x="143" y="1311"/>
                </a:lnTo>
                <a:lnTo>
                  <a:pt x="113" y="1284"/>
                </a:lnTo>
                <a:lnTo>
                  <a:pt x="113" y="1284"/>
                </a:lnTo>
                <a:lnTo>
                  <a:pt x="113" y="1284"/>
                </a:lnTo>
                <a:lnTo>
                  <a:pt x="84" y="1257"/>
                </a:lnTo>
                <a:lnTo>
                  <a:pt x="84" y="1257"/>
                </a:lnTo>
                <a:lnTo>
                  <a:pt x="84" y="1257"/>
                </a:lnTo>
                <a:lnTo>
                  <a:pt x="56" y="1228"/>
                </a:lnTo>
                <a:lnTo>
                  <a:pt x="56" y="1228"/>
                </a:lnTo>
                <a:lnTo>
                  <a:pt x="56" y="1228"/>
                </a:lnTo>
                <a:lnTo>
                  <a:pt x="28" y="1199"/>
                </a:lnTo>
                <a:lnTo>
                  <a:pt x="28" y="1199"/>
                </a:lnTo>
                <a:lnTo>
                  <a:pt x="28" y="1199"/>
                </a:lnTo>
                <a:lnTo>
                  <a:pt x="0" y="1170"/>
                </a:lnTo>
                <a:lnTo>
                  <a:pt x="0" y="1170"/>
                </a:lnTo>
                <a:lnTo>
                  <a:pt x="2183" y="0"/>
                </a:lnTo>
                <a:lnTo>
                  <a:pt x="581" y="1629"/>
                </a:lnTo>
                <a:close/>
              </a:path>
            </a:pathLst>
          </a:custGeom>
          <a:solidFill>
            <a:srgbClr val="993366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95360" y="5238720"/>
            <a:ext cx="249480" cy="366840"/>
          </a:xfrm>
          <a:custGeom>
            <a:avLst/>
            <a:gdLst/>
            <a:ahLst/>
            <a:rect l="l" t="t" r="r" b="b"/>
            <a:pathLst>
              <a:path w="174" h="256">
                <a:moveTo>
                  <a:pt x="0" y="256"/>
                </a:moveTo>
                <a:lnTo>
                  <a:pt x="88" y="256"/>
                </a:lnTo>
                <a:lnTo>
                  <a:pt x="174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792520" y="3726000"/>
            <a:ext cx="3386160" cy="2009520"/>
          </a:xfrm>
          <a:custGeom>
            <a:avLst/>
            <a:gdLst/>
            <a:ahLst/>
            <a:rect l="l" t="t" r="r" b="b"/>
            <a:pathLst>
              <a:path w="4266" h="2530">
                <a:moveTo>
                  <a:pt x="4266" y="0"/>
                </a:moveTo>
                <a:lnTo>
                  <a:pt x="4266" y="36"/>
                </a:lnTo>
                <a:lnTo>
                  <a:pt x="4266" y="36"/>
                </a:lnTo>
                <a:lnTo>
                  <a:pt x="4264" y="72"/>
                </a:lnTo>
                <a:lnTo>
                  <a:pt x="4264" y="72"/>
                </a:lnTo>
                <a:lnTo>
                  <a:pt x="4262" y="106"/>
                </a:lnTo>
                <a:lnTo>
                  <a:pt x="4262" y="106"/>
                </a:lnTo>
                <a:lnTo>
                  <a:pt x="4259" y="142"/>
                </a:lnTo>
                <a:lnTo>
                  <a:pt x="4259" y="142"/>
                </a:lnTo>
                <a:lnTo>
                  <a:pt x="4255" y="178"/>
                </a:lnTo>
                <a:lnTo>
                  <a:pt x="4255" y="178"/>
                </a:lnTo>
                <a:lnTo>
                  <a:pt x="4252" y="213"/>
                </a:lnTo>
                <a:lnTo>
                  <a:pt x="4252" y="213"/>
                </a:lnTo>
                <a:lnTo>
                  <a:pt x="4246" y="249"/>
                </a:lnTo>
                <a:lnTo>
                  <a:pt x="4246" y="249"/>
                </a:lnTo>
                <a:lnTo>
                  <a:pt x="4239" y="283"/>
                </a:lnTo>
                <a:lnTo>
                  <a:pt x="4239" y="283"/>
                </a:lnTo>
                <a:lnTo>
                  <a:pt x="4233" y="319"/>
                </a:lnTo>
                <a:lnTo>
                  <a:pt x="4233" y="319"/>
                </a:lnTo>
                <a:lnTo>
                  <a:pt x="4224" y="354"/>
                </a:lnTo>
                <a:lnTo>
                  <a:pt x="4224" y="354"/>
                </a:lnTo>
                <a:lnTo>
                  <a:pt x="4217" y="390"/>
                </a:lnTo>
                <a:lnTo>
                  <a:pt x="4217" y="390"/>
                </a:lnTo>
                <a:lnTo>
                  <a:pt x="4208" y="424"/>
                </a:lnTo>
                <a:lnTo>
                  <a:pt x="4208" y="424"/>
                </a:lnTo>
                <a:lnTo>
                  <a:pt x="4197" y="458"/>
                </a:lnTo>
                <a:lnTo>
                  <a:pt x="4197" y="458"/>
                </a:lnTo>
                <a:lnTo>
                  <a:pt x="4186" y="493"/>
                </a:lnTo>
                <a:lnTo>
                  <a:pt x="4186" y="493"/>
                </a:lnTo>
                <a:lnTo>
                  <a:pt x="4176" y="529"/>
                </a:lnTo>
                <a:lnTo>
                  <a:pt x="4176" y="529"/>
                </a:lnTo>
                <a:lnTo>
                  <a:pt x="4163" y="563"/>
                </a:lnTo>
                <a:lnTo>
                  <a:pt x="4163" y="563"/>
                </a:lnTo>
                <a:lnTo>
                  <a:pt x="4149" y="596"/>
                </a:lnTo>
                <a:lnTo>
                  <a:pt x="4149" y="596"/>
                </a:lnTo>
                <a:lnTo>
                  <a:pt x="4136" y="630"/>
                </a:lnTo>
                <a:lnTo>
                  <a:pt x="4136" y="630"/>
                </a:lnTo>
                <a:lnTo>
                  <a:pt x="4120" y="664"/>
                </a:lnTo>
                <a:lnTo>
                  <a:pt x="4120" y="664"/>
                </a:lnTo>
                <a:lnTo>
                  <a:pt x="4105" y="699"/>
                </a:lnTo>
                <a:lnTo>
                  <a:pt x="4105" y="699"/>
                </a:lnTo>
                <a:lnTo>
                  <a:pt x="4089" y="731"/>
                </a:lnTo>
                <a:lnTo>
                  <a:pt x="4089" y="731"/>
                </a:lnTo>
                <a:lnTo>
                  <a:pt x="4071" y="764"/>
                </a:lnTo>
                <a:lnTo>
                  <a:pt x="4071" y="764"/>
                </a:lnTo>
                <a:lnTo>
                  <a:pt x="4055" y="798"/>
                </a:lnTo>
                <a:lnTo>
                  <a:pt x="4055" y="798"/>
                </a:lnTo>
                <a:lnTo>
                  <a:pt x="4035" y="831"/>
                </a:lnTo>
                <a:lnTo>
                  <a:pt x="4035" y="831"/>
                </a:lnTo>
                <a:lnTo>
                  <a:pt x="4017" y="863"/>
                </a:lnTo>
                <a:lnTo>
                  <a:pt x="4017" y="863"/>
                </a:lnTo>
                <a:lnTo>
                  <a:pt x="3997" y="894"/>
                </a:lnTo>
                <a:lnTo>
                  <a:pt x="3997" y="894"/>
                </a:lnTo>
                <a:lnTo>
                  <a:pt x="3975" y="926"/>
                </a:lnTo>
                <a:lnTo>
                  <a:pt x="3975" y="926"/>
                </a:lnTo>
                <a:lnTo>
                  <a:pt x="3953" y="959"/>
                </a:lnTo>
                <a:lnTo>
                  <a:pt x="3953" y="959"/>
                </a:lnTo>
                <a:lnTo>
                  <a:pt x="3932" y="989"/>
                </a:lnTo>
                <a:lnTo>
                  <a:pt x="3932" y="989"/>
                </a:lnTo>
                <a:lnTo>
                  <a:pt x="3908" y="1020"/>
                </a:lnTo>
                <a:lnTo>
                  <a:pt x="3908" y="1020"/>
                </a:lnTo>
                <a:lnTo>
                  <a:pt x="3885" y="1051"/>
                </a:lnTo>
                <a:lnTo>
                  <a:pt x="3885" y="1051"/>
                </a:lnTo>
                <a:lnTo>
                  <a:pt x="3861" y="1082"/>
                </a:lnTo>
                <a:lnTo>
                  <a:pt x="3836" y="1111"/>
                </a:lnTo>
                <a:lnTo>
                  <a:pt x="3836" y="1111"/>
                </a:lnTo>
                <a:lnTo>
                  <a:pt x="3811" y="1141"/>
                </a:lnTo>
                <a:lnTo>
                  <a:pt x="3811" y="1141"/>
                </a:lnTo>
                <a:lnTo>
                  <a:pt x="3784" y="1170"/>
                </a:lnTo>
                <a:lnTo>
                  <a:pt x="3784" y="1170"/>
                </a:lnTo>
                <a:lnTo>
                  <a:pt x="3756" y="1199"/>
                </a:lnTo>
                <a:lnTo>
                  <a:pt x="3756" y="1199"/>
                </a:lnTo>
                <a:lnTo>
                  <a:pt x="3729" y="1228"/>
                </a:lnTo>
                <a:lnTo>
                  <a:pt x="3729" y="1228"/>
                </a:lnTo>
                <a:lnTo>
                  <a:pt x="3700" y="1257"/>
                </a:lnTo>
                <a:lnTo>
                  <a:pt x="3700" y="1257"/>
                </a:lnTo>
                <a:lnTo>
                  <a:pt x="3671" y="1284"/>
                </a:lnTo>
                <a:lnTo>
                  <a:pt x="3671" y="1284"/>
                </a:lnTo>
                <a:lnTo>
                  <a:pt x="3643" y="1311"/>
                </a:lnTo>
                <a:lnTo>
                  <a:pt x="3643" y="1311"/>
                </a:lnTo>
                <a:lnTo>
                  <a:pt x="3612" y="1338"/>
                </a:lnTo>
                <a:lnTo>
                  <a:pt x="3612" y="1338"/>
                </a:lnTo>
                <a:lnTo>
                  <a:pt x="3581" y="1365"/>
                </a:lnTo>
                <a:lnTo>
                  <a:pt x="3581" y="1365"/>
                </a:lnTo>
                <a:lnTo>
                  <a:pt x="3550" y="1392"/>
                </a:lnTo>
                <a:lnTo>
                  <a:pt x="3550" y="1392"/>
                </a:lnTo>
                <a:lnTo>
                  <a:pt x="3518" y="1418"/>
                </a:lnTo>
                <a:lnTo>
                  <a:pt x="3518" y="1418"/>
                </a:lnTo>
                <a:lnTo>
                  <a:pt x="3485" y="1443"/>
                </a:lnTo>
                <a:lnTo>
                  <a:pt x="3485" y="1443"/>
                </a:lnTo>
                <a:lnTo>
                  <a:pt x="3453" y="1468"/>
                </a:lnTo>
                <a:lnTo>
                  <a:pt x="3453" y="1468"/>
                </a:lnTo>
                <a:lnTo>
                  <a:pt x="3418" y="1492"/>
                </a:lnTo>
                <a:lnTo>
                  <a:pt x="3418" y="1492"/>
                </a:lnTo>
                <a:lnTo>
                  <a:pt x="3384" y="1517"/>
                </a:lnTo>
                <a:lnTo>
                  <a:pt x="3384" y="1517"/>
                </a:lnTo>
                <a:lnTo>
                  <a:pt x="3350" y="1540"/>
                </a:lnTo>
                <a:lnTo>
                  <a:pt x="3350" y="1540"/>
                </a:lnTo>
                <a:lnTo>
                  <a:pt x="3314" y="1562"/>
                </a:lnTo>
                <a:lnTo>
                  <a:pt x="3314" y="1562"/>
                </a:lnTo>
                <a:lnTo>
                  <a:pt x="3278" y="1586"/>
                </a:lnTo>
                <a:lnTo>
                  <a:pt x="3278" y="1586"/>
                </a:lnTo>
                <a:lnTo>
                  <a:pt x="3241" y="1607"/>
                </a:lnTo>
                <a:lnTo>
                  <a:pt x="3241" y="1607"/>
                </a:lnTo>
                <a:lnTo>
                  <a:pt x="3205" y="1629"/>
                </a:lnTo>
                <a:lnTo>
                  <a:pt x="3205" y="1629"/>
                </a:lnTo>
                <a:lnTo>
                  <a:pt x="3167" y="1651"/>
                </a:lnTo>
                <a:lnTo>
                  <a:pt x="3167" y="1651"/>
                </a:lnTo>
                <a:lnTo>
                  <a:pt x="3129" y="1670"/>
                </a:lnTo>
                <a:lnTo>
                  <a:pt x="3129" y="1670"/>
                </a:lnTo>
                <a:lnTo>
                  <a:pt x="3091" y="1692"/>
                </a:lnTo>
                <a:lnTo>
                  <a:pt x="3091" y="1692"/>
                </a:lnTo>
                <a:lnTo>
                  <a:pt x="3053" y="1712"/>
                </a:lnTo>
                <a:lnTo>
                  <a:pt x="3053" y="1712"/>
                </a:lnTo>
                <a:lnTo>
                  <a:pt x="3014" y="1730"/>
                </a:lnTo>
                <a:lnTo>
                  <a:pt x="3014" y="1730"/>
                </a:lnTo>
                <a:lnTo>
                  <a:pt x="2974" y="1748"/>
                </a:lnTo>
                <a:lnTo>
                  <a:pt x="2974" y="1748"/>
                </a:lnTo>
                <a:lnTo>
                  <a:pt x="2934" y="1766"/>
                </a:lnTo>
                <a:lnTo>
                  <a:pt x="2934" y="1766"/>
                </a:lnTo>
                <a:lnTo>
                  <a:pt x="2893" y="1784"/>
                </a:lnTo>
                <a:lnTo>
                  <a:pt x="2893" y="1784"/>
                </a:lnTo>
                <a:lnTo>
                  <a:pt x="2853" y="1802"/>
                </a:lnTo>
                <a:lnTo>
                  <a:pt x="2853" y="1802"/>
                </a:lnTo>
                <a:lnTo>
                  <a:pt x="2811" y="1819"/>
                </a:lnTo>
                <a:lnTo>
                  <a:pt x="2770" y="1833"/>
                </a:lnTo>
                <a:lnTo>
                  <a:pt x="2770" y="1833"/>
                </a:lnTo>
                <a:lnTo>
                  <a:pt x="2728" y="1849"/>
                </a:lnTo>
                <a:lnTo>
                  <a:pt x="2728" y="1849"/>
                </a:lnTo>
                <a:lnTo>
                  <a:pt x="2685" y="1864"/>
                </a:lnTo>
                <a:lnTo>
                  <a:pt x="2685" y="1864"/>
                </a:lnTo>
                <a:lnTo>
                  <a:pt x="2643" y="1878"/>
                </a:lnTo>
                <a:lnTo>
                  <a:pt x="2643" y="1878"/>
                </a:lnTo>
                <a:lnTo>
                  <a:pt x="2600" y="1893"/>
                </a:lnTo>
                <a:lnTo>
                  <a:pt x="2600" y="1893"/>
                </a:lnTo>
                <a:lnTo>
                  <a:pt x="2557" y="1905"/>
                </a:lnTo>
                <a:lnTo>
                  <a:pt x="2557" y="1905"/>
                </a:lnTo>
                <a:lnTo>
                  <a:pt x="2513" y="1918"/>
                </a:lnTo>
                <a:lnTo>
                  <a:pt x="2513" y="1918"/>
                </a:lnTo>
                <a:lnTo>
                  <a:pt x="2470" y="1929"/>
                </a:lnTo>
                <a:lnTo>
                  <a:pt x="2470" y="1929"/>
                </a:lnTo>
                <a:lnTo>
                  <a:pt x="2425" y="1940"/>
                </a:lnTo>
                <a:lnTo>
                  <a:pt x="2425" y="1940"/>
                </a:lnTo>
                <a:lnTo>
                  <a:pt x="2381" y="1950"/>
                </a:lnTo>
                <a:lnTo>
                  <a:pt x="2381" y="1950"/>
                </a:lnTo>
                <a:lnTo>
                  <a:pt x="2336" y="1961"/>
                </a:lnTo>
                <a:lnTo>
                  <a:pt x="2336" y="1961"/>
                </a:lnTo>
                <a:lnTo>
                  <a:pt x="2291" y="1970"/>
                </a:lnTo>
                <a:lnTo>
                  <a:pt x="2291" y="1970"/>
                </a:lnTo>
                <a:lnTo>
                  <a:pt x="2246" y="1979"/>
                </a:lnTo>
                <a:lnTo>
                  <a:pt x="2246" y="1979"/>
                </a:lnTo>
                <a:lnTo>
                  <a:pt x="2201" y="1988"/>
                </a:lnTo>
                <a:lnTo>
                  <a:pt x="2201" y="1988"/>
                </a:lnTo>
                <a:lnTo>
                  <a:pt x="2155" y="1996"/>
                </a:lnTo>
                <a:lnTo>
                  <a:pt x="2155" y="1996"/>
                </a:lnTo>
                <a:lnTo>
                  <a:pt x="2110" y="2003"/>
                </a:lnTo>
                <a:lnTo>
                  <a:pt x="2110" y="2003"/>
                </a:lnTo>
                <a:lnTo>
                  <a:pt x="2065" y="2010"/>
                </a:lnTo>
                <a:lnTo>
                  <a:pt x="2065" y="2010"/>
                </a:lnTo>
                <a:lnTo>
                  <a:pt x="2018" y="2016"/>
                </a:lnTo>
                <a:lnTo>
                  <a:pt x="2018" y="2016"/>
                </a:lnTo>
                <a:lnTo>
                  <a:pt x="1973" y="2021"/>
                </a:lnTo>
                <a:lnTo>
                  <a:pt x="1973" y="2021"/>
                </a:lnTo>
                <a:lnTo>
                  <a:pt x="1926" y="2025"/>
                </a:lnTo>
                <a:lnTo>
                  <a:pt x="1926" y="2025"/>
                </a:lnTo>
                <a:lnTo>
                  <a:pt x="1881" y="2030"/>
                </a:lnTo>
                <a:lnTo>
                  <a:pt x="1881" y="2030"/>
                </a:lnTo>
                <a:lnTo>
                  <a:pt x="1834" y="2032"/>
                </a:lnTo>
                <a:lnTo>
                  <a:pt x="1834" y="2032"/>
                </a:lnTo>
                <a:lnTo>
                  <a:pt x="1789" y="2035"/>
                </a:lnTo>
                <a:lnTo>
                  <a:pt x="1789" y="2035"/>
                </a:lnTo>
                <a:lnTo>
                  <a:pt x="1742" y="2037"/>
                </a:lnTo>
                <a:lnTo>
                  <a:pt x="1742" y="2037"/>
                </a:lnTo>
                <a:lnTo>
                  <a:pt x="1695" y="2039"/>
                </a:lnTo>
                <a:lnTo>
                  <a:pt x="1695" y="2039"/>
                </a:lnTo>
                <a:lnTo>
                  <a:pt x="1648" y="2041"/>
                </a:lnTo>
                <a:lnTo>
                  <a:pt x="1648" y="2041"/>
                </a:lnTo>
                <a:lnTo>
                  <a:pt x="1602" y="2041"/>
                </a:lnTo>
                <a:lnTo>
                  <a:pt x="1602" y="2041"/>
                </a:lnTo>
                <a:lnTo>
                  <a:pt x="1555" y="2041"/>
                </a:lnTo>
                <a:lnTo>
                  <a:pt x="1555" y="2041"/>
                </a:lnTo>
                <a:lnTo>
                  <a:pt x="1508" y="2039"/>
                </a:lnTo>
                <a:lnTo>
                  <a:pt x="1508" y="2039"/>
                </a:lnTo>
                <a:lnTo>
                  <a:pt x="1463" y="2037"/>
                </a:lnTo>
                <a:lnTo>
                  <a:pt x="1463" y="2037"/>
                </a:lnTo>
                <a:lnTo>
                  <a:pt x="1416" y="2035"/>
                </a:lnTo>
                <a:lnTo>
                  <a:pt x="1416" y="2035"/>
                </a:lnTo>
                <a:lnTo>
                  <a:pt x="1369" y="2032"/>
                </a:lnTo>
                <a:lnTo>
                  <a:pt x="1324" y="2030"/>
                </a:lnTo>
                <a:lnTo>
                  <a:pt x="1324" y="2030"/>
                </a:lnTo>
                <a:lnTo>
                  <a:pt x="1277" y="2025"/>
                </a:lnTo>
                <a:lnTo>
                  <a:pt x="1277" y="2025"/>
                </a:lnTo>
                <a:lnTo>
                  <a:pt x="1232" y="2021"/>
                </a:lnTo>
                <a:lnTo>
                  <a:pt x="1232" y="2021"/>
                </a:lnTo>
                <a:lnTo>
                  <a:pt x="1185" y="2016"/>
                </a:lnTo>
                <a:lnTo>
                  <a:pt x="1185" y="2016"/>
                </a:lnTo>
                <a:lnTo>
                  <a:pt x="1140" y="2010"/>
                </a:lnTo>
                <a:lnTo>
                  <a:pt x="1140" y="2010"/>
                </a:lnTo>
                <a:lnTo>
                  <a:pt x="1095" y="2003"/>
                </a:lnTo>
                <a:lnTo>
                  <a:pt x="1095" y="2003"/>
                </a:lnTo>
                <a:lnTo>
                  <a:pt x="1048" y="1996"/>
                </a:lnTo>
                <a:lnTo>
                  <a:pt x="1048" y="1996"/>
                </a:lnTo>
                <a:lnTo>
                  <a:pt x="1002" y="1988"/>
                </a:lnTo>
                <a:lnTo>
                  <a:pt x="1002" y="1988"/>
                </a:lnTo>
                <a:lnTo>
                  <a:pt x="957" y="1979"/>
                </a:lnTo>
                <a:lnTo>
                  <a:pt x="957" y="1979"/>
                </a:lnTo>
                <a:lnTo>
                  <a:pt x="912" y="1970"/>
                </a:lnTo>
                <a:lnTo>
                  <a:pt x="912" y="1970"/>
                </a:lnTo>
                <a:lnTo>
                  <a:pt x="867" y="1961"/>
                </a:lnTo>
                <a:lnTo>
                  <a:pt x="867" y="1961"/>
                </a:lnTo>
                <a:lnTo>
                  <a:pt x="824" y="1950"/>
                </a:lnTo>
                <a:lnTo>
                  <a:pt x="824" y="1950"/>
                </a:lnTo>
                <a:lnTo>
                  <a:pt x="778" y="1940"/>
                </a:lnTo>
                <a:lnTo>
                  <a:pt x="778" y="1940"/>
                </a:lnTo>
                <a:lnTo>
                  <a:pt x="735" y="1929"/>
                </a:lnTo>
                <a:lnTo>
                  <a:pt x="735" y="1929"/>
                </a:lnTo>
                <a:lnTo>
                  <a:pt x="692" y="1918"/>
                </a:lnTo>
                <a:lnTo>
                  <a:pt x="692" y="1918"/>
                </a:lnTo>
                <a:lnTo>
                  <a:pt x="646" y="1905"/>
                </a:lnTo>
                <a:lnTo>
                  <a:pt x="646" y="1905"/>
                </a:lnTo>
                <a:lnTo>
                  <a:pt x="605" y="1893"/>
                </a:lnTo>
                <a:lnTo>
                  <a:pt x="605" y="1893"/>
                </a:lnTo>
                <a:lnTo>
                  <a:pt x="562" y="1878"/>
                </a:lnTo>
                <a:lnTo>
                  <a:pt x="562" y="1878"/>
                </a:lnTo>
                <a:lnTo>
                  <a:pt x="518" y="1864"/>
                </a:lnTo>
                <a:lnTo>
                  <a:pt x="518" y="1864"/>
                </a:lnTo>
                <a:lnTo>
                  <a:pt x="477" y="1849"/>
                </a:lnTo>
                <a:lnTo>
                  <a:pt x="477" y="1849"/>
                </a:lnTo>
                <a:lnTo>
                  <a:pt x="435" y="1833"/>
                </a:lnTo>
                <a:lnTo>
                  <a:pt x="435" y="1833"/>
                </a:lnTo>
                <a:lnTo>
                  <a:pt x="393" y="1819"/>
                </a:lnTo>
                <a:lnTo>
                  <a:pt x="393" y="1819"/>
                </a:lnTo>
                <a:lnTo>
                  <a:pt x="352" y="1802"/>
                </a:lnTo>
                <a:lnTo>
                  <a:pt x="352" y="1802"/>
                </a:lnTo>
                <a:lnTo>
                  <a:pt x="310" y="1784"/>
                </a:lnTo>
                <a:lnTo>
                  <a:pt x="310" y="1784"/>
                </a:lnTo>
                <a:lnTo>
                  <a:pt x="271" y="1766"/>
                </a:lnTo>
                <a:lnTo>
                  <a:pt x="271" y="1766"/>
                </a:lnTo>
                <a:lnTo>
                  <a:pt x="231" y="1748"/>
                </a:lnTo>
                <a:lnTo>
                  <a:pt x="231" y="1748"/>
                </a:lnTo>
                <a:lnTo>
                  <a:pt x="191" y="1730"/>
                </a:lnTo>
                <a:lnTo>
                  <a:pt x="191" y="1730"/>
                </a:lnTo>
                <a:lnTo>
                  <a:pt x="151" y="1712"/>
                </a:lnTo>
                <a:lnTo>
                  <a:pt x="151" y="1712"/>
                </a:lnTo>
                <a:lnTo>
                  <a:pt x="113" y="1692"/>
                </a:lnTo>
                <a:lnTo>
                  <a:pt x="113" y="1692"/>
                </a:lnTo>
                <a:lnTo>
                  <a:pt x="74" y="1670"/>
                </a:lnTo>
                <a:lnTo>
                  <a:pt x="74" y="1670"/>
                </a:lnTo>
                <a:lnTo>
                  <a:pt x="36" y="1651"/>
                </a:lnTo>
                <a:lnTo>
                  <a:pt x="36" y="1651"/>
                </a:lnTo>
                <a:lnTo>
                  <a:pt x="0" y="1629"/>
                </a:lnTo>
                <a:lnTo>
                  <a:pt x="0" y="2118"/>
                </a:lnTo>
                <a:lnTo>
                  <a:pt x="36" y="2140"/>
                </a:lnTo>
                <a:lnTo>
                  <a:pt x="36" y="2140"/>
                </a:lnTo>
                <a:lnTo>
                  <a:pt x="74" y="2160"/>
                </a:lnTo>
                <a:lnTo>
                  <a:pt x="74" y="2160"/>
                </a:lnTo>
                <a:lnTo>
                  <a:pt x="113" y="2182"/>
                </a:lnTo>
                <a:lnTo>
                  <a:pt x="113" y="2182"/>
                </a:lnTo>
                <a:lnTo>
                  <a:pt x="151" y="2202"/>
                </a:lnTo>
                <a:lnTo>
                  <a:pt x="151" y="2202"/>
                </a:lnTo>
                <a:lnTo>
                  <a:pt x="191" y="2220"/>
                </a:lnTo>
                <a:lnTo>
                  <a:pt x="191" y="2220"/>
                </a:lnTo>
                <a:lnTo>
                  <a:pt x="231" y="2238"/>
                </a:lnTo>
                <a:lnTo>
                  <a:pt x="231" y="2238"/>
                </a:lnTo>
                <a:lnTo>
                  <a:pt x="271" y="2256"/>
                </a:lnTo>
                <a:lnTo>
                  <a:pt x="271" y="2256"/>
                </a:lnTo>
                <a:lnTo>
                  <a:pt x="310" y="2274"/>
                </a:lnTo>
                <a:lnTo>
                  <a:pt x="310" y="2274"/>
                </a:lnTo>
                <a:lnTo>
                  <a:pt x="352" y="2292"/>
                </a:lnTo>
                <a:lnTo>
                  <a:pt x="352" y="2292"/>
                </a:lnTo>
                <a:lnTo>
                  <a:pt x="393" y="2308"/>
                </a:lnTo>
                <a:lnTo>
                  <a:pt x="393" y="2308"/>
                </a:lnTo>
                <a:lnTo>
                  <a:pt x="435" y="2323"/>
                </a:lnTo>
                <a:lnTo>
                  <a:pt x="435" y="2323"/>
                </a:lnTo>
                <a:lnTo>
                  <a:pt x="477" y="2339"/>
                </a:lnTo>
                <a:lnTo>
                  <a:pt x="477" y="2339"/>
                </a:lnTo>
                <a:lnTo>
                  <a:pt x="518" y="2353"/>
                </a:lnTo>
                <a:lnTo>
                  <a:pt x="518" y="2353"/>
                </a:lnTo>
                <a:lnTo>
                  <a:pt x="562" y="2368"/>
                </a:lnTo>
                <a:lnTo>
                  <a:pt x="562" y="2368"/>
                </a:lnTo>
                <a:lnTo>
                  <a:pt x="605" y="2382"/>
                </a:lnTo>
                <a:lnTo>
                  <a:pt x="605" y="2382"/>
                </a:lnTo>
                <a:lnTo>
                  <a:pt x="646" y="2395"/>
                </a:lnTo>
                <a:lnTo>
                  <a:pt x="646" y="2395"/>
                </a:lnTo>
                <a:lnTo>
                  <a:pt x="692" y="2408"/>
                </a:lnTo>
                <a:lnTo>
                  <a:pt x="692" y="2408"/>
                </a:lnTo>
                <a:lnTo>
                  <a:pt x="735" y="2418"/>
                </a:lnTo>
                <a:lnTo>
                  <a:pt x="735" y="2418"/>
                </a:lnTo>
                <a:lnTo>
                  <a:pt x="778" y="2429"/>
                </a:lnTo>
                <a:lnTo>
                  <a:pt x="778" y="2429"/>
                </a:lnTo>
                <a:lnTo>
                  <a:pt x="824" y="2440"/>
                </a:lnTo>
                <a:lnTo>
                  <a:pt x="824" y="2440"/>
                </a:lnTo>
                <a:lnTo>
                  <a:pt x="867" y="2451"/>
                </a:lnTo>
                <a:lnTo>
                  <a:pt x="867" y="2451"/>
                </a:lnTo>
                <a:lnTo>
                  <a:pt x="912" y="2460"/>
                </a:lnTo>
                <a:lnTo>
                  <a:pt x="912" y="2460"/>
                </a:lnTo>
                <a:lnTo>
                  <a:pt x="957" y="2469"/>
                </a:lnTo>
                <a:lnTo>
                  <a:pt x="957" y="2469"/>
                </a:lnTo>
                <a:lnTo>
                  <a:pt x="1002" y="2478"/>
                </a:lnTo>
                <a:lnTo>
                  <a:pt x="1002" y="2478"/>
                </a:lnTo>
                <a:lnTo>
                  <a:pt x="1048" y="2485"/>
                </a:lnTo>
                <a:lnTo>
                  <a:pt x="1048" y="2485"/>
                </a:lnTo>
                <a:lnTo>
                  <a:pt x="1095" y="2492"/>
                </a:lnTo>
                <a:lnTo>
                  <a:pt x="1095" y="2492"/>
                </a:lnTo>
                <a:lnTo>
                  <a:pt x="1140" y="2500"/>
                </a:lnTo>
                <a:lnTo>
                  <a:pt x="1140" y="2500"/>
                </a:lnTo>
                <a:lnTo>
                  <a:pt x="1185" y="2505"/>
                </a:lnTo>
                <a:lnTo>
                  <a:pt x="1185" y="2505"/>
                </a:lnTo>
                <a:lnTo>
                  <a:pt x="1232" y="2510"/>
                </a:lnTo>
                <a:lnTo>
                  <a:pt x="1232" y="2510"/>
                </a:lnTo>
                <a:lnTo>
                  <a:pt x="1277" y="2514"/>
                </a:lnTo>
                <a:lnTo>
                  <a:pt x="1277" y="2514"/>
                </a:lnTo>
                <a:lnTo>
                  <a:pt x="1324" y="2520"/>
                </a:lnTo>
                <a:lnTo>
                  <a:pt x="1324" y="2520"/>
                </a:lnTo>
                <a:lnTo>
                  <a:pt x="1369" y="2521"/>
                </a:lnTo>
                <a:lnTo>
                  <a:pt x="1416" y="2525"/>
                </a:lnTo>
                <a:lnTo>
                  <a:pt x="1416" y="2525"/>
                </a:lnTo>
                <a:lnTo>
                  <a:pt x="1463" y="2527"/>
                </a:lnTo>
                <a:lnTo>
                  <a:pt x="1463" y="2527"/>
                </a:lnTo>
                <a:lnTo>
                  <a:pt x="1508" y="2529"/>
                </a:lnTo>
                <a:lnTo>
                  <a:pt x="1508" y="2529"/>
                </a:lnTo>
                <a:lnTo>
                  <a:pt x="1555" y="2530"/>
                </a:lnTo>
                <a:lnTo>
                  <a:pt x="1555" y="2530"/>
                </a:lnTo>
                <a:lnTo>
                  <a:pt x="1602" y="2530"/>
                </a:lnTo>
                <a:lnTo>
                  <a:pt x="1602" y="2530"/>
                </a:lnTo>
                <a:lnTo>
                  <a:pt x="1648" y="2530"/>
                </a:lnTo>
                <a:lnTo>
                  <a:pt x="1648" y="2530"/>
                </a:lnTo>
                <a:lnTo>
                  <a:pt x="1695" y="2529"/>
                </a:lnTo>
                <a:lnTo>
                  <a:pt x="1695" y="2529"/>
                </a:lnTo>
                <a:lnTo>
                  <a:pt x="1742" y="2527"/>
                </a:lnTo>
                <a:lnTo>
                  <a:pt x="1742" y="2527"/>
                </a:lnTo>
                <a:lnTo>
                  <a:pt x="1789" y="2525"/>
                </a:lnTo>
                <a:lnTo>
                  <a:pt x="1789" y="2525"/>
                </a:lnTo>
                <a:lnTo>
                  <a:pt x="1834" y="2521"/>
                </a:lnTo>
                <a:lnTo>
                  <a:pt x="1834" y="2521"/>
                </a:lnTo>
                <a:lnTo>
                  <a:pt x="1881" y="2520"/>
                </a:lnTo>
                <a:lnTo>
                  <a:pt x="1881" y="2520"/>
                </a:lnTo>
                <a:lnTo>
                  <a:pt x="1926" y="2514"/>
                </a:lnTo>
                <a:lnTo>
                  <a:pt x="1926" y="2514"/>
                </a:lnTo>
                <a:lnTo>
                  <a:pt x="1973" y="2510"/>
                </a:lnTo>
                <a:lnTo>
                  <a:pt x="1973" y="2510"/>
                </a:lnTo>
                <a:lnTo>
                  <a:pt x="2018" y="2505"/>
                </a:lnTo>
                <a:lnTo>
                  <a:pt x="2018" y="2505"/>
                </a:lnTo>
                <a:lnTo>
                  <a:pt x="2065" y="2500"/>
                </a:lnTo>
                <a:lnTo>
                  <a:pt x="2065" y="2500"/>
                </a:lnTo>
                <a:lnTo>
                  <a:pt x="2110" y="2492"/>
                </a:lnTo>
                <a:lnTo>
                  <a:pt x="2110" y="2492"/>
                </a:lnTo>
                <a:lnTo>
                  <a:pt x="2155" y="2485"/>
                </a:lnTo>
                <a:lnTo>
                  <a:pt x="2155" y="2485"/>
                </a:lnTo>
                <a:lnTo>
                  <a:pt x="2201" y="2478"/>
                </a:lnTo>
                <a:lnTo>
                  <a:pt x="2201" y="2478"/>
                </a:lnTo>
                <a:lnTo>
                  <a:pt x="2246" y="2469"/>
                </a:lnTo>
                <a:lnTo>
                  <a:pt x="2246" y="2469"/>
                </a:lnTo>
                <a:lnTo>
                  <a:pt x="2291" y="2460"/>
                </a:lnTo>
                <a:lnTo>
                  <a:pt x="2291" y="2460"/>
                </a:lnTo>
                <a:lnTo>
                  <a:pt x="2336" y="2451"/>
                </a:lnTo>
                <a:lnTo>
                  <a:pt x="2336" y="2451"/>
                </a:lnTo>
                <a:lnTo>
                  <a:pt x="2381" y="2440"/>
                </a:lnTo>
                <a:lnTo>
                  <a:pt x="2381" y="2440"/>
                </a:lnTo>
                <a:lnTo>
                  <a:pt x="2425" y="2429"/>
                </a:lnTo>
                <a:lnTo>
                  <a:pt x="2425" y="2429"/>
                </a:lnTo>
                <a:lnTo>
                  <a:pt x="2470" y="2418"/>
                </a:lnTo>
                <a:lnTo>
                  <a:pt x="2470" y="2418"/>
                </a:lnTo>
                <a:lnTo>
                  <a:pt x="2513" y="2408"/>
                </a:lnTo>
                <a:lnTo>
                  <a:pt x="2513" y="2408"/>
                </a:lnTo>
                <a:lnTo>
                  <a:pt x="2557" y="2395"/>
                </a:lnTo>
                <a:lnTo>
                  <a:pt x="2557" y="2395"/>
                </a:lnTo>
                <a:lnTo>
                  <a:pt x="2600" y="2382"/>
                </a:lnTo>
                <a:lnTo>
                  <a:pt x="2600" y="2382"/>
                </a:lnTo>
                <a:lnTo>
                  <a:pt x="2643" y="2368"/>
                </a:lnTo>
                <a:lnTo>
                  <a:pt x="2643" y="2368"/>
                </a:lnTo>
                <a:lnTo>
                  <a:pt x="2685" y="2353"/>
                </a:lnTo>
                <a:lnTo>
                  <a:pt x="2685" y="2353"/>
                </a:lnTo>
                <a:lnTo>
                  <a:pt x="2728" y="2339"/>
                </a:lnTo>
                <a:lnTo>
                  <a:pt x="2728" y="2339"/>
                </a:lnTo>
                <a:lnTo>
                  <a:pt x="2770" y="2323"/>
                </a:lnTo>
                <a:lnTo>
                  <a:pt x="2770" y="2323"/>
                </a:lnTo>
                <a:lnTo>
                  <a:pt x="2811" y="2308"/>
                </a:lnTo>
                <a:lnTo>
                  <a:pt x="2853" y="2292"/>
                </a:lnTo>
                <a:lnTo>
                  <a:pt x="2853" y="2292"/>
                </a:lnTo>
                <a:lnTo>
                  <a:pt x="2893" y="2274"/>
                </a:lnTo>
                <a:lnTo>
                  <a:pt x="2893" y="2274"/>
                </a:lnTo>
                <a:lnTo>
                  <a:pt x="2934" y="2256"/>
                </a:lnTo>
                <a:lnTo>
                  <a:pt x="2934" y="2256"/>
                </a:lnTo>
                <a:lnTo>
                  <a:pt x="2974" y="2238"/>
                </a:lnTo>
                <a:lnTo>
                  <a:pt x="2974" y="2238"/>
                </a:lnTo>
                <a:lnTo>
                  <a:pt x="3014" y="2220"/>
                </a:lnTo>
                <a:lnTo>
                  <a:pt x="3014" y="2220"/>
                </a:lnTo>
                <a:lnTo>
                  <a:pt x="3053" y="2202"/>
                </a:lnTo>
                <a:lnTo>
                  <a:pt x="3053" y="2202"/>
                </a:lnTo>
                <a:lnTo>
                  <a:pt x="3091" y="2182"/>
                </a:lnTo>
                <a:lnTo>
                  <a:pt x="3091" y="2182"/>
                </a:lnTo>
                <a:lnTo>
                  <a:pt x="3129" y="2160"/>
                </a:lnTo>
                <a:lnTo>
                  <a:pt x="3129" y="2160"/>
                </a:lnTo>
                <a:lnTo>
                  <a:pt x="3167" y="2140"/>
                </a:lnTo>
                <a:lnTo>
                  <a:pt x="3167" y="2140"/>
                </a:lnTo>
                <a:lnTo>
                  <a:pt x="3205" y="2118"/>
                </a:lnTo>
                <a:lnTo>
                  <a:pt x="3205" y="2118"/>
                </a:lnTo>
                <a:lnTo>
                  <a:pt x="3241" y="2097"/>
                </a:lnTo>
                <a:lnTo>
                  <a:pt x="3241" y="2097"/>
                </a:lnTo>
                <a:lnTo>
                  <a:pt x="3278" y="2075"/>
                </a:lnTo>
                <a:lnTo>
                  <a:pt x="3278" y="2075"/>
                </a:lnTo>
                <a:lnTo>
                  <a:pt x="3314" y="2052"/>
                </a:lnTo>
                <a:lnTo>
                  <a:pt x="3314" y="2052"/>
                </a:lnTo>
                <a:lnTo>
                  <a:pt x="3350" y="2030"/>
                </a:lnTo>
                <a:lnTo>
                  <a:pt x="3350" y="2030"/>
                </a:lnTo>
                <a:lnTo>
                  <a:pt x="3384" y="2006"/>
                </a:lnTo>
                <a:lnTo>
                  <a:pt x="3384" y="2006"/>
                </a:lnTo>
                <a:lnTo>
                  <a:pt x="3418" y="1981"/>
                </a:lnTo>
                <a:lnTo>
                  <a:pt x="3418" y="1981"/>
                </a:lnTo>
                <a:lnTo>
                  <a:pt x="3453" y="1958"/>
                </a:lnTo>
                <a:lnTo>
                  <a:pt x="3453" y="1958"/>
                </a:lnTo>
                <a:lnTo>
                  <a:pt x="3485" y="1932"/>
                </a:lnTo>
                <a:lnTo>
                  <a:pt x="3485" y="1932"/>
                </a:lnTo>
                <a:lnTo>
                  <a:pt x="3518" y="1907"/>
                </a:lnTo>
                <a:lnTo>
                  <a:pt x="3518" y="1907"/>
                </a:lnTo>
                <a:lnTo>
                  <a:pt x="3550" y="1882"/>
                </a:lnTo>
                <a:lnTo>
                  <a:pt x="3550" y="1882"/>
                </a:lnTo>
                <a:lnTo>
                  <a:pt x="3581" y="1855"/>
                </a:lnTo>
                <a:lnTo>
                  <a:pt x="3581" y="1855"/>
                </a:lnTo>
                <a:lnTo>
                  <a:pt x="3612" y="1828"/>
                </a:lnTo>
                <a:lnTo>
                  <a:pt x="3612" y="1828"/>
                </a:lnTo>
                <a:lnTo>
                  <a:pt x="3643" y="1801"/>
                </a:lnTo>
                <a:lnTo>
                  <a:pt x="3643" y="1801"/>
                </a:lnTo>
                <a:lnTo>
                  <a:pt x="3671" y="1773"/>
                </a:lnTo>
                <a:lnTo>
                  <a:pt x="3671" y="1773"/>
                </a:lnTo>
                <a:lnTo>
                  <a:pt x="3700" y="1746"/>
                </a:lnTo>
                <a:lnTo>
                  <a:pt x="3700" y="1746"/>
                </a:lnTo>
                <a:lnTo>
                  <a:pt x="3729" y="1717"/>
                </a:lnTo>
                <a:lnTo>
                  <a:pt x="3729" y="1717"/>
                </a:lnTo>
                <a:lnTo>
                  <a:pt x="3756" y="1689"/>
                </a:lnTo>
                <a:lnTo>
                  <a:pt x="3756" y="1689"/>
                </a:lnTo>
                <a:lnTo>
                  <a:pt x="3784" y="1660"/>
                </a:lnTo>
                <a:lnTo>
                  <a:pt x="3784" y="1660"/>
                </a:lnTo>
                <a:lnTo>
                  <a:pt x="3811" y="1631"/>
                </a:lnTo>
                <a:lnTo>
                  <a:pt x="3811" y="1631"/>
                </a:lnTo>
                <a:lnTo>
                  <a:pt x="3836" y="1600"/>
                </a:lnTo>
                <a:lnTo>
                  <a:pt x="3836" y="1600"/>
                </a:lnTo>
                <a:lnTo>
                  <a:pt x="3861" y="1571"/>
                </a:lnTo>
                <a:lnTo>
                  <a:pt x="3885" y="1540"/>
                </a:lnTo>
                <a:lnTo>
                  <a:pt x="3885" y="1540"/>
                </a:lnTo>
                <a:lnTo>
                  <a:pt x="3908" y="1510"/>
                </a:lnTo>
                <a:lnTo>
                  <a:pt x="3908" y="1510"/>
                </a:lnTo>
                <a:lnTo>
                  <a:pt x="3932" y="1479"/>
                </a:lnTo>
                <a:lnTo>
                  <a:pt x="3932" y="1479"/>
                </a:lnTo>
                <a:lnTo>
                  <a:pt x="3953" y="1448"/>
                </a:lnTo>
                <a:lnTo>
                  <a:pt x="3953" y="1448"/>
                </a:lnTo>
                <a:lnTo>
                  <a:pt x="3975" y="1416"/>
                </a:lnTo>
                <a:lnTo>
                  <a:pt x="3975" y="1416"/>
                </a:lnTo>
                <a:lnTo>
                  <a:pt x="3997" y="1383"/>
                </a:lnTo>
                <a:lnTo>
                  <a:pt x="3997" y="1383"/>
                </a:lnTo>
                <a:lnTo>
                  <a:pt x="4017" y="1353"/>
                </a:lnTo>
                <a:lnTo>
                  <a:pt x="4017" y="1353"/>
                </a:lnTo>
                <a:lnTo>
                  <a:pt x="4035" y="1320"/>
                </a:lnTo>
                <a:lnTo>
                  <a:pt x="4035" y="1320"/>
                </a:lnTo>
                <a:lnTo>
                  <a:pt x="4055" y="1288"/>
                </a:lnTo>
                <a:lnTo>
                  <a:pt x="4055" y="1288"/>
                </a:lnTo>
                <a:lnTo>
                  <a:pt x="4071" y="1253"/>
                </a:lnTo>
                <a:lnTo>
                  <a:pt x="4071" y="1253"/>
                </a:lnTo>
                <a:lnTo>
                  <a:pt x="4089" y="1221"/>
                </a:lnTo>
                <a:lnTo>
                  <a:pt x="4089" y="1221"/>
                </a:lnTo>
                <a:lnTo>
                  <a:pt x="4105" y="1188"/>
                </a:lnTo>
                <a:lnTo>
                  <a:pt x="4105" y="1188"/>
                </a:lnTo>
                <a:lnTo>
                  <a:pt x="4120" y="1154"/>
                </a:lnTo>
                <a:lnTo>
                  <a:pt x="4120" y="1154"/>
                </a:lnTo>
                <a:lnTo>
                  <a:pt x="4136" y="1120"/>
                </a:lnTo>
                <a:lnTo>
                  <a:pt x="4136" y="1120"/>
                </a:lnTo>
                <a:lnTo>
                  <a:pt x="4149" y="1085"/>
                </a:lnTo>
                <a:lnTo>
                  <a:pt x="4149" y="1085"/>
                </a:lnTo>
                <a:lnTo>
                  <a:pt x="4163" y="1053"/>
                </a:lnTo>
                <a:lnTo>
                  <a:pt x="4163" y="1053"/>
                </a:lnTo>
                <a:lnTo>
                  <a:pt x="4176" y="1018"/>
                </a:lnTo>
                <a:lnTo>
                  <a:pt x="4176" y="1018"/>
                </a:lnTo>
                <a:lnTo>
                  <a:pt x="4186" y="982"/>
                </a:lnTo>
                <a:lnTo>
                  <a:pt x="4186" y="982"/>
                </a:lnTo>
                <a:lnTo>
                  <a:pt x="4197" y="948"/>
                </a:lnTo>
                <a:lnTo>
                  <a:pt x="4197" y="948"/>
                </a:lnTo>
                <a:lnTo>
                  <a:pt x="4208" y="914"/>
                </a:lnTo>
                <a:lnTo>
                  <a:pt x="4208" y="914"/>
                </a:lnTo>
                <a:lnTo>
                  <a:pt x="4217" y="879"/>
                </a:lnTo>
                <a:lnTo>
                  <a:pt x="4217" y="879"/>
                </a:lnTo>
                <a:lnTo>
                  <a:pt x="4224" y="843"/>
                </a:lnTo>
                <a:lnTo>
                  <a:pt x="4224" y="843"/>
                </a:lnTo>
                <a:lnTo>
                  <a:pt x="4233" y="809"/>
                </a:lnTo>
                <a:lnTo>
                  <a:pt x="4233" y="809"/>
                </a:lnTo>
                <a:lnTo>
                  <a:pt x="4239" y="773"/>
                </a:lnTo>
                <a:lnTo>
                  <a:pt x="4239" y="773"/>
                </a:lnTo>
                <a:lnTo>
                  <a:pt x="4246" y="738"/>
                </a:lnTo>
                <a:lnTo>
                  <a:pt x="4246" y="738"/>
                </a:lnTo>
                <a:lnTo>
                  <a:pt x="4252" y="702"/>
                </a:lnTo>
                <a:lnTo>
                  <a:pt x="4252" y="702"/>
                </a:lnTo>
                <a:lnTo>
                  <a:pt x="4255" y="668"/>
                </a:lnTo>
                <a:lnTo>
                  <a:pt x="4255" y="668"/>
                </a:lnTo>
                <a:lnTo>
                  <a:pt x="4259" y="632"/>
                </a:lnTo>
                <a:lnTo>
                  <a:pt x="4259" y="632"/>
                </a:lnTo>
                <a:lnTo>
                  <a:pt x="4262" y="596"/>
                </a:lnTo>
                <a:lnTo>
                  <a:pt x="4262" y="596"/>
                </a:lnTo>
                <a:lnTo>
                  <a:pt x="4264" y="561"/>
                </a:lnTo>
                <a:lnTo>
                  <a:pt x="4264" y="561"/>
                </a:lnTo>
                <a:lnTo>
                  <a:pt x="4266" y="525"/>
                </a:lnTo>
                <a:lnTo>
                  <a:pt x="4266" y="525"/>
                </a:lnTo>
                <a:lnTo>
                  <a:pt x="4266" y="489"/>
                </a:lnTo>
                <a:lnTo>
                  <a:pt x="4266" y="0"/>
                </a:lnTo>
                <a:close/>
              </a:path>
            </a:pathLst>
          </a:custGeom>
          <a:solidFill>
            <a:srgbClr val="4d4d80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792520" y="2108160"/>
            <a:ext cx="3386160" cy="3238560"/>
          </a:xfrm>
          <a:custGeom>
            <a:avLst/>
            <a:gdLst/>
            <a:ahLst/>
            <a:rect l="l" t="t" r="r" b="b"/>
            <a:pathLst>
              <a:path w="4266" h="4081">
                <a:moveTo>
                  <a:pt x="1602" y="0"/>
                </a:moveTo>
                <a:lnTo>
                  <a:pt x="1602" y="0"/>
                </a:lnTo>
                <a:lnTo>
                  <a:pt x="1648" y="0"/>
                </a:lnTo>
                <a:lnTo>
                  <a:pt x="1648" y="0"/>
                </a:lnTo>
                <a:lnTo>
                  <a:pt x="1695" y="0"/>
                </a:lnTo>
                <a:lnTo>
                  <a:pt x="1695" y="0"/>
                </a:lnTo>
                <a:lnTo>
                  <a:pt x="1742" y="2"/>
                </a:lnTo>
                <a:lnTo>
                  <a:pt x="1742" y="2"/>
                </a:lnTo>
                <a:lnTo>
                  <a:pt x="1742" y="2"/>
                </a:lnTo>
                <a:lnTo>
                  <a:pt x="1789" y="6"/>
                </a:lnTo>
                <a:lnTo>
                  <a:pt x="1789" y="6"/>
                </a:lnTo>
                <a:lnTo>
                  <a:pt x="1834" y="7"/>
                </a:lnTo>
                <a:lnTo>
                  <a:pt x="1834" y="7"/>
                </a:lnTo>
                <a:lnTo>
                  <a:pt x="1881" y="11"/>
                </a:lnTo>
                <a:lnTo>
                  <a:pt x="1881" y="11"/>
                </a:lnTo>
                <a:lnTo>
                  <a:pt x="1926" y="15"/>
                </a:lnTo>
                <a:lnTo>
                  <a:pt x="1926" y="15"/>
                </a:lnTo>
                <a:lnTo>
                  <a:pt x="1926" y="15"/>
                </a:lnTo>
                <a:lnTo>
                  <a:pt x="1973" y="20"/>
                </a:lnTo>
                <a:lnTo>
                  <a:pt x="1973" y="20"/>
                </a:lnTo>
                <a:lnTo>
                  <a:pt x="2018" y="25"/>
                </a:lnTo>
                <a:lnTo>
                  <a:pt x="2018" y="25"/>
                </a:lnTo>
                <a:lnTo>
                  <a:pt x="2065" y="31"/>
                </a:lnTo>
                <a:lnTo>
                  <a:pt x="2065" y="31"/>
                </a:lnTo>
                <a:lnTo>
                  <a:pt x="2065" y="31"/>
                </a:lnTo>
                <a:lnTo>
                  <a:pt x="2110" y="38"/>
                </a:lnTo>
                <a:lnTo>
                  <a:pt x="2110" y="38"/>
                </a:lnTo>
                <a:lnTo>
                  <a:pt x="2155" y="43"/>
                </a:lnTo>
                <a:lnTo>
                  <a:pt x="2155" y="43"/>
                </a:lnTo>
                <a:lnTo>
                  <a:pt x="2201" y="52"/>
                </a:lnTo>
                <a:lnTo>
                  <a:pt x="2201" y="52"/>
                </a:lnTo>
                <a:lnTo>
                  <a:pt x="2201" y="52"/>
                </a:lnTo>
                <a:lnTo>
                  <a:pt x="2246" y="60"/>
                </a:lnTo>
                <a:lnTo>
                  <a:pt x="2246" y="60"/>
                </a:lnTo>
                <a:lnTo>
                  <a:pt x="2291" y="69"/>
                </a:lnTo>
                <a:lnTo>
                  <a:pt x="2291" y="69"/>
                </a:lnTo>
                <a:lnTo>
                  <a:pt x="2336" y="78"/>
                </a:lnTo>
                <a:lnTo>
                  <a:pt x="2336" y="78"/>
                </a:lnTo>
                <a:lnTo>
                  <a:pt x="2336" y="78"/>
                </a:lnTo>
                <a:lnTo>
                  <a:pt x="2381" y="89"/>
                </a:lnTo>
                <a:lnTo>
                  <a:pt x="2381" y="89"/>
                </a:lnTo>
                <a:lnTo>
                  <a:pt x="2425" y="99"/>
                </a:lnTo>
                <a:lnTo>
                  <a:pt x="2425" y="99"/>
                </a:lnTo>
                <a:lnTo>
                  <a:pt x="2470" y="110"/>
                </a:lnTo>
                <a:lnTo>
                  <a:pt x="2470" y="110"/>
                </a:lnTo>
                <a:lnTo>
                  <a:pt x="2513" y="123"/>
                </a:lnTo>
                <a:lnTo>
                  <a:pt x="2513" y="123"/>
                </a:lnTo>
                <a:lnTo>
                  <a:pt x="2513" y="123"/>
                </a:lnTo>
                <a:lnTo>
                  <a:pt x="2557" y="136"/>
                </a:lnTo>
                <a:lnTo>
                  <a:pt x="2557" y="136"/>
                </a:lnTo>
                <a:lnTo>
                  <a:pt x="2600" y="148"/>
                </a:lnTo>
                <a:lnTo>
                  <a:pt x="2600" y="148"/>
                </a:lnTo>
                <a:lnTo>
                  <a:pt x="2643" y="163"/>
                </a:lnTo>
                <a:lnTo>
                  <a:pt x="2643" y="163"/>
                </a:lnTo>
                <a:lnTo>
                  <a:pt x="2643" y="163"/>
                </a:lnTo>
                <a:lnTo>
                  <a:pt x="2685" y="175"/>
                </a:lnTo>
                <a:lnTo>
                  <a:pt x="2685" y="175"/>
                </a:lnTo>
                <a:lnTo>
                  <a:pt x="2728" y="192"/>
                </a:lnTo>
                <a:lnTo>
                  <a:pt x="2728" y="192"/>
                </a:lnTo>
                <a:lnTo>
                  <a:pt x="2770" y="206"/>
                </a:lnTo>
                <a:lnTo>
                  <a:pt x="2770" y="206"/>
                </a:lnTo>
                <a:lnTo>
                  <a:pt x="2770" y="206"/>
                </a:lnTo>
                <a:lnTo>
                  <a:pt x="2811" y="222"/>
                </a:lnTo>
                <a:lnTo>
                  <a:pt x="2811" y="222"/>
                </a:lnTo>
                <a:lnTo>
                  <a:pt x="2853" y="239"/>
                </a:lnTo>
                <a:lnTo>
                  <a:pt x="2853" y="239"/>
                </a:lnTo>
                <a:lnTo>
                  <a:pt x="2893" y="255"/>
                </a:lnTo>
                <a:lnTo>
                  <a:pt x="2893" y="255"/>
                </a:lnTo>
                <a:lnTo>
                  <a:pt x="2934" y="273"/>
                </a:lnTo>
                <a:lnTo>
                  <a:pt x="2934" y="273"/>
                </a:lnTo>
                <a:lnTo>
                  <a:pt x="2934" y="273"/>
                </a:lnTo>
                <a:lnTo>
                  <a:pt x="2974" y="291"/>
                </a:lnTo>
                <a:lnTo>
                  <a:pt x="2974" y="291"/>
                </a:lnTo>
                <a:lnTo>
                  <a:pt x="3014" y="309"/>
                </a:lnTo>
                <a:lnTo>
                  <a:pt x="3014" y="309"/>
                </a:lnTo>
                <a:lnTo>
                  <a:pt x="3053" y="329"/>
                </a:lnTo>
                <a:lnTo>
                  <a:pt x="3053" y="329"/>
                </a:lnTo>
                <a:lnTo>
                  <a:pt x="3053" y="329"/>
                </a:lnTo>
                <a:lnTo>
                  <a:pt x="3091" y="349"/>
                </a:lnTo>
                <a:lnTo>
                  <a:pt x="3091" y="349"/>
                </a:lnTo>
                <a:lnTo>
                  <a:pt x="3129" y="369"/>
                </a:lnTo>
                <a:lnTo>
                  <a:pt x="3129" y="369"/>
                </a:lnTo>
                <a:lnTo>
                  <a:pt x="3167" y="388"/>
                </a:lnTo>
                <a:lnTo>
                  <a:pt x="3167" y="388"/>
                </a:lnTo>
                <a:lnTo>
                  <a:pt x="3167" y="388"/>
                </a:lnTo>
                <a:lnTo>
                  <a:pt x="3205" y="410"/>
                </a:lnTo>
                <a:lnTo>
                  <a:pt x="3205" y="410"/>
                </a:lnTo>
                <a:lnTo>
                  <a:pt x="3241" y="432"/>
                </a:lnTo>
                <a:lnTo>
                  <a:pt x="3241" y="432"/>
                </a:lnTo>
                <a:lnTo>
                  <a:pt x="3278" y="453"/>
                </a:lnTo>
                <a:lnTo>
                  <a:pt x="3278" y="453"/>
                </a:lnTo>
                <a:lnTo>
                  <a:pt x="3278" y="453"/>
                </a:lnTo>
                <a:lnTo>
                  <a:pt x="3314" y="477"/>
                </a:lnTo>
                <a:lnTo>
                  <a:pt x="3314" y="477"/>
                </a:lnTo>
                <a:lnTo>
                  <a:pt x="3350" y="500"/>
                </a:lnTo>
                <a:lnTo>
                  <a:pt x="3350" y="500"/>
                </a:lnTo>
                <a:lnTo>
                  <a:pt x="3384" y="524"/>
                </a:lnTo>
                <a:lnTo>
                  <a:pt x="3384" y="524"/>
                </a:lnTo>
                <a:lnTo>
                  <a:pt x="3418" y="547"/>
                </a:lnTo>
                <a:lnTo>
                  <a:pt x="3418" y="547"/>
                </a:lnTo>
                <a:lnTo>
                  <a:pt x="3418" y="547"/>
                </a:lnTo>
                <a:lnTo>
                  <a:pt x="3453" y="573"/>
                </a:lnTo>
                <a:lnTo>
                  <a:pt x="3453" y="573"/>
                </a:lnTo>
                <a:lnTo>
                  <a:pt x="3485" y="598"/>
                </a:lnTo>
                <a:lnTo>
                  <a:pt x="3485" y="598"/>
                </a:lnTo>
                <a:lnTo>
                  <a:pt x="3518" y="623"/>
                </a:lnTo>
                <a:lnTo>
                  <a:pt x="3518" y="623"/>
                </a:lnTo>
                <a:lnTo>
                  <a:pt x="3518" y="623"/>
                </a:lnTo>
                <a:lnTo>
                  <a:pt x="3550" y="649"/>
                </a:lnTo>
                <a:lnTo>
                  <a:pt x="3550" y="649"/>
                </a:lnTo>
                <a:lnTo>
                  <a:pt x="3581" y="674"/>
                </a:lnTo>
                <a:lnTo>
                  <a:pt x="3581" y="674"/>
                </a:lnTo>
                <a:lnTo>
                  <a:pt x="3612" y="701"/>
                </a:lnTo>
                <a:lnTo>
                  <a:pt x="3612" y="701"/>
                </a:lnTo>
                <a:lnTo>
                  <a:pt x="3612" y="701"/>
                </a:lnTo>
                <a:lnTo>
                  <a:pt x="3643" y="728"/>
                </a:lnTo>
                <a:lnTo>
                  <a:pt x="3643" y="728"/>
                </a:lnTo>
                <a:lnTo>
                  <a:pt x="3671" y="755"/>
                </a:lnTo>
                <a:lnTo>
                  <a:pt x="3671" y="755"/>
                </a:lnTo>
                <a:lnTo>
                  <a:pt x="3700" y="784"/>
                </a:lnTo>
                <a:lnTo>
                  <a:pt x="3700" y="784"/>
                </a:lnTo>
                <a:lnTo>
                  <a:pt x="3729" y="811"/>
                </a:lnTo>
                <a:lnTo>
                  <a:pt x="3729" y="811"/>
                </a:lnTo>
                <a:lnTo>
                  <a:pt x="3729" y="811"/>
                </a:lnTo>
                <a:lnTo>
                  <a:pt x="3756" y="840"/>
                </a:lnTo>
                <a:lnTo>
                  <a:pt x="3756" y="840"/>
                </a:lnTo>
                <a:lnTo>
                  <a:pt x="3784" y="869"/>
                </a:lnTo>
                <a:lnTo>
                  <a:pt x="3784" y="869"/>
                </a:lnTo>
                <a:lnTo>
                  <a:pt x="3811" y="900"/>
                </a:lnTo>
                <a:lnTo>
                  <a:pt x="3811" y="900"/>
                </a:lnTo>
                <a:lnTo>
                  <a:pt x="3811" y="900"/>
                </a:lnTo>
                <a:lnTo>
                  <a:pt x="3836" y="929"/>
                </a:lnTo>
                <a:lnTo>
                  <a:pt x="3836" y="929"/>
                </a:lnTo>
                <a:lnTo>
                  <a:pt x="3861" y="959"/>
                </a:lnTo>
                <a:lnTo>
                  <a:pt x="3861" y="959"/>
                </a:lnTo>
                <a:lnTo>
                  <a:pt x="3885" y="990"/>
                </a:lnTo>
                <a:lnTo>
                  <a:pt x="3885" y="990"/>
                </a:lnTo>
                <a:lnTo>
                  <a:pt x="3885" y="990"/>
                </a:lnTo>
                <a:lnTo>
                  <a:pt x="3908" y="1019"/>
                </a:lnTo>
                <a:lnTo>
                  <a:pt x="3908" y="1019"/>
                </a:lnTo>
                <a:lnTo>
                  <a:pt x="3932" y="1051"/>
                </a:lnTo>
                <a:lnTo>
                  <a:pt x="3932" y="1051"/>
                </a:lnTo>
                <a:lnTo>
                  <a:pt x="3953" y="1082"/>
                </a:lnTo>
                <a:lnTo>
                  <a:pt x="3953" y="1082"/>
                </a:lnTo>
                <a:lnTo>
                  <a:pt x="3953" y="1082"/>
                </a:lnTo>
                <a:lnTo>
                  <a:pt x="3975" y="1113"/>
                </a:lnTo>
                <a:lnTo>
                  <a:pt x="3975" y="1113"/>
                </a:lnTo>
                <a:lnTo>
                  <a:pt x="3997" y="1145"/>
                </a:lnTo>
                <a:lnTo>
                  <a:pt x="3997" y="1145"/>
                </a:lnTo>
                <a:lnTo>
                  <a:pt x="4017" y="1178"/>
                </a:lnTo>
                <a:lnTo>
                  <a:pt x="4017" y="1178"/>
                </a:lnTo>
                <a:lnTo>
                  <a:pt x="4035" y="1210"/>
                </a:lnTo>
                <a:lnTo>
                  <a:pt x="4035" y="1210"/>
                </a:lnTo>
                <a:lnTo>
                  <a:pt x="4035" y="1210"/>
                </a:lnTo>
                <a:lnTo>
                  <a:pt x="4055" y="1243"/>
                </a:lnTo>
                <a:lnTo>
                  <a:pt x="4055" y="1243"/>
                </a:lnTo>
                <a:lnTo>
                  <a:pt x="4071" y="1275"/>
                </a:lnTo>
                <a:lnTo>
                  <a:pt x="4071" y="1275"/>
                </a:lnTo>
                <a:lnTo>
                  <a:pt x="4089" y="1308"/>
                </a:lnTo>
                <a:lnTo>
                  <a:pt x="4089" y="1308"/>
                </a:lnTo>
                <a:lnTo>
                  <a:pt x="4089" y="1308"/>
                </a:lnTo>
                <a:lnTo>
                  <a:pt x="4105" y="1342"/>
                </a:lnTo>
                <a:lnTo>
                  <a:pt x="4105" y="1342"/>
                </a:lnTo>
                <a:lnTo>
                  <a:pt x="4120" y="1377"/>
                </a:lnTo>
                <a:lnTo>
                  <a:pt x="4120" y="1377"/>
                </a:lnTo>
                <a:lnTo>
                  <a:pt x="4136" y="1409"/>
                </a:lnTo>
                <a:lnTo>
                  <a:pt x="4136" y="1409"/>
                </a:lnTo>
                <a:lnTo>
                  <a:pt x="4136" y="1409"/>
                </a:lnTo>
                <a:lnTo>
                  <a:pt x="4149" y="1443"/>
                </a:lnTo>
                <a:lnTo>
                  <a:pt x="4149" y="1443"/>
                </a:lnTo>
                <a:lnTo>
                  <a:pt x="4163" y="1478"/>
                </a:lnTo>
                <a:lnTo>
                  <a:pt x="4163" y="1478"/>
                </a:lnTo>
                <a:lnTo>
                  <a:pt x="4176" y="1512"/>
                </a:lnTo>
                <a:lnTo>
                  <a:pt x="4176" y="1512"/>
                </a:lnTo>
                <a:lnTo>
                  <a:pt x="4186" y="1546"/>
                </a:lnTo>
                <a:lnTo>
                  <a:pt x="4186" y="1546"/>
                </a:lnTo>
                <a:lnTo>
                  <a:pt x="4186" y="1546"/>
                </a:lnTo>
                <a:lnTo>
                  <a:pt x="4197" y="1581"/>
                </a:lnTo>
                <a:lnTo>
                  <a:pt x="4197" y="1581"/>
                </a:lnTo>
                <a:lnTo>
                  <a:pt x="4208" y="1615"/>
                </a:lnTo>
                <a:lnTo>
                  <a:pt x="4208" y="1615"/>
                </a:lnTo>
                <a:lnTo>
                  <a:pt x="4217" y="1651"/>
                </a:lnTo>
                <a:lnTo>
                  <a:pt x="4217" y="1651"/>
                </a:lnTo>
                <a:lnTo>
                  <a:pt x="4217" y="1651"/>
                </a:lnTo>
                <a:lnTo>
                  <a:pt x="4224" y="1685"/>
                </a:lnTo>
                <a:lnTo>
                  <a:pt x="4224" y="1685"/>
                </a:lnTo>
                <a:lnTo>
                  <a:pt x="4233" y="1722"/>
                </a:lnTo>
                <a:lnTo>
                  <a:pt x="4233" y="1722"/>
                </a:lnTo>
                <a:lnTo>
                  <a:pt x="4239" y="1756"/>
                </a:lnTo>
                <a:lnTo>
                  <a:pt x="4239" y="1756"/>
                </a:lnTo>
                <a:lnTo>
                  <a:pt x="4239" y="1756"/>
                </a:lnTo>
                <a:lnTo>
                  <a:pt x="4246" y="1792"/>
                </a:lnTo>
                <a:lnTo>
                  <a:pt x="4246" y="1792"/>
                </a:lnTo>
                <a:lnTo>
                  <a:pt x="4252" y="1826"/>
                </a:lnTo>
                <a:lnTo>
                  <a:pt x="4252" y="1826"/>
                </a:lnTo>
                <a:lnTo>
                  <a:pt x="4255" y="1863"/>
                </a:lnTo>
                <a:lnTo>
                  <a:pt x="4255" y="1863"/>
                </a:lnTo>
                <a:lnTo>
                  <a:pt x="4255" y="1863"/>
                </a:lnTo>
                <a:lnTo>
                  <a:pt x="4259" y="1897"/>
                </a:lnTo>
                <a:lnTo>
                  <a:pt x="4259" y="1897"/>
                </a:lnTo>
                <a:lnTo>
                  <a:pt x="4262" y="1933"/>
                </a:lnTo>
                <a:lnTo>
                  <a:pt x="4262" y="1933"/>
                </a:lnTo>
                <a:lnTo>
                  <a:pt x="4264" y="1969"/>
                </a:lnTo>
                <a:lnTo>
                  <a:pt x="4264" y="1969"/>
                </a:lnTo>
                <a:lnTo>
                  <a:pt x="4266" y="2005"/>
                </a:lnTo>
                <a:lnTo>
                  <a:pt x="4266" y="2005"/>
                </a:lnTo>
                <a:lnTo>
                  <a:pt x="4266" y="2005"/>
                </a:lnTo>
                <a:lnTo>
                  <a:pt x="4266" y="2040"/>
                </a:lnTo>
                <a:lnTo>
                  <a:pt x="4266" y="2040"/>
                </a:lnTo>
                <a:lnTo>
                  <a:pt x="4266" y="2076"/>
                </a:lnTo>
                <a:lnTo>
                  <a:pt x="4266" y="2076"/>
                </a:lnTo>
                <a:lnTo>
                  <a:pt x="4264" y="2112"/>
                </a:lnTo>
                <a:lnTo>
                  <a:pt x="4264" y="2112"/>
                </a:lnTo>
                <a:lnTo>
                  <a:pt x="4264" y="2112"/>
                </a:lnTo>
                <a:lnTo>
                  <a:pt x="4262" y="2146"/>
                </a:lnTo>
                <a:lnTo>
                  <a:pt x="4262" y="2146"/>
                </a:lnTo>
                <a:lnTo>
                  <a:pt x="4259" y="2182"/>
                </a:lnTo>
                <a:lnTo>
                  <a:pt x="4259" y="2182"/>
                </a:lnTo>
                <a:lnTo>
                  <a:pt x="4255" y="2218"/>
                </a:lnTo>
                <a:lnTo>
                  <a:pt x="4255" y="2218"/>
                </a:lnTo>
                <a:lnTo>
                  <a:pt x="4255" y="2218"/>
                </a:lnTo>
                <a:lnTo>
                  <a:pt x="4252" y="2253"/>
                </a:lnTo>
                <a:lnTo>
                  <a:pt x="4252" y="2253"/>
                </a:lnTo>
                <a:lnTo>
                  <a:pt x="4246" y="2289"/>
                </a:lnTo>
                <a:lnTo>
                  <a:pt x="4246" y="2289"/>
                </a:lnTo>
                <a:lnTo>
                  <a:pt x="4239" y="2323"/>
                </a:lnTo>
                <a:lnTo>
                  <a:pt x="4239" y="2323"/>
                </a:lnTo>
                <a:lnTo>
                  <a:pt x="4233" y="2359"/>
                </a:lnTo>
                <a:lnTo>
                  <a:pt x="4233" y="2359"/>
                </a:lnTo>
                <a:lnTo>
                  <a:pt x="4233" y="2359"/>
                </a:lnTo>
                <a:lnTo>
                  <a:pt x="4224" y="2394"/>
                </a:lnTo>
                <a:lnTo>
                  <a:pt x="4224" y="2394"/>
                </a:lnTo>
                <a:lnTo>
                  <a:pt x="4217" y="2430"/>
                </a:lnTo>
                <a:lnTo>
                  <a:pt x="4217" y="2430"/>
                </a:lnTo>
                <a:lnTo>
                  <a:pt x="4208" y="2464"/>
                </a:lnTo>
                <a:lnTo>
                  <a:pt x="4208" y="2464"/>
                </a:lnTo>
                <a:lnTo>
                  <a:pt x="4208" y="2464"/>
                </a:lnTo>
                <a:lnTo>
                  <a:pt x="4197" y="2498"/>
                </a:lnTo>
                <a:lnTo>
                  <a:pt x="4197" y="2498"/>
                </a:lnTo>
                <a:lnTo>
                  <a:pt x="4186" y="2533"/>
                </a:lnTo>
                <a:lnTo>
                  <a:pt x="4186" y="2533"/>
                </a:lnTo>
                <a:lnTo>
                  <a:pt x="4176" y="2569"/>
                </a:lnTo>
                <a:lnTo>
                  <a:pt x="4176" y="2569"/>
                </a:lnTo>
                <a:lnTo>
                  <a:pt x="4176" y="2569"/>
                </a:lnTo>
                <a:lnTo>
                  <a:pt x="4163" y="2603"/>
                </a:lnTo>
                <a:lnTo>
                  <a:pt x="4163" y="2603"/>
                </a:lnTo>
                <a:lnTo>
                  <a:pt x="4149" y="2636"/>
                </a:lnTo>
                <a:lnTo>
                  <a:pt x="4149" y="2636"/>
                </a:lnTo>
                <a:lnTo>
                  <a:pt x="4136" y="2670"/>
                </a:lnTo>
                <a:lnTo>
                  <a:pt x="4136" y="2670"/>
                </a:lnTo>
                <a:lnTo>
                  <a:pt x="4120" y="2704"/>
                </a:lnTo>
                <a:lnTo>
                  <a:pt x="4120" y="2704"/>
                </a:lnTo>
                <a:lnTo>
                  <a:pt x="4120" y="2704"/>
                </a:lnTo>
                <a:lnTo>
                  <a:pt x="4105" y="2739"/>
                </a:lnTo>
                <a:lnTo>
                  <a:pt x="4105" y="2739"/>
                </a:lnTo>
                <a:lnTo>
                  <a:pt x="4089" y="2771"/>
                </a:lnTo>
                <a:lnTo>
                  <a:pt x="4089" y="2771"/>
                </a:lnTo>
                <a:lnTo>
                  <a:pt x="4071" y="2804"/>
                </a:lnTo>
                <a:lnTo>
                  <a:pt x="4071" y="2804"/>
                </a:lnTo>
                <a:lnTo>
                  <a:pt x="4071" y="2804"/>
                </a:lnTo>
                <a:lnTo>
                  <a:pt x="4055" y="2838"/>
                </a:lnTo>
                <a:lnTo>
                  <a:pt x="4055" y="2838"/>
                </a:lnTo>
                <a:lnTo>
                  <a:pt x="4035" y="2871"/>
                </a:lnTo>
                <a:lnTo>
                  <a:pt x="4035" y="2871"/>
                </a:lnTo>
                <a:lnTo>
                  <a:pt x="4017" y="2903"/>
                </a:lnTo>
                <a:lnTo>
                  <a:pt x="4017" y="2903"/>
                </a:lnTo>
                <a:lnTo>
                  <a:pt x="4017" y="2903"/>
                </a:lnTo>
                <a:lnTo>
                  <a:pt x="3997" y="2934"/>
                </a:lnTo>
                <a:lnTo>
                  <a:pt x="3997" y="2934"/>
                </a:lnTo>
                <a:lnTo>
                  <a:pt x="3975" y="2966"/>
                </a:lnTo>
                <a:lnTo>
                  <a:pt x="3975" y="2966"/>
                </a:lnTo>
                <a:lnTo>
                  <a:pt x="3953" y="2999"/>
                </a:lnTo>
                <a:lnTo>
                  <a:pt x="3953" y="2999"/>
                </a:lnTo>
                <a:lnTo>
                  <a:pt x="3953" y="2999"/>
                </a:lnTo>
                <a:lnTo>
                  <a:pt x="3932" y="3029"/>
                </a:lnTo>
                <a:lnTo>
                  <a:pt x="3932" y="3029"/>
                </a:lnTo>
                <a:lnTo>
                  <a:pt x="3908" y="3060"/>
                </a:lnTo>
                <a:lnTo>
                  <a:pt x="3908" y="3060"/>
                </a:lnTo>
                <a:lnTo>
                  <a:pt x="3885" y="3091"/>
                </a:lnTo>
                <a:lnTo>
                  <a:pt x="3885" y="3091"/>
                </a:lnTo>
                <a:lnTo>
                  <a:pt x="3861" y="3122"/>
                </a:lnTo>
                <a:lnTo>
                  <a:pt x="3861" y="3122"/>
                </a:lnTo>
                <a:lnTo>
                  <a:pt x="3861" y="3122"/>
                </a:lnTo>
                <a:lnTo>
                  <a:pt x="3836" y="3151"/>
                </a:lnTo>
                <a:lnTo>
                  <a:pt x="3836" y="3151"/>
                </a:lnTo>
                <a:lnTo>
                  <a:pt x="3811" y="3181"/>
                </a:lnTo>
                <a:lnTo>
                  <a:pt x="3811" y="3181"/>
                </a:lnTo>
                <a:lnTo>
                  <a:pt x="3784" y="3210"/>
                </a:lnTo>
                <a:lnTo>
                  <a:pt x="3784" y="3210"/>
                </a:lnTo>
                <a:lnTo>
                  <a:pt x="3784" y="3210"/>
                </a:lnTo>
                <a:lnTo>
                  <a:pt x="3756" y="3239"/>
                </a:lnTo>
                <a:lnTo>
                  <a:pt x="3756" y="3239"/>
                </a:lnTo>
                <a:lnTo>
                  <a:pt x="3729" y="3268"/>
                </a:lnTo>
                <a:lnTo>
                  <a:pt x="3729" y="3268"/>
                </a:lnTo>
                <a:lnTo>
                  <a:pt x="3700" y="3297"/>
                </a:lnTo>
                <a:lnTo>
                  <a:pt x="3700" y="3297"/>
                </a:lnTo>
                <a:lnTo>
                  <a:pt x="3700" y="3297"/>
                </a:lnTo>
                <a:lnTo>
                  <a:pt x="3671" y="3324"/>
                </a:lnTo>
                <a:lnTo>
                  <a:pt x="3671" y="3324"/>
                </a:lnTo>
                <a:lnTo>
                  <a:pt x="3643" y="3351"/>
                </a:lnTo>
                <a:lnTo>
                  <a:pt x="3643" y="3351"/>
                </a:lnTo>
                <a:lnTo>
                  <a:pt x="3612" y="3378"/>
                </a:lnTo>
                <a:lnTo>
                  <a:pt x="3612" y="3378"/>
                </a:lnTo>
                <a:lnTo>
                  <a:pt x="3581" y="3405"/>
                </a:lnTo>
                <a:lnTo>
                  <a:pt x="3581" y="3405"/>
                </a:lnTo>
                <a:lnTo>
                  <a:pt x="3581" y="3405"/>
                </a:lnTo>
                <a:lnTo>
                  <a:pt x="3550" y="3432"/>
                </a:lnTo>
                <a:lnTo>
                  <a:pt x="3550" y="3432"/>
                </a:lnTo>
                <a:lnTo>
                  <a:pt x="3518" y="3458"/>
                </a:lnTo>
                <a:lnTo>
                  <a:pt x="3518" y="3458"/>
                </a:lnTo>
                <a:lnTo>
                  <a:pt x="3485" y="3483"/>
                </a:lnTo>
                <a:lnTo>
                  <a:pt x="3485" y="3483"/>
                </a:lnTo>
                <a:lnTo>
                  <a:pt x="3485" y="3483"/>
                </a:lnTo>
                <a:lnTo>
                  <a:pt x="3453" y="3508"/>
                </a:lnTo>
                <a:lnTo>
                  <a:pt x="3453" y="3508"/>
                </a:lnTo>
                <a:lnTo>
                  <a:pt x="3418" y="3532"/>
                </a:lnTo>
                <a:lnTo>
                  <a:pt x="3418" y="3532"/>
                </a:lnTo>
                <a:lnTo>
                  <a:pt x="3384" y="3557"/>
                </a:lnTo>
                <a:lnTo>
                  <a:pt x="3384" y="3557"/>
                </a:lnTo>
                <a:lnTo>
                  <a:pt x="3384" y="3557"/>
                </a:lnTo>
                <a:lnTo>
                  <a:pt x="3350" y="3580"/>
                </a:lnTo>
                <a:lnTo>
                  <a:pt x="3350" y="3580"/>
                </a:lnTo>
                <a:lnTo>
                  <a:pt x="3314" y="3602"/>
                </a:lnTo>
                <a:lnTo>
                  <a:pt x="3314" y="3602"/>
                </a:lnTo>
                <a:lnTo>
                  <a:pt x="3278" y="3626"/>
                </a:lnTo>
                <a:lnTo>
                  <a:pt x="3278" y="3626"/>
                </a:lnTo>
                <a:lnTo>
                  <a:pt x="3278" y="3626"/>
                </a:lnTo>
                <a:lnTo>
                  <a:pt x="3241" y="3647"/>
                </a:lnTo>
                <a:lnTo>
                  <a:pt x="3241" y="3647"/>
                </a:lnTo>
                <a:lnTo>
                  <a:pt x="3205" y="3669"/>
                </a:lnTo>
                <a:lnTo>
                  <a:pt x="3205" y="3669"/>
                </a:lnTo>
                <a:lnTo>
                  <a:pt x="3167" y="3691"/>
                </a:lnTo>
                <a:lnTo>
                  <a:pt x="3167" y="3691"/>
                </a:lnTo>
                <a:lnTo>
                  <a:pt x="3129" y="3710"/>
                </a:lnTo>
                <a:lnTo>
                  <a:pt x="3129" y="3710"/>
                </a:lnTo>
                <a:lnTo>
                  <a:pt x="3129" y="3710"/>
                </a:lnTo>
                <a:lnTo>
                  <a:pt x="3091" y="3732"/>
                </a:lnTo>
                <a:lnTo>
                  <a:pt x="3091" y="3732"/>
                </a:lnTo>
                <a:lnTo>
                  <a:pt x="3053" y="3752"/>
                </a:lnTo>
                <a:lnTo>
                  <a:pt x="3053" y="3752"/>
                </a:lnTo>
                <a:lnTo>
                  <a:pt x="3014" y="3770"/>
                </a:lnTo>
                <a:lnTo>
                  <a:pt x="3014" y="3770"/>
                </a:lnTo>
                <a:lnTo>
                  <a:pt x="3014" y="3770"/>
                </a:lnTo>
                <a:lnTo>
                  <a:pt x="2974" y="3788"/>
                </a:lnTo>
                <a:lnTo>
                  <a:pt x="2974" y="3788"/>
                </a:lnTo>
                <a:lnTo>
                  <a:pt x="2934" y="3806"/>
                </a:lnTo>
                <a:lnTo>
                  <a:pt x="2934" y="3806"/>
                </a:lnTo>
                <a:lnTo>
                  <a:pt x="2893" y="3824"/>
                </a:lnTo>
                <a:lnTo>
                  <a:pt x="2893" y="3824"/>
                </a:lnTo>
                <a:lnTo>
                  <a:pt x="2893" y="3824"/>
                </a:lnTo>
                <a:lnTo>
                  <a:pt x="2853" y="3842"/>
                </a:lnTo>
                <a:lnTo>
                  <a:pt x="2853" y="3842"/>
                </a:lnTo>
                <a:lnTo>
                  <a:pt x="2811" y="3859"/>
                </a:lnTo>
                <a:lnTo>
                  <a:pt x="2811" y="3859"/>
                </a:lnTo>
                <a:lnTo>
                  <a:pt x="2770" y="3873"/>
                </a:lnTo>
                <a:lnTo>
                  <a:pt x="2770" y="3873"/>
                </a:lnTo>
                <a:lnTo>
                  <a:pt x="2728" y="3889"/>
                </a:lnTo>
                <a:lnTo>
                  <a:pt x="2728" y="3889"/>
                </a:lnTo>
                <a:lnTo>
                  <a:pt x="2728" y="3889"/>
                </a:lnTo>
                <a:lnTo>
                  <a:pt x="2685" y="3904"/>
                </a:lnTo>
                <a:lnTo>
                  <a:pt x="2685" y="3904"/>
                </a:lnTo>
                <a:lnTo>
                  <a:pt x="2643" y="3918"/>
                </a:lnTo>
                <a:lnTo>
                  <a:pt x="2643" y="3918"/>
                </a:lnTo>
                <a:lnTo>
                  <a:pt x="2600" y="3933"/>
                </a:lnTo>
                <a:lnTo>
                  <a:pt x="2600" y="3933"/>
                </a:lnTo>
                <a:lnTo>
                  <a:pt x="2600" y="3933"/>
                </a:lnTo>
                <a:lnTo>
                  <a:pt x="2557" y="3945"/>
                </a:lnTo>
                <a:lnTo>
                  <a:pt x="2557" y="3945"/>
                </a:lnTo>
                <a:lnTo>
                  <a:pt x="2513" y="3958"/>
                </a:lnTo>
                <a:lnTo>
                  <a:pt x="2513" y="3958"/>
                </a:lnTo>
                <a:lnTo>
                  <a:pt x="2470" y="3969"/>
                </a:lnTo>
                <a:lnTo>
                  <a:pt x="2470" y="3969"/>
                </a:lnTo>
                <a:lnTo>
                  <a:pt x="2470" y="3969"/>
                </a:lnTo>
                <a:lnTo>
                  <a:pt x="2425" y="3980"/>
                </a:lnTo>
                <a:lnTo>
                  <a:pt x="2425" y="3980"/>
                </a:lnTo>
                <a:lnTo>
                  <a:pt x="2381" y="3990"/>
                </a:lnTo>
                <a:lnTo>
                  <a:pt x="2381" y="3990"/>
                </a:lnTo>
                <a:lnTo>
                  <a:pt x="2336" y="4001"/>
                </a:lnTo>
                <a:lnTo>
                  <a:pt x="2336" y="4001"/>
                </a:lnTo>
                <a:lnTo>
                  <a:pt x="2336" y="4001"/>
                </a:lnTo>
                <a:lnTo>
                  <a:pt x="2291" y="4010"/>
                </a:lnTo>
                <a:lnTo>
                  <a:pt x="2291" y="4010"/>
                </a:lnTo>
                <a:lnTo>
                  <a:pt x="2246" y="4019"/>
                </a:lnTo>
                <a:lnTo>
                  <a:pt x="2246" y="4019"/>
                </a:lnTo>
                <a:lnTo>
                  <a:pt x="2201" y="4028"/>
                </a:lnTo>
                <a:lnTo>
                  <a:pt x="2201" y="4028"/>
                </a:lnTo>
                <a:lnTo>
                  <a:pt x="2155" y="4036"/>
                </a:lnTo>
                <a:lnTo>
                  <a:pt x="2155" y="4036"/>
                </a:lnTo>
                <a:lnTo>
                  <a:pt x="2155" y="4036"/>
                </a:lnTo>
                <a:lnTo>
                  <a:pt x="2110" y="4043"/>
                </a:lnTo>
                <a:lnTo>
                  <a:pt x="2110" y="4043"/>
                </a:lnTo>
                <a:lnTo>
                  <a:pt x="2065" y="4050"/>
                </a:lnTo>
                <a:lnTo>
                  <a:pt x="2065" y="4050"/>
                </a:lnTo>
                <a:lnTo>
                  <a:pt x="2018" y="4056"/>
                </a:lnTo>
                <a:lnTo>
                  <a:pt x="2018" y="4056"/>
                </a:lnTo>
                <a:lnTo>
                  <a:pt x="2018" y="4056"/>
                </a:lnTo>
                <a:lnTo>
                  <a:pt x="1973" y="4061"/>
                </a:lnTo>
                <a:lnTo>
                  <a:pt x="1973" y="4061"/>
                </a:lnTo>
                <a:lnTo>
                  <a:pt x="1926" y="4065"/>
                </a:lnTo>
                <a:lnTo>
                  <a:pt x="1926" y="4065"/>
                </a:lnTo>
                <a:lnTo>
                  <a:pt x="1881" y="4070"/>
                </a:lnTo>
                <a:lnTo>
                  <a:pt x="1881" y="4070"/>
                </a:lnTo>
                <a:lnTo>
                  <a:pt x="1881" y="4070"/>
                </a:lnTo>
                <a:lnTo>
                  <a:pt x="1834" y="4072"/>
                </a:lnTo>
                <a:lnTo>
                  <a:pt x="1834" y="4072"/>
                </a:lnTo>
                <a:lnTo>
                  <a:pt x="1789" y="4075"/>
                </a:lnTo>
                <a:lnTo>
                  <a:pt x="1789" y="4075"/>
                </a:lnTo>
                <a:lnTo>
                  <a:pt x="1742" y="4077"/>
                </a:lnTo>
                <a:lnTo>
                  <a:pt x="1742" y="4077"/>
                </a:lnTo>
                <a:lnTo>
                  <a:pt x="1695" y="4079"/>
                </a:lnTo>
                <a:lnTo>
                  <a:pt x="1695" y="4079"/>
                </a:lnTo>
                <a:lnTo>
                  <a:pt x="1695" y="4079"/>
                </a:lnTo>
                <a:lnTo>
                  <a:pt x="1648" y="4081"/>
                </a:lnTo>
                <a:lnTo>
                  <a:pt x="1648" y="4081"/>
                </a:lnTo>
                <a:lnTo>
                  <a:pt x="1602" y="4081"/>
                </a:lnTo>
                <a:lnTo>
                  <a:pt x="1602" y="4081"/>
                </a:lnTo>
                <a:lnTo>
                  <a:pt x="1555" y="4081"/>
                </a:lnTo>
                <a:lnTo>
                  <a:pt x="1555" y="4081"/>
                </a:lnTo>
                <a:lnTo>
                  <a:pt x="1555" y="4081"/>
                </a:lnTo>
                <a:lnTo>
                  <a:pt x="1508" y="4079"/>
                </a:lnTo>
                <a:lnTo>
                  <a:pt x="1508" y="4079"/>
                </a:lnTo>
                <a:lnTo>
                  <a:pt x="1463" y="4077"/>
                </a:lnTo>
                <a:lnTo>
                  <a:pt x="1463" y="4077"/>
                </a:lnTo>
                <a:lnTo>
                  <a:pt x="1416" y="4075"/>
                </a:lnTo>
                <a:lnTo>
                  <a:pt x="1416" y="4075"/>
                </a:lnTo>
                <a:lnTo>
                  <a:pt x="1416" y="4075"/>
                </a:lnTo>
                <a:lnTo>
                  <a:pt x="1369" y="4072"/>
                </a:lnTo>
                <a:lnTo>
                  <a:pt x="1369" y="4072"/>
                </a:lnTo>
                <a:lnTo>
                  <a:pt x="1324" y="4070"/>
                </a:lnTo>
                <a:lnTo>
                  <a:pt x="1324" y="4070"/>
                </a:lnTo>
                <a:lnTo>
                  <a:pt x="1277" y="4065"/>
                </a:lnTo>
                <a:lnTo>
                  <a:pt x="1277" y="4065"/>
                </a:lnTo>
                <a:lnTo>
                  <a:pt x="1277" y="4065"/>
                </a:lnTo>
                <a:lnTo>
                  <a:pt x="1232" y="4061"/>
                </a:lnTo>
                <a:lnTo>
                  <a:pt x="1232" y="4061"/>
                </a:lnTo>
                <a:lnTo>
                  <a:pt x="1185" y="4056"/>
                </a:lnTo>
                <a:lnTo>
                  <a:pt x="1185" y="4056"/>
                </a:lnTo>
                <a:lnTo>
                  <a:pt x="1140" y="4050"/>
                </a:lnTo>
                <a:lnTo>
                  <a:pt x="1140" y="4050"/>
                </a:lnTo>
                <a:lnTo>
                  <a:pt x="1095" y="4043"/>
                </a:lnTo>
                <a:lnTo>
                  <a:pt x="1095" y="4043"/>
                </a:lnTo>
                <a:lnTo>
                  <a:pt x="1095" y="4043"/>
                </a:lnTo>
                <a:lnTo>
                  <a:pt x="1048" y="4036"/>
                </a:lnTo>
                <a:lnTo>
                  <a:pt x="1048" y="4036"/>
                </a:lnTo>
                <a:lnTo>
                  <a:pt x="1002" y="4028"/>
                </a:lnTo>
                <a:lnTo>
                  <a:pt x="1002" y="4028"/>
                </a:lnTo>
                <a:lnTo>
                  <a:pt x="957" y="4019"/>
                </a:lnTo>
                <a:lnTo>
                  <a:pt x="957" y="4019"/>
                </a:lnTo>
                <a:lnTo>
                  <a:pt x="957" y="4019"/>
                </a:lnTo>
                <a:lnTo>
                  <a:pt x="912" y="4010"/>
                </a:lnTo>
                <a:lnTo>
                  <a:pt x="912" y="4010"/>
                </a:lnTo>
                <a:lnTo>
                  <a:pt x="867" y="4001"/>
                </a:lnTo>
                <a:lnTo>
                  <a:pt x="867" y="4001"/>
                </a:lnTo>
                <a:lnTo>
                  <a:pt x="824" y="3990"/>
                </a:lnTo>
                <a:lnTo>
                  <a:pt x="824" y="3990"/>
                </a:lnTo>
                <a:lnTo>
                  <a:pt x="824" y="3990"/>
                </a:lnTo>
                <a:lnTo>
                  <a:pt x="778" y="3980"/>
                </a:lnTo>
                <a:lnTo>
                  <a:pt x="778" y="3980"/>
                </a:lnTo>
                <a:lnTo>
                  <a:pt x="735" y="3969"/>
                </a:lnTo>
                <a:lnTo>
                  <a:pt x="735" y="3969"/>
                </a:lnTo>
                <a:lnTo>
                  <a:pt x="692" y="3958"/>
                </a:lnTo>
                <a:lnTo>
                  <a:pt x="692" y="3958"/>
                </a:lnTo>
                <a:lnTo>
                  <a:pt x="646" y="3945"/>
                </a:lnTo>
                <a:lnTo>
                  <a:pt x="646" y="3945"/>
                </a:lnTo>
                <a:lnTo>
                  <a:pt x="646" y="3945"/>
                </a:lnTo>
                <a:lnTo>
                  <a:pt x="605" y="3933"/>
                </a:lnTo>
                <a:lnTo>
                  <a:pt x="605" y="3933"/>
                </a:lnTo>
                <a:lnTo>
                  <a:pt x="562" y="3918"/>
                </a:lnTo>
                <a:lnTo>
                  <a:pt x="562" y="3918"/>
                </a:lnTo>
                <a:lnTo>
                  <a:pt x="518" y="3904"/>
                </a:lnTo>
                <a:lnTo>
                  <a:pt x="518" y="3904"/>
                </a:lnTo>
                <a:lnTo>
                  <a:pt x="518" y="3904"/>
                </a:lnTo>
                <a:lnTo>
                  <a:pt x="477" y="3889"/>
                </a:lnTo>
                <a:lnTo>
                  <a:pt x="477" y="3889"/>
                </a:lnTo>
                <a:lnTo>
                  <a:pt x="435" y="3873"/>
                </a:lnTo>
                <a:lnTo>
                  <a:pt x="435" y="3873"/>
                </a:lnTo>
                <a:lnTo>
                  <a:pt x="393" y="3859"/>
                </a:lnTo>
                <a:lnTo>
                  <a:pt x="393" y="3859"/>
                </a:lnTo>
                <a:lnTo>
                  <a:pt x="393" y="3859"/>
                </a:lnTo>
                <a:lnTo>
                  <a:pt x="352" y="3842"/>
                </a:lnTo>
                <a:lnTo>
                  <a:pt x="352" y="3842"/>
                </a:lnTo>
                <a:lnTo>
                  <a:pt x="310" y="3824"/>
                </a:lnTo>
                <a:lnTo>
                  <a:pt x="310" y="3824"/>
                </a:lnTo>
                <a:lnTo>
                  <a:pt x="271" y="3806"/>
                </a:lnTo>
                <a:lnTo>
                  <a:pt x="271" y="3806"/>
                </a:lnTo>
                <a:lnTo>
                  <a:pt x="271" y="3806"/>
                </a:lnTo>
                <a:lnTo>
                  <a:pt x="231" y="3788"/>
                </a:lnTo>
                <a:lnTo>
                  <a:pt x="231" y="3788"/>
                </a:lnTo>
                <a:lnTo>
                  <a:pt x="191" y="3770"/>
                </a:lnTo>
                <a:lnTo>
                  <a:pt x="191" y="3770"/>
                </a:lnTo>
                <a:lnTo>
                  <a:pt x="151" y="3752"/>
                </a:lnTo>
                <a:lnTo>
                  <a:pt x="151" y="3752"/>
                </a:lnTo>
                <a:lnTo>
                  <a:pt x="113" y="3732"/>
                </a:lnTo>
                <a:lnTo>
                  <a:pt x="113" y="3732"/>
                </a:lnTo>
                <a:lnTo>
                  <a:pt x="113" y="3732"/>
                </a:lnTo>
                <a:lnTo>
                  <a:pt x="74" y="3710"/>
                </a:lnTo>
                <a:lnTo>
                  <a:pt x="74" y="3710"/>
                </a:lnTo>
                <a:lnTo>
                  <a:pt x="36" y="3691"/>
                </a:lnTo>
                <a:lnTo>
                  <a:pt x="36" y="3691"/>
                </a:lnTo>
                <a:lnTo>
                  <a:pt x="0" y="3669"/>
                </a:lnTo>
                <a:lnTo>
                  <a:pt x="0" y="3669"/>
                </a:lnTo>
                <a:lnTo>
                  <a:pt x="1602" y="2040"/>
                </a:lnTo>
                <a:lnTo>
                  <a:pt x="1602" y="0"/>
                </a:lnTo>
                <a:close/>
              </a:path>
            </a:pathLst>
          </a:custGeom>
          <a:solidFill>
            <a:srgbClr val="9999ff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084720" y="4851360"/>
            <a:ext cx="11512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0.4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971720" y="5354640"/>
            <a:ext cx="695520" cy="36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4.9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638720" y="5227560"/>
            <a:ext cx="3754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0.8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595880" y="4944960"/>
            <a:ext cx="3754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0.3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3983040"/>
            <a:ext cx="8647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12.2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546560" y="3191040"/>
            <a:ext cx="3754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0.5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438200" y="2611440"/>
            <a:ext cx="695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8.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667240" y="1849320"/>
            <a:ext cx="8647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12.4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216680" y="1600200"/>
            <a:ext cx="3754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0.1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216680" y="1882800"/>
            <a:ext cx="3754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0.0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38680" y="1773360"/>
            <a:ext cx="3353040" cy="274320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708520" y="2084400"/>
            <a:ext cx="103320" cy="103320"/>
          </a:xfrm>
          <a:prstGeom prst="rect">
            <a:avLst/>
          </a:prstGeom>
          <a:solidFill>
            <a:srgbClr val="9999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850720" y="1803240"/>
            <a:ext cx="1232280" cy="4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utoveicol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708520" y="2311560"/>
            <a:ext cx="103320" cy="102960"/>
          </a:xfrm>
          <a:prstGeom prst="rect">
            <a:avLst/>
          </a:prstGeom>
          <a:solidFill>
            <a:srgbClr val="993366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849280" y="2036880"/>
            <a:ext cx="2335320" cy="4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tocicli/Ciclomoto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708520" y="2536920"/>
            <a:ext cx="103320" cy="102960"/>
          </a:xfrm>
          <a:prstGeom prst="rect">
            <a:avLst/>
          </a:prstGeom>
          <a:solidFill>
            <a:srgbClr val="ffffcc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851080" y="2270160"/>
            <a:ext cx="1018800" cy="4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iciclet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708520" y="2749680"/>
            <a:ext cx="103320" cy="102960"/>
          </a:xfrm>
          <a:prstGeom prst="rect">
            <a:avLst/>
          </a:prstGeom>
          <a:solidFill>
            <a:srgbClr val="cc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850000" y="2505240"/>
            <a:ext cx="665280" cy="4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708520" y="2994120"/>
            <a:ext cx="103320" cy="102960"/>
          </a:xfrm>
          <a:prstGeom prst="rect">
            <a:avLst/>
          </a:prstGeom>
          <a:solidFill>
            <a:srgbClr val="660066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850720" y="2738520"/>
            <a:ext cx="439560" cy="4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708520" y="3238560"/>
            <a:ext cx="103320" cy="102960"/>
          </a:xfrm>
          <a:prstGeom prst="rect">
            <a:avLst/>
          </a:prstGeom>
          <a:solidFill>
            <a:srgbClr val="ff808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850720" y="2971800"/>
            <a:ext cx="482400" cy="4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x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708520" y="3467160"/>
            <a:ext cx="103320" cy="102960"/>
          </a:xfrm>
          <a:prstGeom prst="rect">
            <a:avLst/>
          </a:prstGeom>
          <a:solidFill>
            <a:srgbClr val="cc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848920" y="3205080"/>
            <a:ext cx="3015360" cy="4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Veicoli commerciali legge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708520" y="3695760"/>
            <a:ext cx="103320" cy="102960"/>
          </a:xfrm>
          <a:prstGeom prst="rect">
            <a:avLst/>
          </a:prstGeom>
          <a:solidFill>
            <a:srgbClr val="ffcc99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848560" y="3440160"/>
            <a:ext cx="3071520" cy="4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Veicoli commerciali pesan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708520" y="3940200"/>
            <a:ext cx="103320" cy="103320"/>
          </a:xfrm>
          <a:prstGeom prst="rect">
            <a:avLst/>
          </a:prstGeom>
          <a:solidFill>
            <a:srgbClr val="00008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847840" y="3673440"/>
            <a:ext cx="1899720" cy="4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eni passegge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708520" y="4184640"/>
            <a:ext cx="103320" cy="103320"/>
          </a:xfrm>
          <a:prstGeom prst="rect">
            <a:avLst/>
          </a:prstGeom>
          <a:solidFill>
            <a:srgbClr val="ff00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849280" y="3906720"/>
            <a:ext cx="1274760" cy="4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eni merc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ichiardi, I costi esterni della mobilità metropolitana a Torin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E9322C-FDEE-4A09-AAEC-4528952980E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707840" y="609120"/>
            <a:ext cx="5715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6600"/>
                </a:solidFill>
                <a:latin typeface="Times New Roman"/>
              </a:rPr>
              <a:t>Costi estern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influenza negativa che l’attività economica di un soggetto esercita, al di fuori delle transizioni di mercato, sulla produzione o il benessere di un’altra persona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ichiardi, I costi esterni della mobilità metropolitana a Torin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55828B-2897-4898-A29A-669E21C53F2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6600"/>
                </a:solidFill>
                <a:latin typeface="Times New Roman"/>
              </a:rPr>
              <a:t>Costi medi (tonnKm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0" name=""/>
          <p:cNvGraphicFramePr/>
          <p:nvPr/>
        </p:nvGraphicFramePr>
        <p:xfrm>
          <a:off x="0" y="1752480"/>
          <a:ext cx="9144000" cy="4569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52480"/>
                    <a:ext cx="9144000" cy="456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ichiardi, I costi esterni della mobilità metropolitana a Torin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59C3F1-CDC6-4502-95F9-D4F483E4954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6600"/>
                </a:solidFill>
                <a:latin typeface="Times New Roman"/>
              </a:rPr>
              <a:t>Costi medi (paxKm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3" name=""/>
          <p:cNvGraphicFramePr/>
          <p:nvPr/>
        </p:nvGraphicFramePr>
        <p:xfrm>
          <a:off x="0" y="1600200"/>
          <a:ext cx="9144000" cy="4568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600200"/>
                    <a:ext cx="9144000" cy="456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ichiardi, I costi esterni della mobilità metropolitana a Torin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7F1DEC-293B-4832-ABAF-D47BE51E01E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6600"/>
                </a:solidFill>
                <a:latin typeface="Times New Roman"/>
              </a:rPr>
              <a:t>Costi medi (paxKm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503360" y="4835520"/>
            <a:ext cx="5626080" cy="446040"/>
          </a:xfrm>
          <a:custGeom>
            <a:avLst/>
            <a:gdLst/>
            <a:ahLst/>
            <a:rect l="l" t="t" r="r" b="b"/>
            <a:pathLst>
              <a:path w="3544" h="281">
                <a:moveTo>
                  <a:pt x="0" y="281"/>
                </a:moveTo>
                <a:lnTo>
                  <a:pt x="363" y="0"/>
                </a:lnTo>
                <a:lnTo>
                  <a:pt x="3544" y="0"/>
                </a:lnTo>
                <a:lnTo>
                  <a:pt x="3182" y="281"/>
                </a:lnTo>
                <a:lnTo>
                  <a:pt x="0" y="281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503360" y="1909800"/>
            <a:ext cx="576360" cy="3371760"/>
          </a:xfrm>
          <a:custGeom>
            <a:avLst/>
            <a:gdLst/>
            <a:ahLst/>
            <a:rect l="l" t="t" r="r" b="b"/>
            <a:pathLst>
              <a:path w="363" h="2124">
                <a:moveTo>
                  <a:pt x="0" y="2124"/>
                </a:moveTo>
                <a:lnTo>
                  <a:pt x="0" y="275"/>
                </a:lnTo>
                <a:lnTo>
                  <a:pt x="363" y="0"/>
                </a:lnTo>
                <a:lnTo>
                  <a:pt x="363" y="1843"/>
                </a:lnTo>
                <a:lnTo>
                  <a:pt x="0" y="2124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079720" y="1909800"/>
            <a:ext cx="5049720" cy="29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503360" y="4835520"/>
            <a:ext cx="5626080" cy="446040"/>
          </a:xfrm>
          <a:custGeom>
            <a:avLst/>
            <a:gdLst/>
            <a:ahLst/>
            <a:rect l="l" t="t" r="r" b="b"/>
            <a:pathLst>
              <a:path w="606" h="48">
                <a:moveTo>
                  <a:pt x="0" y="48"/>
                </a:moveTo>
                <a:lnTo>
                  <a:pt x="62" y="0"/>
                </a:lnTo>
                <a:lnTo>
                  <a:pt x="606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503360" y="4510080"/>
            <a:ext cx="5626080" cy="436680"/>
          </a:xfrm>
          <a:custGeom>
            <a:avLst/>
            <a:gdLst/>
            <a:ahLst/>
            <a:rect l="l" t="t" r="r" b="b"/>
            <a:pathLst>
              <a:path w="606" h="47">
                <a:moveTo>
                  <a:pt x="0" y="47"/>
                </a:moveTo>
                <a:lnTo>
                  <a:pt x="62" y="0"/>
                </a:lnTo>
                <a:lnTo>
                  <a:pt x="606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503360" y="4186080"/>
            <a:ext cx="5626080" cy="436680"/>
          </a:xfrm>
          <a:custGeom>
            <a:avLst/>
            <a:gdLst/>
            <a:ahLst/>
            <a:rect l="l" t="t" r="r" b="b"/>
            <a:pathLst>
              <a:path w="606" h="47">
                <a:moveTo>
                  <a:pt x="0" y="47"/>
                </a:moveTo>
                <a:lnTo>
                  <a:pt x="62" y="0"/>
                </a:lnTo>
                <a:lnTo>
                  <a:pt x="606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503360" y="3860640"/>
            <a:ext cx="5626080" cy="436680"/>
          </a:xfrm>
          <a:custGeom>
            <a:avLst/>
            <a:gdLst/>
            <a:ahLst/>
            <a:rect l="l" t="t" r="r" b="b"/>
            <a:pathLst>
              <a:path w="606" h="47">
                <a:moveTo>
                  <a:pt x="0" y="47"/>
                </a:moveTo>
                <a:lnTo>
                  <a:pt x="62" y="0"/>
                </a:lnTo>
                <a:lnTo>
                  <a:pt x="606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03360" y="3535200"/>
            <a:ext cx="5626080" cy="436680"/>
          </a:xfrm>
          <a:custGeom>
            <a:avLst/>
            <a:gdLst/>
            <a:ahLst/>
            <a:rect l="l" t="t" r="r" b="b"/>
            <a:pathLst>
              <a:path w="606" h="47">
                <a:moveTo>
                  <a:pt x="0" y="47"/>
                </a:moveTo>
                <a:lnTo>
                  <a:pt x="62" y="0"/>
                </a:lnTo>
                <a:lnTo>
                  <a:pt x="606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503360" y="3209760"/>
            <a:ext cx="5626080" cy="436680"/>
          </a:xfrm>
          <a:custGeom>
            <a:avLst/>
            <a:gdLst/>
            <a:ahLst/>
            <a:rect l="l" t="t" r="r" b="b"/>
            <a:pathLst>
              <a:path w="606" h="47">
                <a:moveTo>
                  <a:pt x="0" y="47"/>
                </a:moveTo>
                <a:lnTo>
                  <a:pt x="62" y="0"/>
                </a:lnTo>
                <a:lnTo>
                  <a:pt x="606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503360" y="2886120"/>
            <a:ext cx="5626080" cy="436680"/>
          </a:xfrm>
          <a:custGeom>
            <a:avLst/>
            <a:gdLst/>
            <a:ahLst/>
            <a:rect l="l" t="t" r="r" b="b"/>
            <a:pathLst>
              <a:path w="606" h="47">
                <a:moveTo>
                  <a:pt x="0" y="47"/>
                </a:moveTo>
                <a:lnTo>
                  <a:pt x="62" y="0"/>
                </a:lnTo>
                <a:lnTo>
                  <a:pt x="606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503360" y="2560680"/>
            <a:ext cx="5626080" cy="436680"/>
          </a:xfrm>
          <a:custGeom>
            <a:avLst/>
            <a:gdLst/>
            <a:ahLst/>
            <a:rect l="l" t="t" r="r" b="b"/>
            <a:pathLst>
              <a:path w="606" h="47">
                <a:moveTo>
                  <a:pt x="0" y="47"/>
                </a:moveTo>
                <a:lnTo>
                  <a:pt x="62" y="0"/>
                </a:lnTo>
                <a:lnTo>
                  <a:pt x="606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503360" y="2235240"/>
            <a:ext cx="5626080" cy="436680"/>
          </a:xfrm>
          <a:custGeom>
            <a:avLst/>
            <a:gdLst/>
            <a:ahLst/>
            <a:rect l="l" t="t" r="r" b="b"/>
            <a:pathLst>
              <a:path w="606" h="47">
                <a:moveTo>
                  <a:pt x="0" y="47"/>
                </a:moveTo>
                <a:lnTo>
                  <a:pt x="62" y="0"/>
                </a:lnTo>
                <a:lnTo>
                  <a:pt x="606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503360" y="1909800"/>
            <a:ext cx="5626080" cy="436680"/>
          </a:xfrm>
          <a:custGeom>
            <a:avLst/>
            <a:gdLst/>
            <a:ahLst/>
            <a:rect l="l" t="t" r="r" b="b"/>
            <a:pathLst>
              <a:path w="606" h="47">
                <a:moveTo>
                  <a:pt x="0" y="47"/>
                </a:moveTo>
                <a:lnTo>
                  <a:pt x="62" y="0"/>
                </a:lnTo>
                <a:lnTo>
                  <a:pt x="606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503360" y="4835520"/>
            <a:ext cx="5626080" cy="446040"/>
          </a:xfrm>
          <a:custGeom>
            <a:avLst/>
            <a:gdLst/>
            <a:ahLst/>
            <a:rect l="l" t="t" r="r" b="b"/>
            <a:pathLst>
              <a:path w="3544" h="281">
                <a:moveTo>
                  <a:pt x="3544" y="0"/>
                </a:moveTo>
                <a:lnTo>
                  <a:pt x="3182" y="281"/>
                </a:lnTo>
                <a:lnTo>
                  <a:pt x="0" y="281"/>
                </a:lnTo>
                <a:lnTo>
                  <a:pt x="363" y="0"/>
                </a:lnTo>
                <a:lnTo>
                  <a:pt x="3544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503360" y="1909800"/>
            <a:ext cx="576360" cy="3371760"/>
          </a:xfrm>
          <a:custGeom>
            <a:avLst/>
            <a:gdLst/>
            <a:ahLst/>
            <a:rect l="l" t="t" r="r" b="b"/>
            <a:pathLst>
              <a:path w="363" h="2124">
                <a:moveTo>
                  <a:pt x="0" y="2124"/>
                </a:moveTo>
                <a:lnTo>
                  <a:pt x="0" y="275"/>
                </a:lnTo>
                <a:lnTo>
                  <a:pt x="363" y="0"/>
                </a:lnTo>
                <a:lnTo>
                  <a:pt x="363" y="1843"/>
                </a:lnTo>
                <a:lnTo>
                  <a:pt x="0" y="2124"/>
                </a:lnTo>
                <a:close/>
              </a:path>
            </a:pathLst>
          </a:custGeom>
          <a:noFill/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079720" y="1909800"/>
            <a:ext cx="5049720" cy="292572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849400" y="4789440"/>
            <a:ext cx="231840" cy="352440"/>
          </a:xfrm>
          <a:custGeom>
            <a:avLst/>
            <a:gdLst/>
            <a:ahLst/>
            <a:rect l="l" t="t" r="r" b="b"/>
            <a:pathLst>
              <a:path w="146" h="222">
                <a:moveTo>
                  <a:pt x="0" y="222"/>
                </a:moveTo>
                <a:lnTo>
                  <a:pt x="0" y="111"/>
                </a:lnTo>
                <a:lnTo>
                  <a:pt x="146" y="0"/>
                </a:lnTo>
                <a:lnTo>
                  <a:pt x="146" y="117"/>
                </a:lnTo>
                <a:lnTo>
                  <a:pt x="0" y="222"/>
                </a:lnTo>
                <a:close/>
              </a:path>
            </a:pathLst>
          </a:custGeom>
          <a:solidFill>
            <a:srgbClr val="4d4d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181240" y="4965840"/>
            <a:ext cx="668160" cy="1760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2181240" y="4789440"/>
            <a:ext cx="900000" cy="176400"/>
          </a:xfrm>
          <a:custGeom>
            <a:avLst/>
            <a:gdLst/>
            <a:ahLst/>
            <a:rect l="l" t="t" r="r" b="b"/>
            <a:pathLst>
              <a:path w="567" h="111">
                <a:moveTo>
                  <a:pt x="421" y="111"/>
                </a:moveTo>
                <a:lnTo>
                  <a:pt x="567" y="0"/>
                </a:lnTo>
                <a:lnTo>
                  <a:pt x="141" y="0"/>
                </a:lnTo>
                <a:lnTo>
                  <a:pt x="0" y="111"/>
                </a:lnTo>
                <a:lnTo>
                  <a:pt x="421" y="111"/>
                </a:lnTo>
                <a:close/>
              </a:path>
            </a:pathLst>
          </a:custGeom>
          <a:solidFill>
            <a:srgbClr val="7373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849400" y="4724280"/>
            <a:ext cx="231840" cy="241560"/>
          </a:xfrm>
          <a:custGeom>
            <a:avLst/>
            <a:gdLst/>
            <a:ahLst/>
            <a:rect l="l" t="t" r="r" b="b"/>
            <a:pathLst>
              <a:path w="146" h="152">
                <a:moveTo>
                  <a:pt x="0" y="152"/>
                </a:moveTo>
                <a:lnTo>
                  <a:pt x="0" y="111"/>
                </a:lnTo>
                <a:lnTo>
                  <a:pt x="146" y="0"/>
                </a:lnTo>
                <a:lnTo>
                  <a:pt x="146" y="41"/>
                </a:lnTo>
                <a:lnTo>
                  <a:pt x="0" y="152"/>
                </a:lnTo>
                <a:close/>
              </a:path>
            </a:pathLst>
          </a:custGeom>
          <a:solidFill>
            <a:srgbClr val="4d1a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181240" y="4900680"/>
            <a:ext cx="668160" cy="6516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181240" y="4724280"/>
            <a:ext cx="900000" cy="176400"/>
          </a:xfrm>
          <a:custGeom>
            <a:avLst/>
            <a:gdLst/>
            <a:ahLst/>
            <a:rect l="l" t="t" r="r" b="b"/>
            <a:pathLst>
              <a:path w="567" h="111">
                <a:moveTo>
                  <a:pt x="421" y="111"/>
                </a:moveTo>
                <a:lnTo>
                  <a:pt x="567" y="0"/>
                </a:lnTo>
                <a:lnTo>
                  <a:pt x="141" y="0"/>
                </a:lnTo>
                <a:lnTo>
                  <a:pt x="0" y="111"/>
                </a:lnTo>
                <a:lnTo>
                  <a:pt x="421" y="111"/>
                </a:lnTo>
                <a:close/>
              </a:path>
            </a:pathLst>
          </a:custGeom>
          <a:solidFill>
            <a:srgbClr val="73264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849400" y="3656160"/>
            <a:ext cx="231840" cy="1244520"/>
          </a:xfrm>
          <a:custGeom>
            <a:avLst/>
            <a:gdLst/>
            <a:ahLst/>
            <a:rect l="l" t="t" r="r" b="b"/>
            <a:pathLst>
              <a:path w="146" h="784">
                <a:moveTo>
                  <a:pt x="0" y="784"/>
                </a:moveTo>
                <a:lnTo>
                  <a:pt x="0" y="105"/>
                </a:lnTo>
                <a:lnTo>
                  <a:pt x="146" y="0"/>
                </a:lnTo>
                <a:lnTo>
                  <a:pt x="146" y="673"/>
                </a:lnTo>
                <a:lnTo>
                  <a:pt x="0" y="784"/>
                </a:lnTo>
                <a:close/>
              </a:path>
            </a:pathLst>
          </a:custGeom>
          <a:solidFill>
            <a:srgbClr val="8080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2181240" y="3822840"/>
            <a:ext cx="668160" cy="10778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2181240" y="3656160"/>
            <a:ext cx="900000" cy="166680"/>
          </a:xfrm>
          <a:custGeom>
            <a:avLst/>
            <a:gdLst/>
            <a:ahLst/>
            <a:rect l="l" t="t" r="r" b="b"/>
            <a:pathLst>
              <a:path w="567" h="105">
                <a:moveTo>
                  <a:pt x="421" y="105"/>
                </a:moveTo>
                <a:lnTo>
                  <a:pt x="567" y="0"/>
                </a:lnTo>
                <a:lnTo>
                  <a:pt x="141" y="0"/>
                </a:lnTo>
                <a:lnTo>
                  <a:pt x="0" y="105"/>
                </a:lnTo>
                <a:lnTo>
                  <a:pt x="421" y="105"/>
                </a:lnTo>
                <a:close/>
              </a:path>
            </a:pathLst>
          </a:custGeom>
          <a:solidFill>
            <a:srgbClr val="bfb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849400" y="3508200"/>
            <a:ext cx="231840" cy="314640"/>
          </a:xfrm>
          <a:custGeom>
            <a:avLst/>
            <a:gdLst/>
            <a:ahLst/>
            <a:rect l="l" t="t" r="r" b="b"/>
            <a:pathLst>
              <a:path w="146" h="198">
                <a:moveTo>
                  <a:pt x="0" y="198"/>
                </a:moveTo>
                <a:lnTo>
                  <a:pt x="0" y="111"/>
                </a:lnTo>
                <a:lnTo>
                  <a:pt x="146" y="0"/>
                </a:lnTo>
                <a:lnTo>
                  <a:pt x="146" y="93"/>
                </a:lnTo>
                <a:lnTo>
                  <a:pt x="0" y="198"/>
                </a:lnTo>
                <a:close/>
              </a:path>
            </a:pathLst>
          </a:custGeom>
          <a:solidFill>
            <a:srgbClr val="66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181240" y="3684600"/>
            <a:ext cx="668160" cy="1382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2181240" y="3508200"/>
            <a:ext cx="900000" cy="176400"/>
          </a:xfrm>
          <a:custGeom>
            <a:avLst/>
            <a:gdLst/>
            <a:ahLst/>
            <a:rect l="l" t="t" r="r" b="b"/>
            <a:pathLst>
              <a:path w="567" h="111">
                <a:moveTo>
                  <a:pt x="421" y="111"/>
                </a:moveTo>
                <a:lnTo>
                  <a:pt x="567" y="0"/>
                </a:lnTo>
                <a:lnTo>
                  <a:pt x="141" y="0"/>
                </a:lnTo>
                <a:lnTo>
                  <a:pt x="0" y="111"/>
                </a:lnTo>
                <a:lnTo>
                  <a:pt x="421" y="111"/>
                </a:lnTo>
                <a:close/>
              </a:path>
            </a:pathLst>
          </a:custGeom>
          <a:solidFill>
            <a:srgbClr val="99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849400" y="2987640"/>
            <a:ext cx="231840" cy="696960"/>
          </a:xfrm>
          <a:custGeom>
            <a:avLst/>
            <a:gdLst/>
            <a:ahLst/>
            <a:rect l="l" t="t" r="r" b="b"/>
            <a:pathLst>
              <a:path w="146" h="439">
                <a:moveTo>
                  <a:pt x="0" y="439"/>
                </a:moveTo>
                <a:lnTo>
                  <a:pt x="0" y="111"/>
                </a:lnTo>
                <a:lnTo>
                  <a:pt x="146" y="0"/>
                </a:lnTo>
                <a:lnTo>
                  <a:pt x="146" y="328"/>
                </a:lnTo>
                <a:lnTo>
                  <a:pt x="0" y="439"/>
                </a:lnTo>
                <a:close/>
              </a:path>
            </a:pathLst>
          </a:custGeom>
          <a:solidFill>
            <a:srgbClr val="3300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81240" y="3164040"/>
            <a:ext cx="668160" cy="520560"/>
          </a:xfrm>
          <a:prstGeom prst="rect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181240" y="2987640"/>
            <a:ext cx="900000" cy="176400"/>
          </a:xfrm>
          <a:custGeom>
            <a:avLst/>
            <a:gdLst/>
            <a:ahLst/>
            <a:rect l="l" t="t" r="r" b="b"/>
            <a:pathLst>
              <a:path w="567" h="111">
                <a:moveTo>
                  <a:pt x="421" y="111"/>
                </a:moveTo>
                <a:lnTo>
                  <a:pt x="567" y="0"/>
                </a:lnTo>
                <a:lnTo>
                  <a:pt x="141" y="0"/>
                </a:lnTo>
                <a:lnTo>
                  <a:pt x="0" y="111"/>
                </a:lnTo>
                <a:lnTo>
                  <a:pt x="421" y="111"/>
                </a:lnTo>
                <a:close/>
              </a:path>
            </a:pathLst>
          </a:custGeom>
          <a:solidFill>
            <a:srgbClr val="4d004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540320" y="3990960"/>
            <a:ext cx="231840" cy="1150920"/>
          </a:xfrm>
          <a:custGeom>
            <a:avLst/>
            <a:gdLst/>
            <a:ahLst/>
            <a:rect l="l" t="t" r="r" b="b"/>
            <a:pathLst>
              <a:path w="146" h="725">
                <a:moveTo>
                  <a:pt x="0" y="725"/>
                </a:moveTo>
                <a:lnTo>
                  <a:pt x="0" y="111"/>
                </a:lnTo>
                <a:lnTo>
                  <a:pt x="146" y="0"/>
                </a:lnTo>
                <a:lnTo>
                  <a:pt x="146" y="620"/>
                </a:lnTo>
                <a:lnTo>
                  <a:pt x="0" y="725"/>
                </a:lnTo>
                <a:close/>
              </a:path>
            </a:pathLst>
          </a:custGeom>
          <a:solidFill>
            <a:srgbClr val="4d4d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862440" y="4167360"/>
            <a:ext cx="677880" cy="9745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862440" y="3990960"/>
            <a:ext cx="909720" cy="176400"/>
          </a:xfrm>
          <a:custGeom>
            <a:avLst/>
            <a:gdLst/>
            <a:ahLst/>
            <a:rect l="l" t="t" r="r" b="b"/>
            <a:pathLst>
              <a:path w="573" h="111">
                <a:moveTo>
                  <a:pt x="427" y="111"/>
                </a:moveTo>
                <a:lnTo>
                  <a:pt x="573" y="0"/>
                </a:lnTo>
                <a:lnTo>
                  <a:pt x="146" y="0"/>
                </a:lnTo>
                <a:lnTo>
                  <a:pt x="0" y="111"/>
                </a:lnTo>
                <a:lnTo>
                  <a:pt x="427" y="111"/>
                </a:lnTo>
                <a:close/>
              </a:path>
            </a:pathLst>
          </a:custGeom>
          <a:solidFill>
            <a:srgbClr val="7373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540320" y="3925800"/>
            <a:ext cx="231840" cy="241560"/>
          </a:xfrm>
          <a:custGeom>
            <a:avLst/>
            <a:gdLst/>
            <a:ahLst/>
            <a:rect l="l" t="t" r="r" b="b"/>
            <a:pathLst>
              <a:path w="146" h="152">
                <a:moveTo>
                  <a:pt x="0" y="152"/>
                </a:moveTo>
                <a:lnTo>
                  <a:pt x="0" y="111"/>
                </a:lnTo>
                <a:lnTo>
                  <a:pt x="146" y="0"/>
                </a:lnTo>
                <a:lnTo>
                  <a:pt x="146" y="41"/>
                </a:lnTo>
                <a:lnTo>
                  <a:pt x="0" y="152"/>
                </a:lnTo>
                <a:close/>
              </a:path>
            </a:pathLst>
          </a:custGeom>
          <a:solidFill>
            <a:srgbClr val="4d1a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862440" y="4102200"/>
            <a:ext cx="677880" cy="6516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862440" y="3925800"/>
            <a:ext cx="909720" cy="176400"/>
          </a:xfrm>
          <a:custGeom>
            <a:avLst/>
            <a:gdLst/>
            <a:ahLst/>
            <a:rect l="l" t="t" r="r" b="b"/>
            <a:pathLst>
              <a:path w="573" h="111">
                <a:moveTo>
                  <a:pt x="427" y="111"/>
                </a:moveTo>
                <a:lnTo>
                  <a:pt x="573" y="0"/>
                </a:lnTo>
                <a:lnTo>
                  <a:pt x="146" y="0"/>
                </a:lnTo>
                <a:lnTo>
                  <a:pt x="0" y="111"/>
                </a:lnTo>
                <a:lnTo>
                  <a:pt x="427" y="111"/>
                </a:lnTo>
                <a:close/>
              </a:path>
            </a:pathLst>
          </a:custGeom>
          <a:solidFill>
            <a:srgbClr val="73264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540320" y="2857680"/>
            <a:ext cx="231840" cy="1244520"/>
          </a:xfrm>
          <a:custGeom>
            <a:avLst/>
            <a:gdLst/>
            <a:ahLst/>
            <a:rect l="l" t="t" r="r" b="b"/>
            <a:pathLst>
              <a:path w="146" h="784">
                <a:moveTo>
                  <a:pt x="0" y="784"/>
                </a:moveTo>
                <a:lnTo>
                  <a:pt x="0" y="111"/>
                </a:lnTo>
                <a:lnTo>
                  <a:pt x="146" y="0"/>
                </a:lnTo>
                <a:lnTo>
                  <a:pt x="146" y="673"/>
                </a:lnTo>
                <a:lnTo>
                  <a:pt x="0" y="784"/>
                </a:lnTo>
                <a:close/>
              </a:path>
            </a:pathLst>
          </a:custGeom>
          <a:solidFill>
            <a:srgbClr val="8080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862440" y="3033720"/>
            <a:ext cx="677880" cy="10684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862440" y="2857680"/>
            <a:ext cx="909720" cy="176040"/>
          </a:xfrm>
          <a:custGeom>
            <a:avLst/>
            <a:gdLst/>
            <a:ahLst/>
            <a:rect l="l" t="t" r="r" b="b"/>
            <a:pathLst>
              <a:path w="573" h="111">
                <a:moveTo>
                  <a:pt x="427" y="111"/>
                </a:moveTo>
                <a:lnTo>
                  <a:pt x="573" y="0"/>
                </a:lnTo>
                <a:lnTo>
                  <a:pt x="146" y="0"/>
                </a:lnTo>
                <a:lnTo>
                  <a:pt x="0" y="111"/>
                </a:lnTo>
                <a:lnTo>
                  <a:pt x="427" y="111"/>
                </a:lnTo>
                <a:close/>
              </a:path>
            </a:pathLst>
          </a:custGeom>
          <a:solidFill>
            <a:srgbClr val="bfb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540320" y="2709720"/>
            <a:ext cx="231840" cy="324000"/>
          </a:xfrm>
          <a:custGeom>
            <a:avLst/>
            <a:gdLst/>
            <a:ahLst/>
            <a:rect l="l" t="t" r="r" b="b"/>
            <a:pathLst>
              <a:path w="146" h="204">
                <a:moveTo>
                  <a:pt x="0" y="204"/>
                </a:moveTo>
                <a:lnTo>
                  <a:pt x="0" y="111"/>
                </a:lnTo>
                <a:lnTo>
                  <a:pt x="146" y="0"/>
                </a:lnTo>
                <a:lnTo>
                  <a:pt x="146" y="93"/>
                </a:lnTo>
                <a:lnTo>
                  <a:pt x="0" y="204"/>
                </a:lnTo>
                <a:close/>
              </a:path>
            </a:pathLst>
          </a:custGeom>
          <a:solidFill>
            <a:srgbClr val="66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862440" y="2886120"/>
            <a:ext cx="677880" cy="1476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3862440" y="2709720"/>
            <a:ext cx="909720" cy="176400"/>
          </a:xfrm>
          <a:custGeom>
            <a:avLst/>
            <a:gdLst/>
            <a:ahLst/>
            <a:rect l="l" t="t" r="r" b="b"/>
            <a:pathLst>
              <a:path w="573" h="111">
                <a:moveTo>
                  <a:pt x="427" y="111"/>
                </a:moveTo>
                <a:lnTo>
                  <a:pt x="573" y="0"/>
                </a:lnTo>
                <a:lnTo>
                  <a:pt x="146" y="0"/>
                </a:lnTo>
                <a:lnTo>
                  <a:pt x="0" y="111"/>
                </a:lnTo>
                <a:lnTo>
                  <a:pt x="427" y="111"/>
                </a:lnTo>
                <a:close/>
              </a:path>
            </a:pathLst>
          </a:custGeom>
          <a:solidFill>
            <a:srgbClr val="99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4540320" y="2189160"/>
            <a:ext cx="231840" cy="696960"/>
          </a:xfrm>
          <a:custGeom>
            <a:avLst/>
            <a:gdLst/>
            <a:ahLst/>
            <a:rect l="l" t="t" r="r" b="b"/>
            <a:pathLst>
              <a:path w="146" h="439">
                <a:moveTo>
                  <a:pt x="0" y="439"/>
                </a:moveTo>
                <a:lnTo>
                  <a:pt x="0" y="111"/>
                </a:lnTo>
                <a:lnTo>
                  <a:pt x="146" y="0"/>
                </a:lnTo>
                <a:lnTo>
                  <a:pt x="146" y="328"/>
                </a:lnTo>
                <a:lnTo>
                  <a:pt x="0" y="439"/>
                </a:lnTo>
                <a:close/>
              </a:path>
            </a:pathLst>
          </a:custGeom>
          <a:solidFill>
            <a:srgbClr val="3300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862440" y="2365200"/>
            <a:ext cx="677880" cy="520920"/>
          </a:xfrm>
          <a:prstGeom prst="rect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862440" y="2189160"/>
            <a:ext cx="909720" cy="176040"/>
          </a:xfrm>
          <a:custGeom>
            <a:avLst/>
            <a:gdLst/>
            <a:ahLst/>
            <a:rect l="l" t="t" r="r" b="b"/>
            <a:pathLst>
              <a:path w="573" h="111">
                <a:moveTo>
                  <a:pt x="427" y="111"/>
                </a:moveTo>
                <a:lnTo>
                  <a:pt x="573" y="0"/>
                </a:lnTo>
                <a:lnTo>
                  <a:pt x="146" y="0"/>
                </a:lnTo>
                <a:lnTo>
                  <a:pt x="0" y="111"/>
                </a:lnTo>
                <a:lnTo>
                  <a:pt x="427" y="111"/>
                </a:lnTo>
                <a:close/>
              </a:path>
            </a:pathLst>
          </a:custGeom>
          <a:solidFill>
            <a:srgbClr val="4d004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229440" y="4695840"/>
            <a:ext cx="222120" cy="446040"/>
          </a:xfrm>
          <a:custGeom>
            <a:avLst/>
            <a:gdLst/>
            <a:ahLst/>
            <a:rect l="l" t="t" r="r" b="b"/>
            <a:pathLst>
              <a:path w="140" h="281">
                <a:moveTo>
                  <a:pt x="0" y="281"/>
                </a:moveTo>
                <a:lnTo>
                  <a:pt x="0" y="111"/>
                </a:lnTo>
                <a:lnTo>
                  <a:pt x="140" y="0"/>
                </a:lnTo>
                <a:lnTo>
                  <a:pt x="140" y="176"/>
                </a:lnTo>
                <a:lnTo>
                  <a:pt x="0" y="281"/>
                </a:lnTo>
                <a:close/>
              </a:path>
            </a:pathLst>
          </a:custGeom>
          <a:solidFill>
            <a:srgbClr val="4d4d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551560" y="4871880"/>
            <a:ext cx="677880" cy="270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551560" y="4695840"/>
            <a:ext cx="900000" cy="176040"/>
          </a:xfrm>
          <a:custGeom>
            <a:avLst/>
            <a:gdLst/>
            <a:ahLst/>
            <a:rect l="l" t="t" r="r" b="b"/>
            <a:pathLst>
              <a:path w="567" h="111">
                <a:moveTo>
                  <a:pt x="427" y="111"/>
                </a:moveTo>
                <a:lnTo>
                  <a:pt x="567" y="0"/>
                </a:lnTo>
                <a:lnTo>
                  <a:pt x="146" y="0"/>
                </a:lnTo>
                <a:lnTo>
                  <a:pt x="0" y="111"/>
                </a:lnTo>
                <a:lnTo>
                  <a:pt x="427" y="111"/>
                </a:lnTo>
                <a:close/>
              </a:path>
            </a:pathLst>
          </a:custGeom>
          <a:solidFill>
            <a:srgbClr val="7373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229440" y="4640400"/>
            <a:ext cx="222120" cy="231480"/>
          </a:xfrm>
          <a:custGeom>
            <a:avLst/>
            <a:gdLst/>
            <a:ahLst/>
            <a:rect l="l" t="t" r="r" b="b"/>
            <a:pathLst>
              <a:path w="140" h="146">
                <a:moveTo>
                  <a:pt x="0" y="146"/>
                </a:moveTo>
                <a:lnTo>
                  <a:pt x="0" y="111"/>
                </a:lnTo>
                <a:lnTo>
                  <a:pt x="140" y="0"/>
                </a:lnTo>
                <a:lnTo>
                  <a:pt x="140" y="35"/>
                </a:lnTo>
                <a:lnTo>
                  <a:pt x="0" y="146"/>
                </a:lnTo>
                <a:close/>
              </a:path>
            </a:pathLst>
          </a:custGeom>
          <a:solidFill>
            <a:srgbClr val="4d1a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551560" y="4816440"/>
            <a:ext cx="677880" cy="5544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551560" y="4640400"/>
            <a:ext cx="900000" cy="176040"/>
          </a:xfrm>
          <a:custGeom>
            <a:avLst/>
            <a:gdLst/>
            <a:ahLst/>
            <a:rect l="l" t="t" r="r" b="b"/>
            <a:pathLst>
              <a:path w="567" h="111">
                <a:moveTo>
                  <a:pt x="427" y="111"/>
                </a:moveTo>
                <a:lnTo>
                  <a:pt x="567" y="0"/>
                </a:lnTo>
                <a:lnTo>
                  <a:pt x="146" y="0"/>
                </a:lnTo>
                <a:lnTo>
                  <a:pt x="0" y="111"/>
                </a:lnTo>
                <a:lnTo>
                  <a:pt x="427" y="111"/>
                </a:lnTo>
                <a:close/>
              </a:path>
            </a:pathLst>
          </a:custGeom>
          <a:solidFill>
            <a:srgbClr val="73264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6229440" y="3573360"/>
            <a:ext cx="222120" cy="1243080"/>
          </a:xfrm>
          <a:custGeom>
            <a:avLst/>
            <a:gdLst/>
            <a:ahLst/>
            <a:rect l="l" t="t" r="r" b="b"/>
            <a:pathLst>
              <a:path w="140" h="783">
                <a:moveTo>
                  <a:pt x="0" y="783"/>
                </a:moveTo>
                <a:lnTo>
                  <a:pt x="0" y="111"/>
                </a:lnTo>
                <a:lnTo>
                  <a:pt x="140" y="0"/>
                </a:lnTo>
                <a:lnTo>
                  <a:pt x="140" y="672"/>
                </a:lnTo>
                <a:lnTo>
                  <a:pt x="0" y="783"/>
                </a:lnTo>
                <a:close/>
              </a:path>
            </a:pathLst>
          </a:custGeom>
          <a:solidFill>
            <a:srgbClr val="8080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551560" y="3749760"/>
            <a:ext cx="677880" cy="10666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5551560" y="3573360"/>
            <a:ext cx="900000" cy="176400"/>
          </a:xfrm>
          <a:custGeom>
            <a:avLst/>
            <a:gdLst/>
            <a:ahLst/>
            <a:rect l="l" t="t" r="r" b="b"/>
            <a:pathLst>
              <a:path w="567" h="111">
                <a:moveTo>
                  <a:pt x="427" y="111"/>
                </a:moveTo>
                <a:lnTo>
                  <a:pt x="567" y="0"/>
                </a:lnTo>
                <a:lnTo>
                  <a:pt x="146" y="0"/>
                </a:lnTo>
                <a:lnTo>
                  <a:pt x="0" y="111"/>
                </a:lnTo>
                <a:lnTo>
                  <a:pt x="427" y="111"/>
                </a:lnTo>
                <a:close/>
              </a:path>
            </a:pathLst>
          </a:custGeom>
          <a:solidFill>
            <a:srgbClr val="bfb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229440" y="3424320"/>
            <a:ext cx="222120" cy="325440"/>
          </a:xfrm>
          <a:custGeom>
            <a:avLst/>
            <a:gdLst/>
            <a:ahLst/>
            <a:rect l="l" t="t" r="r" b="b"/>
            <a:pathLst>
              <a:path w="140" h="205">
                <a:moveTo>
                  <a:pt x="0" y="205"/>
                </a:moveTo>
                <a:lnTo>
                  <a:pt x="0" y="111"/>
                </a:lnTo>
                <a:lnTo>
                  <a:pt x="140" y="0"/>
                </a:lnTo>
                <a:lnTo>
                  <a:pt x="140" y="94"/>
                </a:lnTo>
                <a:lnTo>
                  <a:pt x="0" y="205"/>
                </a:lnTo>
                <a:close/>
              </a:path>
            </a:pathLst>
          </a:custGeom>
          <a:solidFill>
            <a:srgbClr val="66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551560" y="3600360"/>
            <a:ext cx="677880" cy="1494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51560" y="3424320"/>
            <a:ext cx="900000" cy="176040"/>
          </a:xfrm>
          <a:custGeom>
            <a:avLst/>
            <a:gdLst/>
            <a:ahLst/>
            <a:rect l="l" t="t" r="r" b="b"/>
            <a:pathLst>
              <a:path w="567" h="111">
                <a:moveTo>
                  <a:pt x="427" y="111"/>
                </a:moveTo>
                <a:lnTo>
                  <a:pt x="567" y="0"/>
                </a:lnTo>
                <a:lnTo>
                  <a:pt x="146" y="0"/>
                </a:lnTo>
                <a:lnTo>
                  <a:pt x="0" y="111"/>
                </a:lnTo>
                <a:lnTo>
                  <a:pt x="427" y="111"/>
                </a:lnTo>
                <a:close/>
              </a:path>
            </a:pathLst>
          </a:custGeom>
          <a:solidFill>
            <a:srgbClr val="99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229440" y="2903400"/>
            <a:ext cx="222120" cy="696960"/>
          </a:xfrm>
          <a:custGeom>
            <a:avLst/>
            <a:gdLst/>
            <a:ahLst/>
            <a:rect l="l" t="t" r="r" b="b"/>
            <a:pathLst>
              <a:path w="140" h="439">
                <a:moveTo>
                  <a:pt x="0" y="439"/>
                </a:moveTo>
                <a:lnTo>
                  <a:pt x="0" y="111"/>
                </a:lnTo>
                <a:lnTo>
                  <a:pt x="140" y="0"/>
                </a:lnTo>
                <a:lnTo>
                  <a:pt x="140" y="328"/>
                </a:lnTo>
                <a:lnTo>
                  <a:pt x="0" y="439"/>
                </a:lnTo>
                <a:close/>
              </a:path>
            </a:pathLst>
          </a:custGeom>
          <a:solidFill>
            <a:srgbClr val="3300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551560" y="3079800"/>
            <a:ext cx="677880" cy="520560"/>
          </a:xfrm>
          <a:prstGeom prst="rect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551560" y="2903400"/>
            <a:ext cx="900000" cy="176400"/>
          </a:xfrm>
          <a:custGeom>
            <a:avLst/>
            <a:gdLst/>
            <a:ahLst/>
            <a:rect l="l" t="t" r="r" b="b"/>
            <a:pathLst>
              <a:path w="567" h="111">
                <a:moveTo>
                  <a:pt x="427" y="111"/>
                </a:moveTo>
                <a:lnTo>
                  <a:pt x="567" y="0"/>
                </a:lnTo>
                <a:lnTo>
                  <a:pt x="146" y="0"/>
                </a:lnTo>
                <a:lnTo>
                  <a:pt x="0" y="111"/>
                </a:lnTo>
                <a:lnTo>
                  <a:pt x="427" y="111"/>
                </a:lnTo>
                <a:close/>
              </a:path>
            </a:pathLst>
          </a:custGeom>
          <a:solidFill>
            <a:srgbClr val="4d004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V="1">
            <a:off x="1503360" y="2346120"/>
            <a:ext cx="1440" cy="2935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1447920" y="5281560"/>
            <a:ext cx="55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 flipH="1">
            <a:off x="1447920" y="4946760"/>
            <a:ext cx="55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flipH="1">
            <a:off x="1447920" y="4622760"/>
            <a:ext cx="55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 flipH="1">
            <a:off x="1447920" y="4297320"/>
            <a:ext cx="55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flipH="1">
            <a:off x="1447920" y="3971880"/>
            <a:ext cx="55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447920" y="3646440"/>
            <a:ext cx="55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1447920" y="3322800"/>
            <a:ext cx="55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 flipH="1">
            <a:off x="1447920" y="2997360"/>
            <a:ext cx="55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 flipH="1">
            <a:off x="1447920" y="2671920"/>
            <a:ext cx="55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 flipH="1">
            <a:off x="1447920" y="2346480"/>
            <a:ext cx="55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067760" y="5170320"/>
            <a:ext cx="723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261800" y="483552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261800" y="451008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261800" y="418608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261800" y="386064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141920" y="3535200"/>
            <a:ext cx="2415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141920" y="3209760"/>
            <a:ext cx="2415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141920" y="2886120"/>
            <a:ext cx="2415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141920" y="2560680"/>
            <a:ext cx="2415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141920" y="2235240"/>
            <a:ext cx="2415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 rot="16200000">
            <a:off x="391320" y="3635280"/>
            <a:ext cx="6256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€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cent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503360" y="5281560"/>
            <a:ext cx="50515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503360" y="5281560"/>
            <a:ext cx="1440" cy="55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184560" y="5281560"/>
            <a:ext cx="1440" cy="55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873680" y="5281560"/>
            <a:ext cx="1440" cy="55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554880" y="5281560"/>
            <a:ext cx="1440" cy="55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1977840" y="5402160"/>
            <a:ext cx="7596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benzina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799800" y="5402160"/>
            <a:ext cx="5677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diesel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548320" y="5402160"/>
            <a:ext cx="4334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GPL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2844360" y="5754600"/>
            <a:ext cx="2365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utovetture (parc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7602480" y="3294000"/>
            <a:ext cx="1449360" cy="148608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7667640" y="3395520"/>
            <a:ext cx="130320" cy="130320"/>
          </a:xfrm>
          <a:prstGeom prst="rect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7861680" y="3340080"/>
            <a:ext cx="7963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incidenti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7667640" y="3693960"/>
            <a:ext cx="130320" cy="128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7862400" y="3637080"/>
            <a:ext cx="6850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rumor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3990960"/>
            <a:ext cx="130320" cy="1303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862760" y="3935520"/>
            <a:ext cx="11682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congestion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4287960"/>
            <a:ext cx="130320" cy="12996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7862760" y="4232160"/>
            <a:ext cx="9014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gas serra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7667640" y="4584600"/>
            <a:ext cx="130320" cy="1303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7863120" y="4529160"/>
            <a:ext cx="768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inq.atm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ichiardi, I costi esterni della mobilità metropolitana a Torin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796851-3DED-459B-A5C3-3BD85035074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6600"/>
                </a:solidFill>
                <a:latin typeface="Times New Roman"/>
              </a:rPr>
              <a:t>Costi medi (paxKm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10" name=""/>
          <p:cNvGraphicFramePr/>
          <p:nvPr/>
        </p:nvGraphicFramePr>
        <p:xfrm>
          <a:off x="0" y="1676520"/>
          <a:ext cx="9144000" cy="4568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676520"/>
                    <a:ext cx="9144000" cy="456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ichiardi, I costi esterni della mobilità metropolitana a Torin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5F135C-9016-4951-BE9C-DD0B3BBE42C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" descr=""/>
          <p:cNvPicPr/>
          <p:nvPr/>
        </p:nvPicPr>
        <p:blipFill>
          <a:blip r:embed="rId1"/>
          <a:stretch/>
        </p:blipFill>
        <p:spPr>
          <a:xfrm>
            <a:off x="3962520" y="1852560"/>
            <a:ext cx="4800600" cy="4319640"/>
          </a:xfrm>
          <a:prstGeom prst="rect">
            <a:avLst/>
          </a:prstGeom>
          <a:ln w="0">
            <a:noFill/>
          </a:ln>
        </p:spPr>
      </p:pic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6600"/>
                </a:solidFill>
                <a:latin typeface="Times New Roman"/>
              </a:rPr>
              <a:t>Costi medi (paxKm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228600" y="2514600"/>
            <a:ext cx="4343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Climatizzazione (perdite):</a:t>
            </a:r>
            <a:br>
              <a:rPr sz="3200"/>
            </a:b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+ 0.14 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€ cent/paxK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ichiardi, I costi esterni della mobilità metropolitana a Torin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A5D657-9EB3-49C5-B9C5-07541467F09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07840" y="609120"/>
            <a:ext cx="5715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6600"/>
                </a:solidFill>
                <a:latin typeface="Times New Roman"/>
              </a:rPr>
              <a:t>Costi estern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996920" y="2107800"/>
            <a:ext cx="515016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6600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quinamento atmosferi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6600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issione di gas serr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6600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quinamento acusti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6600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gesti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6600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iden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ichiardi, I costi esterni della mobilità metropolitana a Torin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D92F66-7C96-4934-838E-6B56D99404A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15520" y="609120"/>
            <a:ext cx="6324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6600"/>
                </a:solidFill>
                <a:latin typeface="Times New Roman"/>
              </a:rPr>
              <a:t>Inquinamento atmosferic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447920" y="2107800"/>
            <a:ext cx="6248160" cy="36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10000"/>
              </a:lnSpc>
              <a:spcBef>
                <a:spcPts val="799"/>
              </a:spcBef>
              <a:buClr>
                <a:srgbClr val="006600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’anidride solforosa (SO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0000"/>
              </a:lnSpc>
              <a:spcBef>
                <a:spcPts val="799"/>
              </a:spcBef>
              <a:buClr>
                <a:srgbClr val="006600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ssidi di azoto (NO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0000"/>
              </a:lnSpc>
              <a:spcBef>
                <a:spcPts val="799"/>
              </a:spcBef>
              <a:buClr>
                <a:srgbClr val="006600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lveri sottili (PM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.5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 PM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0000"/>
              </a:lnSpc>
              <a:spcBef>
                <a:spcPts val="799"/>
              </a:spcBef>
              <a:buClr>
                <a:srgbClr val="006600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nossido di carbonio (CO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0000"/>
              </a:lnSpc>
              <a:spcBef>
                <a:spcPts val="799"/>
              </a:spcBef>
              <a:buClr>
                <a:srgbClr val="006600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sti organici volatili (COV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ichiardi, I costi esterni della mobilità metropolitana a Torin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45DACA-82FB-498A-8D6D-81C1154B05B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295280" y="0"/>
            <a:ext cx="669636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07840" y="76320"/>
            <a:ext cx="5715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6600"/>
                </a:solidFill>
                <a:latin typeface="Times New Roman"/>
              </a:rPr>
              <a:t>Area metropolitan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6019920"/>
            <a:ext cx="914400" cy="53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ichiardi, I costi esterni della mobilità metropolitana a Torin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DA2DB4-2ED2-4825-91D0-3E63295F588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6600"/>
                </a:solidFill>
                <a:latin typeface="Times New Roman"/>
              </a:rPr>
              <a:t>Metodolog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600200" y="2133360"/>
            <a:ext cx="68580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Stima del parco circola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Stima dei consum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Stima delle emissioni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Calcolo dei danni fisici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Valutazione monetar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ichiardi, I costi esterni della mobilità metropolitana a Torin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FC8CB3-B7ED-478B-9815-4B4B2304DFD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6600"/>
                </a:solidFill>
                <a:latin typeface="Times New Roman"/>
              </a:rPr>
              <a:t>Dati necessar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36680" y="1752480"/>
            <a:ext cx="93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36680" y="1752480"/>
            <a:ext cx="93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36680" y="1762200"/>
            <a:ext cx="9360" cy="558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36680" y="2320920"/>
            <a:ext cx="936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36680" y="2330280"/>
            <a:ext cx="9360" cy="55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36680" y="2889360"/>
            <a:ext cx="936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46040" y="2889360"/>
            <a:ext cx="164160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087640" y="2889360"/>
            <a:ext cx="936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097000" y="2889360"/>
            <a:ext cx="136836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465360" y="2889360"/>
            <a:ext cx="972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75080" y="2889360"/>
            <a:ext cx="189720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372280" y="2889360"/>
            <a:ext cx="936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381640" y="2889360"/>
            <a:ext cx="344340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8825040" y="2889360"/>
            <a:ext cx="1116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36680" y="2900520"/>
            <a:ext cx="9360" cy="560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36680" y="3460680"/>
            <a:ext cx="93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36680" y="3470400"/>
            <a:ext cx="9360" cy="549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36680" y="4019400"/>
            <a:ext cx="93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6040" y="4019400"/>
            <a:ext cx="164160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087640" y="4019400"/>
            <a:ext cx="93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097000" y="4019400"/>
            <a:ext cx="327528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372280" y="4019400"/>
            <a:ext cx="93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381640" y="4019400"/>
            <a:ext cx="344340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8825040" y="4019400"/>
            <a:ext cx="111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36680" y="4029120"/>
            <a:ext cx="9360" cy="558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6680" y="4587840"/>
            <a:ext cx="936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36680" y="4599000"/>
            <a:ext cx="9360" cy="558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36680" y="5157720"/>
            <a:ext cx="93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36680" y="5167440"/>
            <a:ext cx="9360" cy="838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36680" y="6005520"/>
            <a:ext cx="936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36680" y="6005520"/>
            <a:ext cx="936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446040" y="1752480"/>
            <a:ext cx="8390160" cy="4263480"/>
            <a:chOff x="446040" y="1752480"/>
            <a:chExt cx="8390160" cy="4263480"/>
          </a:xfrm>
        </p:grpSpPr>
        <p:sp>
          <p:nvSpPr>
            <p:cNvPr id="89" name=""/>
            <p:cNvSpPr/>
            <p:nvPr/>
          </p:nvSpPr>
          <p:spPr>
            <a:xfrm>
              <a:off x="692280" y="1900080"/>
              <a:ext cx="11376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900" spc="-1" strike="noStrike">
                  <a:solidFill>
                    <a:srgbClr val="000000"/>
                  </a:solidFill>
                  <a:latin typeface="Times New Roman"/>
                </a:rPr>
                <a:t>Esternalità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893960" y="1900080"/>
              <a:ext cx="6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368080" y="1762200"/>
              <a:ext cx="27745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900" spc="-1" strike="noStrike">
                  <a:solidFill>
                    <a:srgbClr val="000000"/>
                  </a:solidFill>
                  <a:latin typeface="Times New Roman"/>
                </a:rPr>
                <a:t>Veicoli adibiti al trasporto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639880" y="2041560"/>
              <a:ext cx="21816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900" spc="-1" strike="noStrike">
                  <a:solidFill>
                    <a:srgbClr val="000000"/>
                  </a:solidFill>
                  <a:latin typeface="Times New Roman"/>
                </a:rPr>
                <a:t>passeggeri su gomma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888080" y="2041560"/>
              <a:ext cx="6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737320" y="1762200"/>
              <a:ext cx="27133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900" spc="-1" strike="noStrike">
                  <a:solidFill>
                    <a:srgbClr val="000000"/>
                  </a:solidFill>
                  <a:latin typeface="Times New Roman"/>
                </a:rPr>
                <a:t>Veicoli adibiti al trasporto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526600" y="1762200"/>
              <a:ext cx="6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219720" y="2041560"/>
              <a:ext cx="17622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1900" spc="-1" strike="noStrike">
                  <a:solidFill>
                    <a:srgbClr val="000000"/>
                  </a:solidFill>
                  <a:latin typeface="Times New Roman"/>
                </a:rPr>
                <a:t>merci su gomma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040960" y="2041560"/>
              <a:ext cx="6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46040" y="1752480"/>
              <a:ext cx="164160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087640" y="1752480"/>
              <a:ext cx="936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097000" y="1752480"/>
              <a:ext cx="327528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372280" y="1752480"/>
              <a:ext cx="936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381640" y="1752480"/>
              <a:ext cx="344340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825040" y="1752480"/>
              <a:ext cx="1116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25040" y="1752480"/>
              <a:ext cx="1116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087640" y="1762200"/>
              <a:ext cx="9360" cy="558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372280" y="1762200"/>
              <a:ext cx="9360" cy="558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825040" y="1762200"/>
              <a:ext cx="11160" cy="558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68440" y="2610000"/>
              <a:ext cx="6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257920" y="2330280"/>
              <a:ext cx="11041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900" spc="-1" strike="noStrike">
                  <a:solidFill>
                    <a:srgbClr val="000000"/>
                  </a:solidFill>
                  <a:latin typeface="Times New Roman"/>
                </a:rPr>
                <a:t>Trasporto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405160" y="2610000"/>
              <a:ext cx="7506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900" spc="-1" strike="noStrike">
                  <a:solidFill>
                    <a:srgbClr val="000000"/>
                  </a:solidFill>
                  <a:latin typeface="Times New Roman"/>
                </a:rPr>
                <a:t>privato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16240" y="2610000"/>
              <a:ext cx="6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897720" y="2330280"/>
              <a:ext cx="11041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900" spc="-1" strike="noStrike">
                  <a:solidFill>
                    <a:srgbClr val="000000"/>
                  </a:solidFill>
                  <a:latin typeface="Times New Roman"/>
                </a:rPr>
                <a:t>Trasporto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971160" y="2610000"/>
              <a:ext cx="8982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900" spc="-1" strike="noStrike">
                  <a:solidFill>
                    <a:srgbClr val="000000"/>
                  </a:solidFill>
                  <a:latin typeface="Times New Roman"/>
                </a:rPr>
                <a:t>pubblico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934160" y="2610000"/>
              <a:ext cx="6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251400" y="2470320"/>
              <a:ext cx="16923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900" spc="-1" strike="noStrike">
                  <a:solidFill>
                    <a:srgbClr val="000000"/>
                  </a:solidFill>
                  <a:latin typeface="Times New Roman"/>
                </a:rPr>
                <a:t>Trasporto merci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8008920" y="2470320"/>
              <a:ext cx="6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46040" y="2320920"/>
              <a:ext cx="164160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087640" y="2320920"/>
              <a:ext cx="936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097000" y="2320920"/>
              <a:ext cx="136836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465360" y="2320920"/>
              <a:ext cx="972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475080" y="2320920"/>
              <a:ext cx="189720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372280" y="2320920"/>
              <a:ext cx="936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381640" y="2320920"/>
              <a:ext cx="344340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8825040" y="2320920"/>
              <a:ext cx="1116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087640" y="2330280"/>
              <a:ext cx="9360" cy="55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465360" y="2330280"/>
              <a:ext cx="9720" cy="55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372280" y="2330280"/>
              <a:ext cx="9360" cy="55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8825040" y="2330280"/>
              <a:ext cx="11160" cy="55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2280" y="2900520"/>
              <a:ext cx="1399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Inquinamento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2280" y="3179880"/>
              <a:ext cx="11376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atmosferico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708920" y="3179880"/>
              <a:ext cx="6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087640" y="2900520"/>
              <a:ext cx="9360" cy="56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372280" y="2900520"/>
              <a:ext cx="9360" cy="56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8825040" y="2900520"/>
              <a:ext cx="11160" cy="56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12640" y="3605040"/>
              <a:ext cx="9028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Gas serra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470960" y="3605040"/>
              <a:ext cx="6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453400" y="2900520"/>
              <a:ext cx="5554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per ci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997000" y="2900520"/>
              <a:ext cx="20624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ascun tipo di veicolo</a:t>
              </a: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141720" y="3179880"/>
              <a:ext cx="12031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considerato</a:t>
              </a: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79400" y="3179880"/>
              <a:ext cx="6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547000" y="3459240"/>
              <a:ext cx="23583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3333cc"/>
                  </a:solidFill>
                  <a:latin typeface="Times New Roman"/>
                </a:rPr>
                <a:t>Numero di veicoli * Km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974480" y="3459240"/>
              <a:ext cx="6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773800" y="3738600"/>
              <a:ext cx="19058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3333cc"/>
                  </a:solidFill>
                  <a:latin typeface="Times New Roman"/>
                </a:rPr>
                <a:t>Occupazione media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745880" y="3738600"/>
              <a:ext cx="6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819400" y="2900520"/>
              <a:ext cx="26172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per ciascun tipo di veicolo</a:t>
              </a: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510240" y="3179880"/>
              <a:ext cx="12031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considerato</a:t>
              </a: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747920" y="3179880"/>
              <a:ext cx="6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915520" y="3459240"/>
              <a:ext cx="23583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3333cc"/>
                  </a:solidFill>
                  <a:latin typeface="Times New Roman"/>
                </a:rPr>
                <a:t>Numero di veicoli * Km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343360" y="3459240"/>
              <a:ext cx="6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445800" y="3738600"/>
              <a:ext cx="13053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3333cc"/>
                  </a:solidFill>
                  <a:latin typeface="Times New Roman"/>
                </a:rPr>
                <a:t>Carico medio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813080" y="3738600"/>
              <a:ext cx="6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46040" y="3460680"/>
              <a:ext cx="164160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087640" y="3460680"/>
              <a:ext cx="936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372280" y="3460680"/>
              <a:ext cx="936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825040" y="3460680"/>
              <a:ext cx="1116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87640" y="3470400"/>
              <a:ext cx="9360" cy="549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372280" y="3470400"/>
              <a:ext cx="9360" cy="549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825040" y="3470400"/>
              <a:ext cx="11160" cy="549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12640" y="4168800"/>
              <a:ext cx="7765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Rumore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47120" y="4168800"/>
              <a:ext cx="6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101400" y="4029120"/>
              <a:ext cx="46810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3333cc"/>
                  </a:solidFill>
                  <a:latin typeface="Times New Roman"/>
                </a:rPr>
                <a:t>Percentuale di esposti ai diversi livelli di rumore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871760" y="4029120"/>
              <a:ext cx="6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898360" y="4307040"/>
              <a:ext cx="28461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3333cc"/>
                  </a:solidFill>
                  <a:latin typeface="Times New Roman"/>
                </a:rPr>
                <a:t>Ripartizione del contributo di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768280" y="4307040"/>
              <a:ext cx="22363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1900" spc="-1" strike="noStrike">
                  <a:solidFill>
                    <a:srgbClr val="3333cc"/>
                  </a:solidFill>
                  <a:latin typeface="Times New Roman"/>
                </a:rPr>
                <a:t>ciascun tipo di veicolo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074800" y="4307040"/>
              <a:ext cx="6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087640" y="4029120"/>
              <a:ext cx="9360" cy="558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825040" y="4029120"/>
              <a:ext cx="11160" cy="558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12640" y="4737240"/>
              <a:ext cx="12031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Congestione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777320" y="4737240"/>
              <a:ext cx="6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707920" y="4599000"/>
              <a:ext cx="54702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3333cc"/>
                  </a:solidFill>
                  <a:latin typeface="Times New Roman"/>
                </a:rPr>
                <a:t>Distribuzione del traffico nelle diverse ore della giornata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265600" y="4599000"/>
              <a:ext cx="6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262960" y="4878360"/>
              <a:ext cx="634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3333cc"/>
                  </a:solidFill>
                  <a:latin typeface="Times New Roman"/>
                </a:rPr>
                <a:t>Distribuzione della velocità media nelle diverse ore della giornata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706600" y="4878360"/>
              <a:ext cx="6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46040" y="4587840"/>
              <a:ext cx="164160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87640" y="4587840"/>
              <a:ext cx="93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97000" y="4587840"/>
              <a:ext cx="672804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825040" y="458784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87640" y="4599000"/>
              <a:ext cx="9360" cy="558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8825040" y="4599000"/>
              <a:ext cx="11160" cy="558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11920" y="5451480"/>
              <a:ext cx="8571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Incidenti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472400" y="5451480"/>
              <a:ext cx="6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556080" y="5167440"/>
              <a:ext cx="38196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per ciascun tipo di veicolo considerato</a:t>
              </a: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416000" y="5167440"/>
              <a:ext cx="6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157280" y="5446800"/>
              <a:ext cx="25916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3333cc"/>
                  </a:solidFill>
                  <a:latin typeface="Times New Roman"/>
                </a:rPr>
                <a:t>Numero e gravità incidenti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815880" y="5446800"/>
              <a:ext cx="6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039560" y="5726160"/>
              <a:ext cx="11192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3333cc"/>
                  </a:solidFill>
                  <a:latin typeface="Times New Roman"/>
                </a:rPr>
                <a:t>Tipologia d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163480" y="5726160"/>
              <a:ext cx="17013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3333cc"/>
                  </a:solidFill>
                  <a:latin typeface="Times New Roman"/>
                </a:rPr>
                <a:t>i veicoli coinvolti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933600" y="5726160"/>
              <a:ext cx="6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46040" y="5157720"/>
              <a:ext cx="164160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087640" y="5157720"/>
              <a:ext cx="936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097000" y="5157720"/>
              <a:ext cx="672804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825040" y="5157720"/>
              <a:ext cx="1116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46040" y="6005520"/>
              <a:ext cx="164160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087640" y="5167440"/>
              <a:ext cx="9360" cy="838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087640" y="6005520"/>
              <a:ext cx="936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097000" y="6005520"/>
              <a:ext cx="672804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8825040" y="5167440"/>
              <a:ext cx="11160" cy="838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8825040" y="6005520"/>
              <a:ext cx="1116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8825040" y="6005520"/>
              <a:ext cx="1116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0" name=""/>
          <p:cNvSpPr/>
          <p:nvPr/>
        </p:nvSpPr>
        <p:spPr>
          <a:xfrm>
            <a:off x="515520" y="60292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ichiardi, I costi esterni della mobilità metropolitana a Torin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15CDA8-E54C-4055-93B2-E3A83FBF75B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6600"/>
                </a:solidFill>
                <a:latin typeface="Times New Roman"/>
              </a:rPr>
              <a:t>Font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218960" y="1143000"/>
            <a:ext cx="701028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-219240">
              <a:lnSpc>
                <a:spcPct val="90000"/>
              </a:lnSpc>
              <a:spcBef>
                <a:spcPts val="601"/>
              </a:spcBef>
              <a:buClr>
                <a:srgbClr val="00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8000"/>
                </a:solidFill>
                <a:latin typeface="Times New Roman"/>
              </a:rPr>
              <a:t>Circolazione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: ACI, COPERT, IMQ, GTT, società autostrada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9240" indent="-219240">
              <a:lnSpc>
                <a:spcPct val="90000"/>
              </a:lnSpc>
              <a:spcBef>
                <a:spcPts val="601"/>
              </a:spcBef>
              <a:buClr>
                <a:srgbClr val="00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8000"/>
                </a:solidFill>
                <a:latin typeface="Times New Roman"/>
              </a:rPr>
              <a:t>Consumi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: Unione Petrolifera, ENEA, CORINAIR, TRENITALIA, CNT, letteratu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9240" indent="-219240">
              <a:lnSpc>
                <a:spcPct val="90000"/>
              </a:lnSpc>
              <a:spcBef>
                <a:spcPts val="601"/>
              </a:spcBef>
              <a:buClr>
                <a:srgbClr val="00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8000"/>
                </a:solidFill>
                <a:latin typeface="Times New Roman"/>
              </a:rPr>
              <a:t>Emissioni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: CORINA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9240" indent="-219240">
              <a:lnSpc>
                <a:spcPct val="90000"/>
              </a:lnSpc>
              <a:spcBef>
                <a:spcPts val="601"/>
              </a:spcBef>
              <a:buClr>
                <a:srgbClr val="00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8000"/>
                </a:solidFill>
                <a:latin typeface="Times New Roman"/>
              </a:rPr>
              <a:t>Effetti inquinamento atmosferico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: ExternE, EC DGE, letteratu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9240" indent="-219240">
              <a:lnSpc>
                <a:spcPct val="90000"/>
              </a:lnSpc>
              <a:spcBef>
                <a:spcPts val="601"/>
              </a:spcBef>
              <a:buClr>
                <a:srgbClr val="00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8000"/>
                </a:solidFill>
                <a:latin typeface="Times New Roman"/>
              </a:rPr>
              <a:t>Effetti inquinamento acustico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: ARPA, Provincia di Torino, letteratur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9240" indent="-219240">
              <a:lnSpc>
                <a:spcPct val="90000"/>
              </a:lnSpc>
              <a:spcBef>
                <a:spcPts val="601"/>
              </a:spcBef>
              <a:buClr>
                <a:srgbClr val="00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8000"/>
                </a:solidFill>
                <a:latin typeface="Times New Roman"/>
              </a:rPr>
              <a:t>Effetti congestione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: IMQ, Comune di Torino, Progetto 5T, letteratu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9240" indent="-219240">
              <a:lnSpc>
                <a:spcPct val="90000"/>
              </a:lnSpc>
              <a:spcBef>
                <a:spcPts val="601"/>
              </a:spcBef>
              <a:buClr>
                <a:srgbClr val="00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8000"/>
                </a:solidFill>
                <a:latin typeface="Times New Roman"/>
              </a:rPr>
              <a:t>Incidenti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: Polizia Municipale di Torino, ACI, A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9240" indent="-219240">
              <a:lnSpc>
                <a:spcPct val="90000"/>
              </a:lnSpc>
              <a:spcBef>
                <a:spcPts val="601"/>
              </a:spcBef>
              <a:buClr>
                <a:srgbClr val="00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8000"/>
                </a:solidFill>
                <a:latin typeface="Times New Roman"/>
              </a:rPr>
              <a:t>Valutazione monetaria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: ExternE, letteratu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ichiardi, I costi esterni della mobilità metropolitana a Torin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DA1C47-24C5-4709-B7FB-F5C5685F629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6600"/>
                </a:solidFill>
                <a:latin typeface="Times New Roman"/>
              </a:rPr>
              <a:t>Equivalenti monetar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lore di una “vita statistica” (V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1.045.000 €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lore di un anno di vita perduta (VOLY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50.000 €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ichiardi, I costi esterni della mobilità metropolitana a Torin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22325A-B2FA-405C-95EE-46C0D64BFA2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4T07:28:46Z</dcterms:created>
  <dc:creator>Matteo Richiardi</dc:creator>
  <dc:description/>
  <dc:language>en-US</dc:language>
  <cp:lastModifiedBy>Matteo Richiardi</cp:lastModifiedBy>
  <dcterms:modified xsi:type="dcterms:W3CDTF">2005-06-20T15:55:48Z</dcterms:modified>
  <cp:revision>44</cp:revision>
  <dc:subject/>
  <dc:title>PowerPoint Presentation</dc:title>
</cp:coreProperties>
</file>