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png" ContentType="image/png"/>
  <Override PartName="/ppt/media/image6.wmf" ContentType="image/x-wmf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5669-C496-4143-BF84-6851FBEF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6B4-A137-4608-A4DE-120C62B6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2E19-3F9A-49C2-9EFA-5AFDB274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7109-2DD6-465C-B87E-8B39D7E2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5144-8D0B-42F4-976A-4D694347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9FC1-0F53-439E-B879-445F81EF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65D6-C4BD-4744-98CA-ECFAC11B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B418-0346-4B1C-94CC-55443668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7434-97EE-49AF-B4DA-A5CF3044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0C0A-76E6-405A-8428-BA133BCE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833F-7B9C-47F3-B62A-C878E019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7721-1A0A-4C3A-AC50-61D49FF4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639A-753F-4DEE-8537-74C4E5EA2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3500280"/>
            <a:ext cx="748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atto sull’inquinamento atmosferico dei mezzi pubblici per il trasporto delle persone e per la raccolta di RSU a Brescia. Valutazione dei costi e vantaggi del passaggio a gas natur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620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nzione ASM / Brescia Trasporti con Università Cattolica del Sacro Cuore (CRASL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CRASL"/>
          <p:cNvPicPr/>
          <p:nvPr/>
        </p:nvPicPr>
        <p:blipFill>
          <a:blip r:embed="rId2"/>
          <a:stretch/>
        </p:blipFill>
        <p:spPr>
          <a:xfrm>
            <a:off x="3203640" y="1844640"/>
            <a:ext cx="1152360" cy="1001880"/>
          </a:xfrm>
          <a:prstGeom prst="rect">
            <a:avLst/>
          </a:prstGeom>
          <a:ln w="0">
            <a:noFill/>
          </a:ln>
        </p:spPr>
      </p:pic>
      <p:pic>
        <p:nvPicPr>
          <p:cNvPr id="44" name="Unicatt logo" descr=""/>
          <p:cNvPicPr/>
          <p:nvPr/>
        </p:nvPicPr>
        <p:blipFill>
          <a:blip r:embed="rId3"/>
          <a:stretch/>
        </p:blipFill>
        <p:spPr>
          <a:xfrm>
            <a:off x="4932360" y="1628640"/>
            <a:ext cx="1297080" cy="1289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3640" y="551664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utori: Ing. Stefano Caserini, dott. Paolo Semin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49160" y="517680"/>
            <a:ext cx="7858440" cy="3081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006560" y="3573360"/>
            <a:ext cx="7405560" cy="3171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47640" y="14112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ettaglio variazione emissioni per parametro inquin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19280" y="260280"/>
            <a:ext cx="58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a valutazione monetaria delle emiss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258920" y="2565000"/>
            <a:ext cx="2879640" cy="1944720"/>
            <a:chOff x="1258920" y="2565000"/>
            <a:chExt cx="2879640" cy="1944720"/>
          </a:xfrm>
        </p:grpSpPr>
        <p:sp>
          <p:nvSpPr>
            <p:cNvPr id="102" name=""/>
            <p:cNvSpPr/>
            <p:nvPr/>
          </p:nvSpPr>
          <p:spPr>
            <a:xfrm>
              <a:off x="1258920" y="2989080"/>
              <a:ext cx="2879640" cy="1520640"/>
            </a:xfrm>
            <a:prstGeom prst="can">
              <a:avLst>
                <a:gd name="adj" fmla="val 25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sti Unitari Estern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€/t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(emissione)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2426040" y="2550600"/>
              <a:ext cx="579240" cy="608040"/>
            </a:xfrm>
            <a:custGeom>
              <a:avLst/>
              <a:gdLst>
                <a:gd name="textAreaLeft" fmla="*/ 90360 w 579240"/>
                <a:gd name="textAreaRight" fmla="*/ 509760 w 579240"/>
                <a:gd name="textAreaTop" fmla="*/ 176760 h 608040"/>
                <a:gd name="textAreaBottom" fmla="*/ 431280 h 60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280"/>
                  </a:moveTo>
                  <a:lnTo>
                    <a:pt x="15406" y="6280"/>
                  </a:lnTo>
                  <a:lnTo>
                    <a:pt x="15406" y="0"/>
                  </a:lnTo>
                  <a:lnTo>
                    <a:pt x="21600" y="10800"/>
                  </a:lnTo>
                  <a:lnTo>
                    <a:pt x="15406" y="21600"/>
                  </a:lnTo>
                  <a:lnTo>
                    <a:pt x="15406" y="15320"/>
                  </a:lnTo>
                  <a:lnTo>
                    <a:pt x="3375" y="15320"/>
                  </a:lnTo>
                  <a:close/>
                </a:path>
                <a:path w="21600" h="21600">
                  <a:moveTo>
                    <a:pt x="0" y="6280"/>
                  </a:moveTo>
                  <a:lnTo>
                    <a:pt x="675" y="6280"/>
                  </a:lnTo>
                  <a:lnTo>
                    <a:pt x="675" y="15320"/>
                  </a:lnTo>
                  <a:lnTo>
                    <a:pt x="0" y="15320"/>
                  </a:lnTo>
                  <a:close/>
                </a:path>
                <a:path w="21600" h="21600">
                  <a:moveTo>
                    <a:pt x="1350" y="6280"/>
                  </a:moveTo>
                  <a:lnTo>
                    <a:pt x="2700" y="6280"/>
                  </a:lnTo>
                  <a:lnTo>
                    <a:pt x="2700" y="15320"/>
                  </a:lnTo>
                  <a:lnTo>
                    <a:pt x="1350" y="1532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547640" y="981000"/>
            <a:ext cx="2448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e [t/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32000" y="1484280"/>
            <a:ext cx="280836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missione evitata grazie alla metanizzazione [t/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87680" y="1141560"/>
            <a:ext cx="540000" cy="1110960"/>
          </a:xfrm>
          <a:prstGeom prst="rightArrow">
            <a:avLst>
              <a:gd name="adj1" fmla="val 50000"/>
              <a:gd name="adj2" fmla="val 44116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64000" y="1125360"/>
            <a:ext cx="1822680" cy="468360"/>
          </a:xfrm>
          <a:prstGeom prst="rect">
            <a:avLst/>
          </a:prstGeom>
          <a:solidFill>
            <a:srgbClr val="ffcc99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ternalità [€/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72280" y="1974960"/>
            <a:ext cx="2160360" cy="525240"/>
          </a:xfrm>
          <a:prstGeom prst="rect">
            <a:avLst/>
          </a:prstGeom>
          <a:solidFill>
            <a:srgbClr val="ffcc9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i esterni evit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8000" y="5084640"/>
            <a:ext cx="2081520" cy="116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za di prez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no - die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5229360"/>
            <a:ext cx="2737080" cy="934920"/>
          </a:xfrm>
          <a:prstGeom prst="rect">
            <a:avLst/>
          </a:prstGeom>
          <a:solidFill>
            <a:srgbClr val="ffcc99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sto Interno d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etanizzazione [€/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2360" y="3645000"/>
            <a:ext cx="2521080" cy="93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o s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 riforn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5868000" y="4364640"/>
            <a:ext cx="647640" cy="792000"/>
          </a:xfrm>
          <a:custGeom>
            <a:avLst/>
            <a:gdLst>
              <a:gd name="textAreaLeft" fmla="*/ 101160 w 647640"/>
              <a:gd name="textAreaRight" fmla="*/ 561960 w 647640"/>
              <a:gd name="textAreaTop" fmla="*/ 234720 h 792000"/>
              <a:gd name="textAreaBottom" fmla="*/ 557280 h 792000"/>
            </a:gdLst>
            <a:ahLst/>
            <a:rect l="textAreaLeft" t="textAreaTop" r="textAreaRight" b="textAreaBottom"/>
            <a:pathLst>
              <a:path w="21600" h="21600">
                <a:moveTo>
                  <a:pt x="3375" y="6406"/>
                </a:moveTo>
                <a:lnTo>
                  <a:pt x="14558" y="6406"/>
                </a:lnTo>
                <a:lnTo>
                  <a:pt x="14558" y="0"/>
                </a:lnTo>
                <a:lnTo>
                  <a:pt x="21600" y="10800"/>
                </a:lnTo>
                <a:lnTo>
                  <a:pt x="14558" y="21600"/>
                </a:lnTo>
                <a:lnTo>
                  <a:pt x="14558" y="15194"/>
                </a:lnTo>
                <a:lnTo>
                  <a:pt x="3375" y="15194"/>
                </a:lnTo>
                <a:close/>
              </a:path>
              <a:path w="21600" h="21600">
                <a:moveTo>
                  <a:pt x="0" y="6406"/>
                </a:moveTo>
                <a:lnTo>
                  <a:pt x="675" y="6406"/>
                </a:lnTo>
                <a:lnTo>
                  <a:pt x="675" y="15194"/>
                </a:lnTo>
                <a:lnTo>
                  <a:pt x="0" y="15194"/>
                </a:lnTo>
                <a:close/>
              </a:path>
              <a:path w="21600" h="21600">
                <a:moveTo>
                  <a:pt x="1350" y="6406"/>
                </a:moveTo>
                <a:lnTo>
                  <a:pt x="2700" y="6406"/>
                </a:lnTo>
                <a:lnTo>
                  <a:pt x="2700" y="15194"/>
                </a:lnTo>
                <a:lnTo>
                  <a:pt x="1350" y="151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5300640"/>
            <a:ext cx="504720" cy="720720"/>
          </a:xfrm>
          <a:prstGeom prst="rightArrow">
            <a:avLst>
              <a:gd name="adj1" fmla="val 49778"/>
              <a:gd name="adj2" fmla="val 37421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rcRect l="638" t="1069" r="494" b="1915"/>
          <a:stretch/>
        </p:blipFill>
        <p:spPr>
          <a:xfrm>
            <a:off x="660240" y="631800"/>
            <a:ext cx="8182080" cy="3541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76480" y="60480"/>
            <a:ext cx="7056360" cy="502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i Unitari Esterni estratti dalla letteratura [€/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rcRect l="1191" t="567" r="1118" b="1047"/>
          <a:stretch/>
        </p:blipFill>
        <p:spPr>
          <a:xfrm>
            <a:off x="1314360" y="4386240"/>
            <a:ext cx="6932880" cy="2392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27320" y="4202280"/>
            <a:ext cx="1440000" cy="287280"/>
          </a:xfrm>
          <a:prstGeom prst="downArrow">
            <a:avLst>
              <a:gd name="adj1" fmla="val 49944"/>
              <a:gd name="adj2" fmla="val 5591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9640" y="549360"/>
            <a:ext cx="83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isparmio netto [€/a] = Costi esterni evitati – Costo interno della metanizz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1484280"/>
            <a:ext cx="352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nel dettagli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2009880"/>
            <a:ext cx="302400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n = a – [(b*c) + d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0" t="3078" r="36033" b="0"/>
          <a:stretch/>
        </p:blipFill>
        <p:spPr>
          <a:xfrm>
            <a:off x="755640" y="2997360"/>
            <a:ext cx="4179960" cy="3036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58720" y="4543560"/>
            <a:ext cx="4392720" cy="71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67280" y="4897440"/>
            <a:ext cx="733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40280" y="4133880"/>
            <a:ext cx="3124440" cy="1511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zzi RSU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3,4 mil di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utobus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5,3 mil di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rcRect l="144" t="1512" r="805" b="2821"/>
          <a:stretch/>
        </p:blipFill>
        <p:spPr>
          <a:xfrm>
            <a:off x="47520" y="79200"/>
            <a:ext cx="9056880" cy="1822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rcRect l="1825" t="4415" r="693" b="2745"/>
          <a:stretch/>
        </p:blipFill>
        <p:spPr>
          <a:xfrm>
            <a:off x="69840" y="3198960"/>
            <a:ext cx="8942400" cy="3598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917960" y="2093760"/>
            <a:ext cx="385128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endo la spesa su una vita media di 10 anni per i mezzi RSU e di 15 anni per gli auto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3483720" y="1224720"/>
            <a:ext cx="720720" cy="2233440"/>
          </a:xfrm>
          <a:custGeom>
            <a:avLst/>
            <a:gdLst>
              <a:gd name="textAreaLeft" fmla="*/ 0 w 720720"/>
              <a:gd name="textAreaRight" fmla="*/ 721080 w 720720"/>
              <a:gd name="textAreaTop" fmla="*/ 0 h 2233440"/>
              <a:gd name="textAreaBottom" fmla="*/ 223380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00" stAng="10800000" swAng="5400000"/>
                <a:lnTo>
                  <a:pt x="12427" y="3960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8198"/>
                </a:lnTo>
                <a:lnTo>
                  <a:pt x="12427" y="8198"/>
                </a:lnTo>
                <a:arcTo wR="8189" hR="3962" stAng="16200000" swAng="-5400000"/>
                <a:lnTo>
                  <a:pt x="4238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348000" y="6192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onclus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615960"/>
            <a:ext cx="7200720" cy="115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zi coinvolti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8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eico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36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us meta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5445000"/>
            <a:ext cx="179244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i INEMAR emissioni totali - comune Bres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81200" y="5805360"/>
            <a:ext cx="576360" cy="432000"/>
          </a:xfrm>
          <a:custGeom>
            <a:avLst/>
            <a:gdLst>
              <a:gd name="textAreaLeft" fmla="*/ 90000 w 576360"/>
              <a:gd name="textAreaRight" fmla="*/ 476640 w 57636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4105" y="5400"/>
                </a:lnTo>
                <a:lnTo>
                  <a:pt x="14105" y="0"/>
                </a:lnTo>
                <a:lnTo>
                  <a:pt x="21600" y="10800"/>
                </a:lnTo>
                <a:lnTo>
                  <a:pt x="14105" y="21600"/>
                </a:lnTo>
                <a:lnTo>
                  <a:pt x="14105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564160"/>
            <a:ext cx="2160360" cy="93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5.394 t/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TS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368 t/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69040" y="5805360"/>
            <a:ext cx="528480" cy="432000"/>
          </a:xfrm>
          <a:custGeom>
            <a:avLst/>
            <a:gdLst>
              <a:gd name="textAreaLeft" fmla="*/ 82440 w 528480"/>
              <a:gd name="textAreaRight" fmla="*/ 438840 w 52848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4270" y="5400"/>
                </a:lnTo>
                <a:lnTo>
                  <a:pt x="14270" y="0"/>
                </a:lnTo>
                <a:lnTo>
                  <a:pt x="21600" y="10800"/>
                </a:lnTo>
                <a:lnTo>
                  <a:pt x="14270" y="21600"/>
                </a:lnTo>
                <a:lnTo>
                  <a:pt x="1427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24600" y="5526000"/>
            <a:ext cx="2724120" cy="97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l territorio comu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- 2,8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TS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- 1,7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042920" y="1916280"/>
            <a:ext cx="7127640" cy="3289680"/>
            <a:chOff x="1042920" y="1916280"/>
            <a:chExt cx="7127640" cy="3289680"/>
          </a:xfrm>
        </p:grpSpPr>
        <p:pic>
          <p:nvPicPr>
            <p:cNvPr id="137" name="" descr=""/>
            <p:cNvPicPr/>
            <p:nvPr/>
          </p:nvPicPr>
          <p:blipFill>
            <a:blip r:embed="rId2"/>
            <a:srcRect l="0" t="-913" r="44161" b="0"/>
            <a:stretch/>
          </p:blipFill>
          <p:spPr>
            <a:xfrm>
              <a:off x="1042920" y="1916280"/>
              <a:ext cx="7127640" cy="1653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1042920" y="3549960"/>
              <a:ext cx="7102440" cy="1656000"/>
              <a:chOff x="1042920" y="3549960"/>
              <a:chExt cx="7102440" cy="1656000"/>
            </a:xfrm>
          </p:grpSpPr>
          <p:pic>
            <p:nvPicPr>
              <p:cNvPr id="13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042920" y="3549960"/>
                <a:ext cx="1515240" cy="165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40520" y="3554640"/>
                <a:ext cx="5604840" cy="163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419640" y="74520"/>
            <a:ext cx="23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onclus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62064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spetti economico – sociali del Greening del trasporto pubbl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55640" y="1557360"/>
            <a:ext cx="8136000" cy="2346840"/>
            <a:chOff x="755640" y="1557360"/>
            <a:chExt cx="8136000" cy="2346840"/>
          </a:xfrm>
        </p:grpSpPr>
        <p:sp>
          <p:nvSpPr>
            <p:cNvPr id="144" name=""/>
            <p:cNvSpPr/>
            <p:nvPr/>
          </p:nvSpPr>
          <p:spPr>
            <a:xfrm>
              <a:off x="755640" y="1557360"/>
              <a:ext cx="3024360" cy="1313640"/>
            </a:xfrm>
            <a:prstGeom prst="rect">
              <a:avLst/>
            </a:prstGeom>
            <a:solidFill>
              <a:srgbClr val="ffff00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Internalizzazione dei costi sociali esterni attraverso l’intervento di metanizzazi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24360" y="1916280"/>
              <a:ext cx="863640" cy="576000"/>
            </a:xfrm>
            <a:prstGeom prst="rightArrow">
              <a:avLst>
                <a:gd name="adj1" fmla="val 49861"/>
                <a:gd name="adj2" fmla="val 5626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59280" y="1844640"/>
              <a:ext cx="403236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inori costi per la società (anche in termini di costi sanitari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61080" y="3200400"/>
              <a:ext cx="4028760" cy="7038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-1,9 mil di € considerando costi unitari esterni med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91160" y="2611440"/>
              <a:ext cx="792360" cy="503280"/>
            </a:xfrm>
            <a:prstGeom prst="downArrow">
              <a:avLst>
                <a:gd name="adj1" fmla="val 49898"/>
                <a:gd name="adj2" fmla="val 4038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700360" y="41497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99"/>
                </a:solidFill>
                <a:latin typeface="Arial"/>
              </a:rPr>
              <a:t>Problematiche emer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55640" y="4797360"/>
            <a:ext cx="8209080" cy="1882800"/>
            <a:chOff x="755640" y="4797360"/>
            <a:chExt cx="8209080" cy="1882800"/>
          </a:xfrm>
        </p:grpSpPr>
        <p:sp>
          <p:nvSpPr>
            <p:cNvPr id="151" name=""/>
            <p:cNvSpPr/>
            <p:nvPr/>
          </p:nvSpPr>
          <p:spPr>
            <a:xfrm>
              <a:off x="755640" y="5013360"/>
              <a:ext cx="2220840" cy="14655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arsa disponibilità di dati su fattori di emissione di mezzi RSU rispetto agli autob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56360" y="5757840"/>
              <a:ext cx="28083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mpi range di valutazione monetaria delle emission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3640" y="4797360"/>
              <a:ext cx="2735280" cy="1882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Costi unitari esterni riferiti a realtà territoriali diverse e non sempre ben specific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Studi basati su metodologie dive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534000" y="4130280"/>
              <a:ext cx="755640" cy="2089440"/>
            </a:xfrm>
            <a:custGeom>
              <a:avLst/>
              <a:gdLst>
                <a:gd name="textAreaLeft" fmla="*/ 0 w 755640"/>
                <a:gd name="textAreaRight" fmla="*/ 756000 w 755640"/>
                <a:gd name="textAreaTop" fmla="*/ 0 h 2089440"/>
                <a:gd name="textAreaBottom" fmla="*/ 2089800 h 208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349" stAng="10800000" swAng="5400000"/>
                  <a:lnTo>
                    <a:pt x="13184" y="3811"/>
                  </a:lnTo>
                  <a:lnTo>
                    <a:pt x="13184" y="0"/>
                  </a:lnTo>
                  <a:lnTo>
                    <a:pt x="21600" y="6079"/>
                  </a:lnTo>
                  <a:lnTo>
                    <a:pt x="13184" y="12158"/>
                  </a:lnTo>
                  <a:lnTo>
                    <a:pt x="13184" y="8347"/>
                  </a:lnTo>
                  <a:lnTo>
                    <a:pt x="12427" y="8347"/>
                  </a:lnTo>
                  <a:arcTo wR="7891" hR="3813" stAng="16200000" swAng="-5400000"/>
                  <a:lnTo>
                    <a:pt x="4536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03280" y="54936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IETTIVI dello STUDIO di G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116000" y="1628640"/>
            <a:ext cx="7561440" cy="1099440"/>
            <a:chOff x="1116000" y="1628640"/>
            <a:chExt cx="7561440" cy="1099440"/>
          </a:xfrm>
        </p:grpSpPr>
        <p:sp>
          <p:nvSpPr>
            <p:cNvPr id="48" name=""/>
            <p:cNvSpPr/>
            <p:nvPr/>
          </p:nvSpPr>
          <p:spPr>
            <a:xfrm>
              <a:off x="1763640" y="1628640"/>
              <a:ext cx="6913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9999"/>
                  </a:solidFill>
                  <a:latin typeface="Arial"/>
                </a:rPr>
                <a:t>Stima dei benefici ambientali in termini di riduzione delle emissioni grazie all’adozione di motori alimentati a gas natura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116000" y="1712880"/>
              <a:ext cx="431640" cy="287280"/>
            </a:xfrm>
            <a:prstGeom prst="rightArrow">
              <a:avLst>
                <a:gd name="adj1" fmla="val 50000"/>
                <a:gd name="adj2" fmla="val 3756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1116000" y="3357720"/>
            <a:ext cx="7632720" cy="1099440"/>
            <a:chOff x="1116000" y="3357720"/>
            <a:chExt cx="7632720" cy="1099440"/>
          </a:xfrm>
        </p:grpSpPr>
        <p:sp>
          <p:nvSpPr>
            <p:cNvPr id="51" name=""/>
            <p:cNvSpPr/>
            <p:nvPr/>
          </p:nvSpPr>
          <p:spPr>
            <a:xfrm>
              <a:off x="1763640" y="3357720"/>
              <a:ext cx="6985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9999"/>
                  </a:solidFill>
                  <a:latin typeface="Arial"/>
                </a:rPr>
                <a:t>Quantificazione delle esternalità apportate dalle flotte in esercizio per il trasporto RSU e autobus di ASM Brescia e Brescia Trasport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116000" y="3429000"/>
              <a:ext cx="431640" cy="287280"/>
            </a:xfrm>
            <a:prstGeom prst="rightArrow">
              <a:avLst>
                <a:gd name="adj1" fmla="val 50000"/>
                <a:gd name="adj2" fmla="val 3756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116000" y="5157720"/>
            <a:ext cx="7747920" cy="429120"/>
            <a:chOff x="1116000" y="5157720"/>
            <a:chExt cx="7747920" cy="429120"/>
          </a:xfrm>
        </p:grpSpPr>
        <p:sp>
          <p:nvSpPr>
            <p:cNvPr id="54" name=""/>
            <p:cNvSpPr/>
            <p:nvPr/>
          </p:nvSpPr>
          <p:spPr>
            <a:xfrm>
              <a:off x="1764360" y="5157720"/>
              <a:ext cx="7099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9999"/>
                  </a:solidFill>
                  <a:latin typeface="Arial"/>
                </a:rPr>
                <a:t>Stima dei costi esterni evitati grazie alla metanizzazio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16000" y="5257440"/>
              <a:ext cx="431640" cy="286920"/>
            </a:xfrm>
            <a:prstGeom prst="rightArrow">
              <a:avLst>
                <a:gd name="adj1" fmla="val 50000"/>
                <a:gd name="adj2" fmla="val 3761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87280" y="18900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tudio sui fattori di emissione di mezzi RSU e autobus diesel e a met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59280" y="1557360"/>
            <a:ext cx="2952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80"/>
                </a:solidFill>
                <a:latin typeface="Arial"/>
              </a:rPr>
              <a:t>FE</a:t>
            </a:r>
            <a:r>
              <a:rPr b="0" lang="it-IT" sz="1800" spc="-1" strike="noStrike" baseline="-25000">
                <a:solidFill>
                  <a:srgbClr val="008080"/>
                </a:solidFill>
                <a:latin typeface="Arial"/>
              </a:rPr>
              <a:t>(euro0 – gasol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80"/>
                </a:solidFill>
                <a:latin typeface="Arial"/>
              </a:rPr>
              <a:t>Prove a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80"/>
                </a:solidFill>
                <a:latin typeface="Arial"/>
              </a:rPr>
              <a:t>studio Reg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80"/>
                </a:solidFill>
                <a:latin typeface="Arial"/>
              </a:rPr>
              <a:t>Emilia Roma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80"/>
                </a:solidFill>
                <a:latin typeface="Arial"/>
              </a:rPr>
              <a:t>(Alberici e Florio,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628640"/>
            <a:ext cx="165564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E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Arial"/>
              </a:rPr>
              <a:t>(euro1-3 – gasol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356000" y="907920"/>
            <a:ext cx="3887640" cy="576000"/>
            <a:chOff x="4356000" y="907920"/>
            <a:chExt cx="3887640" cy="576000"/>
          </a:xfrm>
        </p:grpSpPr>
        <p:sp>
          <p:nvSpPr>
            <p:cNvPr id="60" name=""/>
            <p:cNvSpPr/>
            <p:nvPr/>
          </p:nvSpPr>
          <p:spPr>
            <a:xfrm>
              <a:off x="4356000" y="1060920"/>
              <a:ext cx="720000" cy="423000"/>
            </a:xfrm>
            <a:custGeom>
              <a:avLst/>
              <a:gdLst>
                <a:gd name="textAreaLeft" fmla="*/ 0 w 720000"/>
                <a:gd name="textAreaRight" fmla="*/ 720360 w 720000"/>
                <a:gd name="textAreaTop" fmla="*/ 0 h 423000"/>
                <a:gd name="textAreaBottom" fmla="*/ 423360 h 42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580" stAng="10800000" swAng="5400000"/>
                  <a:lnTo>
                    <a:pt x="12427" y="3580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8578"/>
                  </a:lnTo>
                  <a:lnTo>
                    <a:pt x="12427" y="8578"/>
                  </a:lnTo>
                  <a:arcTo wR="7429" hR="3582" stAng="16200000" swAng="-5400000"/>
                  <a:lnTo>
                    <a:pt x="4998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24600" y="907920"/>
              <a:ext cx="2313360" cy="51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Arial"/>
                </a:rPr>
                <a:t>COPERT I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5400000">
              <a:off x="7680600" y="904680"/>
              <a:ext cx="354960" cy="77112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771120"/>
                <a:gd name="textAreaBottom" fmla="*/ 771480 h 77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580" stAng="10800000" swAng="5400000"/>
                  <a:lnTo>
                    <a:pt x="12427" y="3580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8578"/>
                  </a:lnTo>
                  <a:lnTo>
                    <a:pt x="12427" y="8578"/>
                  </a:lnTo>
                  <a:arcTo wR="7429" hR="3582" stAng="16200000" swAng="-5400000"/>
                  <a:lnTo>
                    <a:pt x="4998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755640" y="1916280"/>
            <a:ext cx="107964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z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9640" y="2131920"/>
            <a:ext cx="863640" cy="576360"/>
          </a:xfrm>
          <a:custGeom>
            <a:avLst/>
            <a:gdLst>
              <a:gd name="textAreaLeft" fmla="*/ 135000 w 863640"/>
              <a:gd name="textAreaRight" fmla="*/ 756000 w 86364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3932280"/>
            <a:ext cx="107964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z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4148280"/>
            <a:ext cx="863640" cy="576000"/>
          </a:xfrm>
          <a:custGeom>
            <a:avLst/>
            <a:gdLst>
              <a:gd name="textAreaLeft" fmla="*/ 135000 w 863640"/>
              <a:gd name="textAreaRight" fmla="*/ 756000 w 863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59280" y="3645000"/>
            <a:ext cx="2952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80"/>
                </a:solidFill>
                <a:latin typeface="Arial"/>
              </a:rPr>
              <a:t>FE</a:t>
            </a:r>
            <a:r>
              <a:rPr b="0" lang="it-IT" sz="1800" spc="-1" strike="noStrike" baseline="-25000">
                <a:solidFill>
                  <a:srgbClr val="008080"/>
                </a:solidFill>
                <a:latin typeface="Arial"/>
              </a:rPr>
              <a:t>(meta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80"/>
                </a:solidFill>
                <a:latin typeface="Arial"/>
              </a:rPr>
              <a:t>Prove a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80"/>
                </a:solidFill>
                <a:latin typeface="Arial"/>
              </a:rPr>
              <a:t>studio ASM (ASM,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80"/>
                </a:solidFill>
                <a:latin typeface="Arial"/>
              </a:rPr>
              <a:t>e Regione Piem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80"/>
                </a:solidFill>
                <a:latin typeface="Arial"/>
              </a:rPr>
              <a:t>(Alberici e Florio,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56360" y="4076640"/>
            <a:ext cx="2736720" cy="2592360"/>
          </a:xfrm>
          <a:prstGeom prst="foldedCorner">
            <a:avLst>
              <a:gd name="adj" fmla="val 202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gnificative diminu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i fattori di emis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i composti 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pportano le maggi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riticità in area urb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N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particol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979640" y="5734080"/>
            <a:ext cx="3894120" cy="520560"/>
            <a:chOff x="1979640" y="5734080"/>
            <a:chExt cx="3894120" cy="520560"/>
          </a:xfrm>
        </p:grpSpPr>
        <p:sp>
          <p:nvSpPr>
            <p:cNvPr id="70" name=""/>
            <p:cNvSpPr/>
            <p:nvPr/>
          </p:nvSpPr>
          <p:spPr>
            <a:xfrm>
              <a:off x="1979640" y="5734080"/>
              <a:ext cx="24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1" i="1" lang="it-IT" sz="2800" spc="-1" strike="noStrike">
                  <a:solidFill>
                    <a:srgbClr val="000000"/>
                  </a:solidFill>
                  <a:latin typeface="Arial"/>
                </a:rPr>
                <a:t>emergo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33760" y="5865840"/>
              <a:ext cx="1440000" cy="360360"/>
            </a:xfrm>
            <a:custGeom>
              <a:avLst/>
              <a:gdLst>
                <a:gd name="textAreaLeft" fmla="*/ 175680 w 1440000"/>
                <a:gd name="textAreaRight" fmla="*/ 1264320 w 1440000"/>
                <a:gd name="textAreaTop" fmla="*/ 102960 h 360360"/>
                <a:gd name="textAreaBottom" fmla="*/ 2574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185"/>
                  </a:moveTo>
                  <a:lnTo>
                    <a:pt x="15432" y="6185"/>
                  </a:lnTo>
                  <a:lnTo>
                    <a:pt x="15432" y="0"/>
                  </a:lnTo>
                  <a:lnTo>
                    <a:pt x="21600" y="10800"/>
                  </a:lnTo>
                  <a:lnTo>
                    <a:pt x="15432" y="21600"/>
                  </a:lnTo>
                  <a:lnTo>
                    <a:pt x="15432" y="15415"/>
                  </a:lnTo>
                  <a:lnTo>
                    <a:pt x="0" y="15415"/>
                  </a:lnTo>
                  <a:lnTo>
                    <a:pt x="2636" y="10800"/>
                  </a:lnTo>
                  <a:lnTo>
                    <a:pt x="0" y="618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25800" y="101520"/>
            <a:ext cx="3313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Fattori di emissione NO</a:t>
            </a:r>
            <a:r>
              <a:rPr b="0" lang="it-IT" sz="2000" spc="-1" strike="noStrike" baseline="-25000">
                <a:solidFill>
                  <a:srgbClr val="009999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3061" t="7676" r="2047" b="9625"/>
          <a:stretch/>
        </p:blipFill>
        <p:spPr>
          <a:xfrm>
            <a:off x="1332000" y="476280"/>
            <a:ext cx="6875280" cy="3179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rcRect l="995" t="5384" r="251" b="3435"/>
          <a:stretch/>
        </p:blipFill>
        <p:spPr>
          <a:xfrm>
            <a:off x="1476360" y="3859200"/>
            <a:ext cx="688176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97040" y="14112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Fattori di emissione particol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rcRect l="605" t="3585" r="799" b="3337"/>
          <a:stretch/>
        </p:blipFill>
        <p:spPr>
          <a:xfrm>
            <a:off x="299880" y="603360"/>
            <a:ext cx="8680680" cy="2970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rcRect l="759" t="1926" r="1006" b="3171"/>
          <a:stretch/>
        </p:blipFill>
        <p:spPr>
          <a:xfrm>
            <a:off x="266760" y="3938760"/>
            <a:ext cx="874872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16000" y="3333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tima delle Emissioni delle flotte in esercizio a Bres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1484280"/>
            <a:ext cx="1440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 [g/k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62560" y="1484280"/>
            <a:ext cx="1801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e [t/a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40360" y="1700280"/>
            <a:ext cx="863280" cy="360360"/>
          </a:xfrm>
          <a:custGeom>
            <a:avLst/>
            <a:gdLst>
              <a:gd name="textAreaLeft" fmla="*/ 134640 w 863280"/>
              <a:gd name="textAreaRight" fmla="*/ 755640 w 86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0" y="2852640"/>
            <a:ext cx="2879640" cy="1152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= F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* 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* 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4292640"/>
            <a:ext cx="7777080" cy="26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= Emissione annua del veicolo i per un parametro inqu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= Fattore di emissione del veicolo i per un parametro inqu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= Percorrenza annua (km/a) del veicolo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492360" y="836640"/>
            <a:ext cx="20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lotta mezzi RSU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81 veicol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51640" y="836640"/>
            <a:ext cx="2303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lotta autobus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199 veicol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184464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Km percorsi nell’anno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37080" y="1917720"/>
            <a:ext cx="1798560" cy="93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77.2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96000" y="1917720"/>
            <a:ext cx="1728720" cy="93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937.0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620640"/>
            <a:ext cx="7488360" cy="259236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11280" y="3500280"/>
          <a:ext cx="8208720" cy="2449800"/>
        </p:xfrm>
        <a:graphic>
          <a:graphicData uri="http://schemas.openxmlformats.org/drawingml/2006/table">
            <a:tbl>
              <a:tblPr/>
              <a:tblGrid>
                <a:gridCol w="1224000"/>
                <a:gridCol w="1211040"/>
                <a:gridCol w="1249560"/>
                <a:gridCol w="1247760"/>
                <a:gridCol w="1249200"/>
                <a:gridCol w="1249560"/>
                <a:gridCol w="777600"/>
              </a:tblGrid>
              <a:tr h="73512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ibuzione mezzi per motorizzazione (1/1/200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ro 0 - benz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ro 0 - dies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ro 1 - dies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ro 2 - dies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ro 3 - dies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a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zzi RS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b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rcRect l="666" t="3203" r="666" b="5798"/>
          <a:stretch/>
        </p:blipFill>
        <p:spPr>
          <a:xfrm>
            <a:off x="611280" y="836640"/>
            <a:ext cx="8432640" cy="2706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403280" y="26028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Emissioni particolato prima e dopo la metan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rcRect l="1004" t="3892" r="321" b="2963"/>
          <a:stretch/>
        </p:blipFill>
        <p:spPr>
          <a:xfrm>
            <a:off x="577800" y="3897360"/>
            <a:ext cx="850104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rcRect l="4905" t="2210" r="2675" b="7119"/>
          <a:stretch/>
        </p:blipFill>
        <p:spPr>
          <a:xfrm>
            <a:off x="1692360" y="765000"/>
            <a:ext cx="6121440" cy="3000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3037" t="3003" r="1937" b="4594"/>
          <a:stretch/>
        </p:blipFill>
        <p:spPr>
          <a:xfrm>
            <a:off x="1908000" y="3840120"/>
            <a:ext cx="5834160" cy="2979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03280" y="2602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Emissione altri inquinanti prima e dopo la metan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8:23:04Z</dcterms:created>
  <dc:creator>--</dc:creator>
  <dc:description/>
  <dc:language>en-US</dc:language>
  <cp:lastModifiedBy>--</cp:lastModifiedBy>
  <dcterms:modified xsi:type="dcterms:W3CDTF">2005-06-19T13:27:45Z</dcterms:modified>
  <cp:revision>40</cp:revision>
  <dc:subject/>
  <dc:title>Diapositiva 1</dc:title>
</cp:coreProperties>
</file>