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907588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006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61760" y="772920"/>
            <a:ext cx="5360760" cy="37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9080" y="4717800"/>
            <a:ext cx="5045040" cy="448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3308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00600" y="943308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7FA79F-212D-43DF-9F79-FB40380A6A2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758880" y="77616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FRONTO: MOTO - AUTOBUS - CAMION - A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semplificare e rendere più efficace ed immediato il confronto, si sono presi i valori di emissione minimi e massimi rilevati per ciascuna categoria (moto, autobus, camion e auto). Tali valori sono quelli minimi e massimi rilevati sui vari percorsi e con vari tipi di carburante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le moto i dati sono quelli rilevati nel 2002 dalla Labeco, per conto della Regione Emilia Romag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gli autobus ed i camion dall'EniTecnologie: nel 2003 (autobus, Emilia Romagna), nel 2004 (autobus a metano, Piemonte), nel 2004 (camion, Emilia Romagn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le auto, fuoristrada e furgoni dal CRF nel 1999 sui percorsi urbani e dall'EniTecnologie nel 2004 sull'A1 e in tangenziale, sempre per conto della Regione Emilia Romag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ccorre precisare che i valori di emissione minimi e massimi presi in considerazione sono stati scelti tra quelli medi per ogni tipo di ciclo (scorrevole, lento) determinato dall'EniTecnologie. I valori determinati dal CRF per le auto e fuoristrada nei percorsi urbani sono riferiti a cicli sintetici valutati su valori a sua volta medi. I valori determinati dalla Labeco per le moto sono valori per prova, quindi non medi (i valori medi non sono stati forniti). I valori di emissione degli inquinanti non regolamentati, determinati dall'EniTecnologie sul Bus 3, non sono valori medi (quelli medi non sono stati determinat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486040" y="64771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ssessorato Ambiente e Sviluppo Sosteni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rvizio Risanamento Atmosferico, Acustico, Elettromagne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9960"/>
            <a:ext cx="9906120" cy="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49600" cy="371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453360"/>
            <a:ext cx="9906120" cy="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71440" y="2420640"/>
            <a:ext cx="9390240" cy="23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terminazione sperimentale di fattori di emissione di autoveicoli e di mezzi per il trasporto merci circolanti in autostrada e nella tangenziale di Bolog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07960" y="587700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g. Giorgio Zironi – 21 Giugn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3840" y="477720"/>
            <a:ext cx="96346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Comic Sans MS"/>
              </a:rPr>
              <a:t>X Expert Panel “Emissioni da trasporto su str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zione sperimentale dei combusti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. Donato Mil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49240" y="1484280"/>
            <a:ext cx="424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8440" y="295200"/>
            <a:ext cx="99057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30120"/>
            <a:ext cx="99061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0120"/>
            <a:ext cx="99061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520" y="9144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as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84520" y="1557360"/>
            <a:ext cx="694656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lievo percorsi stra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elta ci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 su banco a r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LA CLIMATIZZ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10040" y="2008080"/>
            <a:ext cx="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30920" y="2131920"/>
            <a:ext cx="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5480"/>
            <a:ext cx="82296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92080" y="1828800"/>
            <a:ext cx="6880320" cy="3551040"/>
            <a:chOff x="892080" y="1828800"/>
            <a:chExt cx="6880320" cy="3551040"/>
          </a:xfrm>
        </p:grpSpPr>
        <p:grpSp>
          <p:nvGrpSpPr>
            <p:cNvPr id="84" name=""/>
            <p:cNvGrpSpPr/>
            <p:nvPr/>
          </p:nvGrpSpPr>
          <p:grpSpPr>
            <a:xfrm>
              <a:off x="892080" y="1828800"/>
              <a:ext cx="6880320" cy="3551040"/>
              <a:chOff x="892080" y="1828800"/>
              <a:chExt cx="6880320" cy="35510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301760" y="1828800"/>
                <a:ext cx="6470640" cy="3551040"/>
                <a:chOff x="1301760" y="1828800"/>
                <a:chExt cx="6470640" cy="35510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871880" y="5256000"/>
                  <a:ext cx="35568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43480" y="5092560"/>
                  <a:ext cx="35532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5645160" y="4030560"/>
                  <a:ext cx="364680" cy="33480"/>
                  <a:chOff x="5645160" y="4030560"/>
                  <a:chExt cx="364680" cy="334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flipH="1">
                    <a:off x="5673240" y="4048200"/>
                    <a:ext cx="336600" cy="14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645160" y="40305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0"/>
                        </a:moveTo>
                        <a:lnTo>
                          <a:pt x="0" y="32"/>
                        </a:lnTo>
                        <a:lnTo>
                          <a:pt x="59" y="62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641920" y="4078080"/>
                  <a:ext cx="366480" cy="33480"/>
                  <a:chOff x="5641920" y="4078080"/>
                  <a:chExt cx="366480" cy="334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 flipH="1">
                    <a:off x="5671800" y="4093920"/>
                    <a:ext cx="33660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641920" y="4078080"/>
                    <a:ext cx="316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1">
                        <a:moveTo>
                          <a:pt x="59" y="0"/>
                        </a:moveTo>
                        <a:lnTo>
                          <a:pt x="0" y="31"/>
                        </a:lnTo>
                        <a:lnTo>
                          <a:pt x="59" y="61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5641920" y="4127400"/>
                  <a:ext cx="366480" cy="31680"/>
                  <a:chOff x="5641920" y="4127400"/>
                  <a:chExt cx="366480" cy="316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 flipH="1">
                    <a:off x="5671800" y="4143240"/>
                    <a:ext cx="33660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641920" y="4127400"/>
                    <a:ext cx="316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0"/>
                        </a:moveTo>
                        <a:lnTo>
                          <a:pt x="0" y="32"/>
                        </a:lnTo>
                        <a:lnTo>
                          <a:pt x="59" y="62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4093920" y="4216320"/>
                  <a:ext cx="505080" cy="536400"/>
                  <a:chOff x="4093920" y="4216320"/>
                  <a:chExt cx="505080" cy="536400"/>
                </a:xfrm>
              </p:grpSpPr>
              <p:grpSp>
                <p:nvGrpSpPr>
                  <p:cNvPr id="98" name=""/>
                  <p:cNvGrpSpPr/>
                  <p:nvPr/>
                </p:nvGrpSpPr>
                <p:grpSpPr>
                  <a:xfrm>
                    <a:off x="4093920" y="4216320"/>
                    <a:ext cx="252720" cy="446040"/>
                    <a:chOff x="4093920" y="4216320"/>
                    <a:chExt cx="252720" cy="44604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4344840" y="4216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4341600" y="4216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338720" y="42163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4336920" y="42177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333680" y="42177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4330440" y="42177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327560" y="42177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324320" y="42177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321080" y="42177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317840" y="42177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314600" y="42195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313160" y="42195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2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309920" y="42195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306680" y="42210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303440" y="42210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4300560" y="42210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4297320" y="42210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4294080" y="42228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4292640" y="42228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4289400" y="4224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286160" y="4224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2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4282920" y="42256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279680" y="42256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4276800" y="42274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4275000" y="42274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4271760" y="42289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268520" y="4230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2"/>
                          </a:move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265640" y="42307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263840" y="4230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260600" y="4232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257720" y="42336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254480" y="42354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251240" y="42354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249800" y="42368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246560" y="42386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4243320" y="4240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241880" y="4241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238640" y="4241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36840" y="4243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233600" y="42447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230720" y="42465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227480" y="42480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225680" y="42480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222800" y="4251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2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221000" y="42526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217760" y="42544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214880" y="42559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213080" y="4257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4209840" y="4259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208400" y="42606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205160" y="42624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201920" y="42638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4200480" y="42656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198680" y="42670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4195800" y="4268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192560" y="42717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4190760" y="42735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189320" y="42750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186080" y="4276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4184640" y="4279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2"/>
                          </a:move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4181400" y="42814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4179960" y="42829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3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4176720" y="42847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174920" y="42876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173480" y="42894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4171680" y="42908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4168800" y="4294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4167000" y="42955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3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4163760" y="4297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4163760" y="43005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2"/>
                          </a:move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4160880" y="4302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159080" y="4305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4157640" y="4306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4154400" y="43099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152960" y="43117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4151160" y="4313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4149720" y="43164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2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4147920" y="43196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146480" y="4321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145040" y="43243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141800" y="43257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140000" y="4329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4138560" y="4330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3"/>
                          </a:move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136760" y="43336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135320" y="43354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133880" y="43383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2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32080" y="43416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130640" y="43448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128840" y="43466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27400" y="4349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125960" y="43513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125960" y="43545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2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124160" y="4357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122720" y="4360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120920" y="43624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19480" y="43653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18040" y="43686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118040" y="43704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16240" y="43736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114800" y="4376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113000" y="4378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4113000" y="43815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111560" y="4384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111560" y="4387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10120" y="4390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108320" y="4394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108320" y="43956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06880" y="4398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05080" y="44020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05080" y="4405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103640" y="44085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103640" y="4410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101840" y="4413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01840" y="44164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101840" y="44193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100400" y="44226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00400" y="4425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098960" y="4427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098960" y="4430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098960" y="4433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097160" y="4437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4097160" y="4440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4097160" y="44434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097160" y="44463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095720" y="44496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2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095720" y="4452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095720" y="4456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095720" y="44593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093920" y="4460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093920" y="4464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093920" y="4467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093920" y="4470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4093920" y="44733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093920" y="44766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4093920" y="447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4093920" y="44830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4093920" y="44863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093920" y="44892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093920" y="4491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93920" y="4494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093920" y="4497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093920" y="45003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4093920" y="45036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093920" y="4506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095720" y="4510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4095720" y="45133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4095720" y="4516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095720" y="4519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097160" y="45226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097160" y="4524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097160" y="45273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098960" y="4530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098960" y="4533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98960" y="4537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100400" y="45403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100400" y="4541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4101840" y="4545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101840" y="4548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101840" y="4551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101840" y="45543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4103640" y="4557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103640" y="4560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105080" y="45622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106880" y="4565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106880" y="4568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108320" y="4572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10120" y="4575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110120" y="4576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111560" y="4579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113000" y="4583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113000" y="4586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113000" y="45892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114800" y="4591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116240" y="45939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118040" y="4597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2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119480" y="4600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120920" y="4602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2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120920" y="4605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122720" y="46083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4124160" y="4610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125960" y="4613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127400" y="4616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128840" y="4619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130640" y="46209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132080" y="46242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133880" y="4626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4135320" y="46288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136760" y="4632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4138560" y="4633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138560" y="46371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141800" y="4638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143240" y="4641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4145040" y="4643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4146480" y="4646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147920" y="4649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149720" y="4651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151160" y="46544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152960" y="46558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4155840" y="46576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157640" y="4660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4159080" y="4506840"/>
                    <a:ext cx="439920" cy="245880"/>
                    <a:chOff x="4159080" y="4506840"/>
                    <a:chExt cx="439920" cy="24588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159080" y="46623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4162320" y="4665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163760" y="4667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4165560" y="4670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4167000" y="46720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4170240" y="4673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4171680" y="4676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4173480" y="4678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176720" y="46814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178160" y="46828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79960" y="4684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4182840" y="4686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4184640" y="46893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187880" y="46908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189320" y="4692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190760" y="4694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194000" y="46972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197240" y="4698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98680" y="4700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200480" y="47019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203720" y="4703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4205160" y="47052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208400" y="4707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211640" y="47084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4213080" y="47098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216320" y="4711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217760" y="4713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221000" y="47163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4224240" y="47178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4225680" y="4719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228920" y="4719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4230720" y="4721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4233600" y="4722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4236840" y="47242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4238640" y="472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241880" y="4727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4244760" y="4727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4248000" y="47289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4251240" y="4730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4252680" y="47322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4255920" y="4734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4259160" y="4734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4262400" y="47354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4263840" y="47354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4267080" y="47368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4270320" y="4738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4273560" y="4738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4275000" y="4740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4278240" y="47401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4281480" y="4741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4284720" y="4741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287600" y="47433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289400" y="47433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292640" y="47448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295520" y="47448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98760" y="4746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4300560" y="4746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4303440" y="4746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306680" y="4748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4309920" y="4748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313160" y="4748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316400" y="4748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31964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32252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32576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432756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433044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33368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433692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340160" y="4751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343400" y="4751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346640" y="4751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349520" y="47512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351320" y="4751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35456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435744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360680" y="4749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36392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36716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37040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373640" y="4749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375080" y="4748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378320" y="4748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381560" y="4748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4384440" y="4746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387680" y="4746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390920" y="4746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394160" y="47448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4397400" y="47448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398840" y="47448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402080" y="47433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4405320" y="47433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408560" y="4741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411440" y="47419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413240" y="47401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4416480" y="4738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419360" y="47386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422600" y="47368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425840" y="47368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427280" y="47354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4430520" y="47354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4433760" y="4734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4437000" y="4732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4438440" y="47322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4441680" y="4730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444920" y="47289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448160" y="4727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4449600" y="47257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4452840" y="472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4454280" y="4722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4457520" y="4722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4460760" y="4721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4462200" y="4719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4465440" y="47178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4468680" y="47163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4470480" y="4714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4473360" y="4713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475160" y="4711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478400" y="47098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4481280" y="47084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483080" y="4707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4486320" y="4705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4487760" y="4703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4491000" y="47019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4492440" y="4700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4495680" y="4697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4497120" y="4695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4500360" y="4694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4502160" y="4692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505400" y="46893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506840" y="4687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4510080" y="46861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4511520" y="46846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4513320" y="46814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4514760" y="4680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4518000" y="4678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4519440" y="46749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522680" y="4673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4524120" y="46720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4525920" y="4670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4527360" y="4667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4530600" y="4665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4532040" y="46623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4533840" y="4660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4537080" y="4657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4537080" y="46544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4540320" y="4653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4541760" y="46512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4543200" y="46479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4545000" y="4646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4546440" y="46432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4549680" y="4640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4549680" y="4638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4551120" y="4637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554360" y="46339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556160" y="4630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4557600" y="46288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559040" y="4626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560840" y="4622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562280" y="46209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562280" y="46180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564080" y="4614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565520" y="4613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567320" y="46101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568760" y="4606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570200" y="4605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572000" y="4602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4572000" y="4599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573440" y="4595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575240" y="45939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575240" y="45910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576680" y="45878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578120" y="45860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579920" y="45831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4579920" y="45799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581360" y="45766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583160" y="4573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4583160" y="4572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4584600" y="4568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4586040" y="4565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4586040" y="45622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587840" y="4559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587840" y="45561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587840" y="455436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4589280" y="4551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589280" y="4548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4591080" y="4545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4591080" y="4541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592520" y="4538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4592520" y="4535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4592520" y="45320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4593960" y="45291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4593960" y="45259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4593960" y="4524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593960" y="45212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2"/>
                          </a:move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4595760" y="4518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4595760" y="45147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1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4595760" y="45115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4595760" y="45082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4597200" y="4506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0" name=""/>
                  <p:cNvSpPr/>
                  <p:nvPr/>
                </p:nvSpPr>
                <p:spPr>
                  <a:xfrm>
                    <a:off x="4597200" y="45036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597200" y="4500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597200" y="44971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597200" y="4494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597200" y="44910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597200" y="44877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597200" y="4484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4597200" y="44812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597200" y="44784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597200" y="44751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597200" y="4473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597200" y="44701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597200" y="4467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597200" y="44640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597200" y="44607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595760" y="44575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595760" y="44542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595760" y="4451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595760" y="4448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4593960" y="44449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4593960" y="44416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593960" y="4440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4592520" y="4437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4592520" y="44337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4592520" y="44305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591080" y="44272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4591080" y="4424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591080" y="4421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589280" y="4419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589280" y="44164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587840" y="44132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4587840" y="4410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587840" y="44067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4586040" y="4403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584600" y="44002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4584600" y="43988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583160" y="4395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583160" y="43923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4581360" y="43894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4579920" y="43862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579920" y="43844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578120" y="43815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576680" y="4378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575240" y="43765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4575240" y="43736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4573440" y="43704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572000" y="4367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4570200" y="43639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570200" y="43606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568760" y="43592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567320" y="4356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565520" y="43545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564080" y="4351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562280" y="43480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560840" y="43448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559040" y="43434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557600" y="4340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556160" y="43383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554360" y="43354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552920" y="43322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551120" y="43304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549680" y="4329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1" y="2"/>
                        </a:move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548240" y="43257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546440" y="4322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545000" y="43210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543200" y="43178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541760" y="4314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4538520" y="43131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4537080" y="43117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535280" y="43084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533840" y="43066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532040" y="43034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529160" y="4302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527360" y="4298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525920" y="4297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524120" y="4295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1" y="2"/>
                        </a:move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4521240" y="42926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4519440" y="42908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4518000" y="4289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4514760" y="4286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4513320" y="42847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511520" y="42829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4508280" y="42796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4506840" y="42782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503600" y="42768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4502160" y="42750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500360" y="42735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497120" y="42703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4494240" y="42685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4492440" y="42670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489200" y="42656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487760" y="42638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486320" y="4262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483080" y="4260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479840" y="4259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478400" y="42577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475160" y="42544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473360" y="42526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470480" y="42512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467240" y="42498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4465440" y="42480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4462200" y="42465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4459320" y="42465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2"/>
                        </a:move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4457520" y="4244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454280" y="42433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451400" y="42415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449600" y="42400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1" y="2"/>
                        </a:move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4446360" y="42386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4443480" y="42386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4440240" y="42368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438440" y="42354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435560" y="4233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432320" y="4233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429080" y="42321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427280" y="42307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424400" y="42307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421160" y="42289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417920" y="42289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414680" y="42274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413240" y="42274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410000" y="42256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406760" y="42256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403520" y="4224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4400280" y="4224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398840" y="42228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395600" y="42228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392360" y="42210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389480" y="42210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386240" y="42210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383000" y="42195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381560" y="42195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378320" y="42195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375080" y="42195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4371840" y="4217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4368600" y="4217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365360" y="4217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363920" y="42177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360680" y="4217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357440" y="42177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4560" y="42177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1320" y="4216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3"/>
                        </a:move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348080" y="4216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3949560" y="4384440"/>
                  <a:ext cx="760320" cy="393840"/>
                  <a:chOff x="3949560" y="4384440"/>
                  <a:chExt cx="760320" cy="39384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3949560" y="438768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949560" y="43988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949560" y="4411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949560" y="4424400"/>
                    <a:ext cx="468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949560" y="44352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949560" y="4448160"/>
                    <a:ext cx="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949560" y="4459320"/>
                    <a:ext cx="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949560" y="447192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949560" y="448452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949560" y="449568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949560" y="450828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949560" y="4521240"/>
                    <a:ext cx="468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949560" y="45320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949560" y="4545000"/>
                    <a:ext cx="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949560" y="4556160"/>
                    <a:ext cx="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3949560" y="456876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949560" y="458136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949560" y="459252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949560" y="460512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3949560" y="4618080"/>
                    <a:ext cx="468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949560" y="462888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949560" y="4641840"/>
                    <a:ext cx="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3949560" y="4654440"/>
                    <a:ext cx="468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949560" y="46656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949560" y="46782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3949560" y="468936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949560" y="470196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949560" y="4714920"/>
                    <a:ext cx="468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949560" y="472572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949560" y="4738680"/>
                    <a:ext cx="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949560" y="4751280"/>
                    <a:ext cx="468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949560" y="4762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95136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396396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97656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98772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00032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40114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024080" y="477180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03524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04820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0590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07196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08312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09572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10688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1194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13064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14324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1544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1670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17816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19076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20192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21488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42256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23864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25124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26240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27500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28616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29876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30992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322520" y="477180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3336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34664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35744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437040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38156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39416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40532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41792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4290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4416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45284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446544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4766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4892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50036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51332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52592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53708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54968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456084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457344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5846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597200" y="477180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60836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4620960" y="477180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63212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645080" y="477180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65588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66884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680000" y="47718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692600" y="477180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703760" y="477180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6" y="11"/>
                        </a:lnTo>
                        <a:lnTo>
                          <a:pt x="11" y="11"/>
                        </a:lnTo>
                        <a:lnTo>
                          <a:pt x="11" y="5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6" y="5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703760" y="47592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703760" y="4748040"/>
                    <a:ext cx="612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703760" y="4735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4703760" y="472284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703760" y="471168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703760" y="469872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703760" y="468612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703760" y="467496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703760" y="466236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703760" y="4651200"/>
                    <a:ext cx="612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703760" y="46386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703760" y="462600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703760" y="461484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703760" y="460224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703760" y="458928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703760" y="457812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703760" y="456552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03760" y="4554360"/>
                    <a:ext cx="612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703760" y="454176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703760" y="452916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703760" y="451800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703760" y="450540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703760" y="4492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703760" y="448128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703760" y="446868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703760" y="4457520"/>
                    <a:ext cx="612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703760" y="444492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703760" y="443232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703760" y="4421160"/>
                    <a:ext cx="6120" cy="4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703760" y="4408560"/>
                    <a:ext cx="612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703760" y="439560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703760" y="438444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0" y="12"/>
                        </a:moveTo>
                        <a:lnTo>
                          <a:pt x="11" y="12"/>
                        </a:lnTo>
                        <a:lnTo>
                          <a:pt x="11" y="6"/>
                        </a:lnTo>
                        <a:lnTo>
                          <a:pt x="11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6" y="12"/>
                        </a:lnTo>
                        <a:lnTo>
                          <a:pt x="6" y="6"/>
                        </a:lnTo>
                        <a:lnTo>
                          <a:pt x="0" y="6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46926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468000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66884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6558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64508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63212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620960" y="438444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60836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597200" y="438444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846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57344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56084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4968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53708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52592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51332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50036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4892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4766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46544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45284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44416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44290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41792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440532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39416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38156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37040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35744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34664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3336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322520" y="438444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30992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29876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28616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27500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26240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25124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423864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42256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421488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420192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419076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417816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41670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41544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414324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413064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1194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10688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409572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408312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407196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405900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404820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403524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024080" y="4384440"/>
                    <a:ext cx="504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01148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400032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987720" y="4384440"/>
                    <a:ext cx="64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976560" y="4384440"/>
                    <a:ext cx="468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396396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3951360" y="4384440"/>
                    <a:ext cx="6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3889440" y="4500360"/>
                  <a:ext cx="64800" cy="270000"/>
                  <a:chOff x="3889440" y="4500360"/>
                  <a:chExt cx="64800" cy="2700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3889440" y="450360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889440" y="451476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889440" y="452736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889440" y="454032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889440" y="455112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889440" y="456408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889440" y="457524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3889440" y="458784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3889440" y="460044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889440" y="461160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89440" y="462420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89440" y="463716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889440" y="464796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889440" y="466092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889440" y="467208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889440" y="468468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889440" y="469728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889440" y="470844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3889440" y="472104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3889440" y="473400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889440" y="474480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889440" y="475776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892320" y="4765680"/>
                    <a:ext cx="64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3905280" y="4765680"/>
                    <a:ext cx="612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916440" y="4765680"/>
                    <a:ext cx="612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929040" y="4765680"/>
                    <a:ext cx="612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3940200" y="4765680"/>
                    <a:ext cx="612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3949560" y="476064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949560" y="474984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3949560" y="473688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949560" y="472428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949560" y="471312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949560" y="470052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949560" y="468792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949560" y="467676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949560" y="466380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949560" y="465300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949560" y="464004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3949560" y="462744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949560" y="461628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949560" y="460368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3949560" y="459108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3949560" y="4579920"/>
                    <a:ext cx="4680" cy="6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3949560" y="456696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949560" y="455616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949560" y="454320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949560" y="453060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3949560" y="4519440"/>
                    <a:ext cx="4680" cy="46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949560" y="4506840"/>
                    <a:ext cx="46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943080" y="4500360"/>
                    <a:ext cx="64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932280" y="4500360"/>
                    <a:ext cx="612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919320" y="4500360"/>
                    <a:ext cx="64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3908160" y="4500360"/>
                    <a:ext cx="64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895560" y="4500360"/>
                    <a:ext cx="6480" cy="6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4941720" y="4235400"/>
                  <a:ext cx="39600" cy="631800"/>
                  <a:chOff x="4941720" y="4235400"/>
                  <a:chExt cx="39600" cy="631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4941720" y="4235400"/>
                    <a:ext cx="38160" cy="63180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4941720" y="4235400"/>
                    <a:ext cx="39600" cy="631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" name=""/>
                <p:cNvSpPr/>
                <p:nvPr/>
              </p:nvSpPr>
              <p:spPr>
                <a:xfrm>
                  <a:off x="3004920" y="4817880"/>
                  <a:ext cx="85680" cy="54000"/>
                </a:xfrm>
                <a:prstGeom prst="rect">
                  <a:avLst/>
                </a:prstGeom>
                <a:solidFill>
                  <a:srgbClr val="8c8c8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828960" y="4816440"/>
                  <a:ext cx="85680" cy="54000"/>
                </a:xfrm>
                <a:prstGeom prst="rect">
                  <a:avLst/>
                </a:prstGeom>
                <a:solidFill>
                  <a:srgbClr val="8c8c8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4" name=""/>
                <p:cNvGrpSpPr/>
                <p:nvPr/>
              </p:nvGrpSpPr>
              <p:grpSpPr>
                <a:xfrm>
                  <a:off x="2516040" y="2733480"/>
                  <a:ext cx="5256360" cy="54000"/>
                  <a:chOff x="2516040" y="2733480"/>
                  <a:chExt cx="5256360" cy="5400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2516040" y="2733480"/>
                    <a:ext cx="5254560" cy="5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16040" y="2733480"/>
                    <a:ext cx="5256360" cy="540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7" name=""/>
                <p:cNvGrpSpPr/>
                <p:nvPr/>
              </p:nvGrpSpPr>
              <p:grpSpPr>
                <a:xfrm>
                  <a:off x="2530440" y="4219560"/>
                  <a:ext cx="1012680" cy="27000"/>
                  <a:chOff x="2530440" y="4219560"/>
                  <a:chExt cx="1012680" cy="2700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2530440" y="4219560"/>
                    <a:ext cx="1011240" cy="2700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30440" y="4219560"/>
                    <a:ext cx="1012680" cy="270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3806640" y="4219560"/>
                  <a:ext cx="3965760" cy="27000"/>
                  <a:chOff x="3806640" y="4219560"/>
                  <a:chExt cx="3965760" cy="2700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3806640" y="4219560"/>
                    <a:ext cx="3963960" cy="2700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806640" y="4219560"/>
                    <a:ext cx="3965760" cy="270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3" name=""/>
                <p:cNvSpPr/>
                <p:nvPr/>
              </p:nvSpPr>
              <p:spPr>
                <a:xfrm>
                  <a:off x="3144600" y="2781360"/>
                  <a:ext cx="60480" cy="108720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062160" y="2655720"/>
                  <a:ext cx="196920" cy="79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86000" y="2450880"/>
                  <a:ext cx="44640" cy="1746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078000" y="2544840"/>
                  <a:ext cx="168480" cy="1728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090600" y="2558880"/>
                  <a:ext cx="141480" cy="1429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128760" y="2628720"/>
                  <a:ext cx="66960" cy="2682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8760" y="2600280"/>
                  <a:ext cx="65160" cy="651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2485800" y="2732040"/>
                  <a:ext cx="41400" cy="1515960"/>
                  <a:chOff x="2485800" y="2732040"/>
                  <a:chExt cx="41400" cy="151596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2485800" y="2732040"/>
                    <a:ext cx="41400" cy="15145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485800" y="2732040"/>
                    <a:ext cx="41400" cy="151596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3" name=""/>
                <p:cNvSpPr/>
                <p:nvPr/>
              </p:nvSpPr>
              <p:spPr>
                <a:xfrm>
                  <a:off x="4444920" y="2119320"/>
                  <a:ext cx="24588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440240" y="1985760"/>
                  <a:ext cx="253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755960" y="1828800"/>
                  <a:ext cx="349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419360" y="1828800"/>
                  <a:ext cx="349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076640" y="2125440"/>
                  <a:ext cx="349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070160" y="1841400"/>
                  <a:ext cx="347760" cy="1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65480" y="1985760"/>
                  <a:ext cx="347760" cy="1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430520" y="2260440"/>
                  <a:ext cx="26208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0160" y="2266920"/>
                  <a:ext cx="347760" cy="1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2" name=""/>
                <p:cNvGrpSpPr/>
                <p:nvPr/>
              </p:nvGrpSpPr>
              <p:grpSpPr>
                <a:xfrm>
                  <a:off x="2671560" y="4246560"/>
                  <a:ext cx="36720" cy="620640"/>
                  <a:chOff x="2671560" y="4246560"/>
                  <a:chExt cx="36720" cy="62064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>
                    <a:off x="2671560" y="4246560"/>
                    <a:ext cx="36720" cy="62064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71560" y="4246560"/>
                    <a:ext cx="36720" cy="6206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2671560" y="4865760"/>
                  <a:ext cx="2309760" cy="55440"/>
                  <a:chOff x="2671560" y="4865760"/>
                  <a:chExt cx="2309760" cy="5544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>
                    <a:off x="2671560" y="4865760"/>
                    <a:ext cx="2309760" cy="5544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671560" y="4865760"/>
                    <a:ext cx="2309760" cy="554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"/>
                <p:cNvSpPr/>
                <p:nvPr/>
              </p:nvSpPr>
              <p:spPr>
                <a:xfrm>
                  <a:off x="2963880" y="4776840"/>
                  <a:ext cx="1855800" cy="42840"/>
                </a:xfrm>
                <a:prstGeom prst="rect">
                  <a:avLst/>
                </a:prstGeom>
                <a:solidFill>
                  <a:srgbClr val="8c8c8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692600" y="4819680"/>
                  <a:ext cx="84240" cy="54000"/>
                </a:xfrm>
                <a:prstGeom prst="rect">
                  <a:avLst/>
                </a:prstGeom>
                <a:solidFill>
                  <a:srgbClr val="8c8c8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814560" y="4981320"/>
                  <a:ext cx="35712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729040" y="3957480"/>
                  <a:ext cx="346320" cy="257400"/>
                </a:xfrm>
                <a:prstGeom prst="rect">
                  <a:avLst/>
                </a:prstGeom>
                <a:solidFill>
                  <a:srgbClr val="a6a6a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838840" y="3924360"/>
                  <a:ext cx="369720" cy="290520"/>
                </a:xfrm>
                <a:prstGeom prst="rect">
                  <a:avLst/>
                </a:prstGeom>
                <a:solidFill>
                  <a:srgbClr val="a6a6a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964120" y="3897360"/>
                  <a:ext cx="371520" cy="317520"/>
                </a:xfrm>
                <a:prstGeom prst="rect">
                  <a:avLst/>
                </a:prstGeom>
                <a:solidFill>
                  <a:srgbClr val="a6a6a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121440" y="3863880"/>
                  <a:ext cx="371520" cy="351000"/>
                </a:xfrm>
                <a:prstGeom prst="rect">
                  <a:avLst/>
                </a:prstGeom>
                <a:solidFill>
                  <a:srgbClr val="a6a6a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5" name=""/>
                <p:cNvGrpSpPr/>
                <p:nvPr/>
              </p:nvGrpSpPr>
              <p:grpSpPr>
                <a:xfrm>
                  <a:off x="4424400" y="3008160"/>
                  <a:ext cx="2544480" cy="33480"/>
                  <a:chOff x="4424400" y="3008160"/>
                  <a:chExt cx="2544480" cy="3348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4424400" y="3008160"/>
                    <a:ext cx="2544480" cy="334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424400" y="3008160"/>
                    <a:ext cx="2544480" cy="3348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4448160" y="2798640"/>
                  <a:ext cx="365040" cy="33480"/>
                  <a:chOff x="4448160" y="2798640"/>
                  <a:chExt cx="365040" cy="3348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4448160" y="2816280"/>
                    <a:ext cx="336600" cy="14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782960" y="279864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0" y="62"/>
                        </a:moveTo>
                        <a:lnTo>
                          <a:pt x="59" y="31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4449600" y="2847960"/>
                  <a:ext cx="365040" cy="31680"/>
                  <a:chOff x="4449600" y="2847960"/>
                  <a:chExt cx="365040" cy="316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4449600" y="2862000"/>
                    <a:ext cx="33660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784760" y="2847960"/>
                    <a:ext cx="29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1">
                        <a:moveTo>
                          <a:pt x="0" y="61"/>
                        </a:moveTo>
                        <a:lnTo>
                          <a:pt x="59" y="30"/>
                        </a:lnTo>
                        <a:lnTo>
                          <a:pt x="0" y="0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4449600" y="2895480"/>
                  <a:ext cx="365040" cy="33480"/>
                  <a:chOff x="4449600" y="2895480"/>
                  <a:chExt cx="365040" cy="3348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4449600" y="2911320"/>
                    <a:ext cx="33660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784760" y="289548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0" y="62"/>
                        </a:moveTo>
                        <a:lnTo>
                          <a:pt x="59" y="3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4451400" y="2943000"/>
                  <a:ext cx="366480" cy="33480"/>
                  <a:chOff x="4451400" y="2943000"/>
                  <a:chExt cx="366480" cy="3348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>
                    <a:off x="4451400" y="2958840"/>
                    <a:ext cx="33624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786200" y="2943000"/>
                    <a:ext cx="316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0" y="62"/>
                        </a:moveTo>
                        <a:lnTo>
                          <a:pt x="59" y="30"/>
                        </a:lnTo>
                        <a:lnTo>
                          <a:pt x="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313240" y="2797200"/>
                  <a:ext cx="2212920" cy="711000"/>
                  <a:chOff x="5313240" y="2797200"/>
                  <a:chExt cx="2212920" cy="7110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313240" y="2797200"/>
                    <a:ext cx="22129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81" h="1346">
                        <a:moveTo>
                          <a:pt x="4181" y="1346"/>
                        </a:moveTo>
                        <a:lnTo>
                          <a:pt x="4165" y="457"/>
                        </a:lnTo>
                        <a:lnTo>
                          <a:pt x="3995" y="98"/>
                        </a:lnTo>
                        <a:lnTo>
                          <a:pt x="3613" y="0"/>
                        </a:lnTo>
                        <a:lnTo>
                          <a:pt x="0" y="0"/>
                        </a:lnTo>
                        <a:lnTo>
                          <a:pt x="0" y="389"/>
                        </a:lnTo>
                        <a:lnTo>
                          <a:pt x="2969" y="299"/>
                        </a:lnTo>
                        <a:lnTo>
                          <a:pt x="3146" y="319"/>
                        </a:lnTo>
                        <a:lnTo>
                          <a:pt x="3256" y="369"/>
                        </a:lnTo>
                        <a:lnTo>
                          <a:pt x="3358" y="497"/>
                        </a:lnTo>
                        <a:lnTo>
                          <a:pt x="3375" y="638"/>
                        </a:lnTo>
                        <a:lnTo>
                          <a:pt x="3349" y="798"/>
                        </a:lnTo>
                        <a:lnTo>
                          <a:pt x="3239" y="1346"/>
                        </a:lnTo>
                        <a:lnTo>
                          <a:pt x="4181" y="1346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313240" y="2797200"/>
                    <a:ext cx="22129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81" h="1346">
                        <a:moveTo>
                          <a:pt x="4181" y="1346"/>
                        </a:moveTo>
                        <a:lnTo>
                          <a:pt x="4165" y="457"/>
                        </a:lnTo>
                        <a:lnTo>
                          <a:pt x="3995" y="98"/>
                        </a:lnTo>
                        <a:lnTo>
                          <a:pt x="3613" y="0"/>
                        </a:lnTo>
                        <a:lnTo>
                          <a:pt x="0" y="0"/>
                        </a:lnTo>
                        <a:lnTo>
                          <a:pt x="0" y="389"/>
                        </a:lnTo>
                        <a:lnTo>
                          <a:pt x="2969" y="299"/>
                        </a:lnTo>
                        <a:lnTo>
                          <a:pt x="3146" y="319"/>
                        </a:lnTo>
                        <a:lnTo>
                          <a:pt x="3256" y="369"/>
                        </a:lnTo>
                        <a:lnTo>
                          <a:pt x="3358" y="497"/>
                        </a:lnTo>
                        <a:lnTo>
                          <a:pt x="3375" y="638"/>
                        </a:lnTo>
                        <a:lnTo>
                          <a:pt x="3349" y="798"/>
                        </a:lnTo>
                        <a:lnTo>
                          <a:pt x="3239" y="1346"/>
                        </a:lnTo>
                        <a:lnTo>
                          <a:pt x="4181" y="1346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4943520" y="2784240"/>
                  <a:ext cx="576000" cy="225720"/>
                  <a:chOff x="4943520" y="2784240"/>
                  <a:chExt cx="576000" cy="2257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4943520" y="2784240"/>
                    <a:ext cx="576000" cy="2257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943520" y="2784240"/>
                    <a:ext cx="576000" cy="225720"/>
                  </a:xfrm>
                  <a:prstGeom prst="rect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"/>
                <p:cNvSpPr/>
                <p:nvPr/>
              </p:nvSpPr>
              <p:spPr>
                <a:xfrm>
                  <a:off x="2901960" y="4978440"/>
                  <a:ext cx="35532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427200" y="4224240"/>
                  <a:ext cx="505080" cy="534960"/>
                </a:xfrm>
                <a:prstGeom prst="ellipse">
                  <a:avLst/>
                </a:prstGeom>
                <a:solidFill>
                  <a:srgbClr val="969696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224160" y="4510080"/>
                  <a:ext cx="61920" cy="264960"/>
                </a:xfrm>
                <a:prstGeom prst="rect">
                  <a:avLst/>
                </a:prstGeom>
                <a:solidFill>
                  <a:srgbClr val="f2f2f2"/>
                </a:solidFill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284280" y="4394160"/>
                  <a:ext cx="755640" cy="388800"/>
                </a:xfrm>
                <a:prstGeom prst="rect">
                  <a:avLst/>
                </a:prstGeom>
                <a:solidFill>
                  <a:srgbClr val="f2f2f2"/>
                </a:solidFill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498840" y="4297320"/>
                  <a:ext cx="180720" cy="176040"/>
                </a:xfrm>
                <a:custGeom>
                  <a:avLst/>
                  <a:gdLst/>
                  <a:ahLst/>
                  <a:rect l="l" t="t" r="r" b="b"/>
                  <a:pathLst>
                    <a:path w="344" h="331">
                      <a:moveTo>
                        <a:pt x="344" y="0"/>
                      </a:moveTo>
                      <a:lnTo>
                        <a:pt x="309" y="2"/>
                      </a:lnTo>
                      <a:lnTo>
                        <a:pt x="275" y="7"/>
                      </a:lnTo>
                      <a:lnTo>
                        <a:pt x="241" y="15"/>
                      </a:lnTo>
                      <a:lnTo>
                        <a:pt x="210" y="26"/>
                      </a:lnTo>
                      <a:lnTo>
                        <a:pt x="181" y="40"/>
                      </a:lnTo>
                      <a:lnTo>
                        <a:pt x="152" y="58"/>
                      </a:lnTo>
                      <a:lnTo>
                        <a:pt x="126" y="76"/>
                      </a:lnTo>
                      <a:lnTo>
                        <a:pt x="100" y="98"/>
                      </a:lnTo>
                      <a:lnTo>
                        <a:pt x="79" y="120"/>
                      </a:lnTo>
                      <a:lnTo>
                        <a:pt x="59" y="146"/>
                      </a:lnTo>
                      <a:lnTo>
                        <a:pt x="41" y="173"/>
                      </a:lnTo>
                      <a:lnTo>
                        <a:pt x="27" y="202"/>
                      </a:lnTo>
                      <a:lnTo>
                        <a:pt x="16" y="233"/>
                      </a:lnTo>
                      <a:lnTo>
                        <a:pt x="7" y="265"/>
                      </a:lnTo>
                      <a:lnTo>
                        <a:pt x="1" y="298"/>
                      </a:lnTo>
                      <a:lnTo>
                        <a:pt x="0" y="33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3477960" y="4465440"/>
                  <a:ext cx="32040" cy="33480"/>
                  <a:chOff x="3477960" y="4465440"/>
                  <a:chExt cx="32040" cy="3348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3494160" y="4497120"/>
                    <a:ext cx="144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3477960" y="4465440"/>
                    <a:ext cx="320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0">
                        <a:moveTo>
                          <a:pt x="0" y="0"/>
                        </a:moveTo>
                        <a:lnTo>
                          <a:pt x="31" y="6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4346640" y="4444920"/>
                  <a:ext cx="2880" cy="111240"/>
                  <a:chOff x="4346640" y="4444920"/>
                  <a:chExt cx="2880" cy="1112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4346640" y="44449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4"/>
                        </a:moveTo>
                        <a:lnTo>
                          <a:pt x="6" y="3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346640" y="445140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346640" y="445752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4346640" y="44622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4346640" y="44686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2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4346640" y="44751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346640" y="44812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346640" y="44877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4346640" y="44924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346640" y="44989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4346640" y="450540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4346640" y="45115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2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4346640" y="45180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346640" y="452412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2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4346640" y="452916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4346640" y="45352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346640" y="45417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4346640" y="454824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6" y="3"/>
                        </a:move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346640" y="455436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3"/>
                        </a:move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4297320" y="4486320"/>
                  <a:ext cx="122040" cy="2880"/>
                  <a:chOff x="4297320" y="4486320"/>
                  <a:chExt cx="122040" cy="288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429732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5" y="4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430344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430992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431460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32108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5" y="6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327560" y="448632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5" y="6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433368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4338720" y="448632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34484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5" y="6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435132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435744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363920" y="448632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36860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37508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381560" y="448632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4387680" y="448632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439236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439884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4405320" y="4486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4411440" y="448632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416480" y="4486320"/>
                    <a:ext cx="2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6" name=""/>
                <p:cNvSpPr/>
                <p:nvPr/>
              </p:nvSpPr>
              <p:spPr>
                <a:xfrm>
                  <a:off x="2827080" y="4039920"/>
                  <a:ext cx="304920" cy="90720"/>
                </a:xfrm>
                <a:custGeom>
                  <a:avLst/>
                  <a:gdLst/>
                  <a:ahLst/>
                  <a:rect l="l" t="t" r="r" b="b"/>
                  <a:pathLst>
                    <a:path w="577" h="171">
                      <a:moveTo>
                        <a:pt x="0" y="171"/>
                      </a:moveTo>
                      <a:lnTo>
                        <a:pt x="577" y="129"/>
                      </a:lnTo>
                      <a:lnTo>
                        <a:pt x="577" y="43"/>
                      </a:lnTo>
                      <a:lnTo>
                        <a:pt x="0" y="0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7" name=""/>
                <p:cNvGrpSpPr/>
                <p:nvPr/>
              </p:nvGrpSpPr>
              <p:grpSpPr>
                <a:xfrm>
                  <a:off x="1977840" y="3822480"/>
                  <a:ext cx="447840" cy="306360"/>
                  <a:chOff x="1977840" y="3822480"/>
                  <a:chExt cx="447840" cy="30636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1977840" y="3822480"/>
                    <a:ext cx="447840" cy="306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1979640" y="3824280"/>
                    <a:ext cx="444240" cy="303120"/>
                  </a:xfrm>
                  <a:prstGeom prst="rect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031840" y="3822480"/>
                    <a:ext cx="1440" cy="3063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371680" y="3822480"/>
                    <a:ext cx="1440" cy="3063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2" name=""/>
                <p:cNvSpPr/>
                <p:nvPr/>
              </p:nvSpPr>
              <p:spPr>
                <a:xfrm>
                  <a:off x="1977840" y="4128840"/>
                  <a:ext cx="112680" cy="101880"/>
                </a:xfrm>
                <a:custGeom>
                  <a:avLst/>
                  <a:gdLst/>
                  <a:ahLst/>
                  <a:rect l="l" t="t" r="r" b="b"/>
                  <a:pathLst>
                    <a:path w="212" h="193">
                      <a:moveTo>
                        <a:pt x="0" y="97"/>
                      </a:moveTo>
                      <a:lnTo>
                        <a:pt x="3" y="77"/>
                      </a:lnTo>
                      <a:lnTo>
                        <a:pt x="9" y="59"/>
                      </a:lnTo>
                      <a:lnTo>
                        <a:pt x="19" y="43"/>
                      </a:lnTo>
                      <a:lnTo>
                        <a:pt x="31" y="29"/>
                      </a:lnTo>
                      <a:lnTo>
                        <a:pt x="47" y="17"/>
                      </a:lnTo>
                      <a:lnTo>
                        <a:pt x="65" y="7"/>
                      </a:lnTo>
                      <a:lnTo>
                        <a:pt x="85" y="1"/>
                      </a:lnTo>
                      <a:lnTo>
                        <a:pt x="106" y="0"/>
                      </a:lnTo>
                      <a:lnTo>
                        <a:pt x="127" y="1"/>
                      </a:lnTo>
                      <a:lnTo>
                        <a:pt x="147" y="7"/>
                      </a:lnTo>
                      <a:lnTo>
                        <a:pt x="165" y="17"/>
                      </a:lnTo>
                      <a:lnTo>
                        <a:pt x="181" y="29"/>
                      </a:lnTo>
                      <a:lnTo>
                        <a:pt x="193" y="43"/>
                      </a:lnTo>
                      <a:lnTo>
                        <a:pt x="203" y="59"/>
                      </a:lnTo>
                      <a:lnTo>
                        <a:pt x="209" y="77"/>
                      </a:lnTo>
                      <a:lnTo>
                        <a:pt x="212" y="97"/>
                      </a:lnTo>
                      <a:lnTo>
                        <a:pt x="209" y="117"/>
                      </a:lnTo>
                      <a:lnTo>
                        <a:pt x="203" y="134"/>
                      </a:lnTo>
                      <a:lnTo>
                        <a:pt x="193" y="150"/>
                      </a:lnTo>
                      <a:lnTo>
                        <a:pt x="181" y="164"/>
                      </a:lnTo>
                      <a:lnTo>
                        <a:pt x="165" y="177"/>
                      </a:lnTo>
                      <a:lnTo>
                        <a:pt x="147" y="186"/>
                      </a:lnTo>
                      <a:lnTo>
                        <a:pt x="127" y="192"/>
                      </a:lnTo>
                      <a:lnTo>
                        <a:pt x="106" y="193"/>
                      </a:lnTo>
                      <a:lnTo>
                        <a:pt x="85" y="192"/>
                      </a:lnTo>
                      <a:lnTo>
                        <a:pt x="65" y="186"/>
                      </a:lnTo>
                      <a:lnTo>
                        <a:pt x="47" y="177"/>
                      </a:lnTo>
                      <a:lnTo>
                        <a:pt x="31" y="164"/>
                      </a:lnTo>
                      <a:lnTo>
                        <a:pt x="19" y="150"/>
                      </a:lnTo>
                      <a:lnTo>
                        <a:pt x="9" y="134"/>
                      </a:lnTo>
                      <a:lnTo>
                        <a:pt x="3" y="117"/>
                      </a:lnTo>
                      <a:lnTo>
                        <a:pt x="0" y="97"/>
                      </a:lnTo>
                      <a:close/>
                      <a:moveTo>
                        <a:pt x="52" y="97"/>
                      </a:moveTo>
                      <a:lnTo>
                        <a:pt x="54" y="107"/>
                      </a:lnTo>
                      <a:lnTo>
                        <a:pt x="57" y="116"/>
                      </a:lnTo>
                      <a:lnTo>
                        <a:pt x="62" y="123"/>
                      </a:lnTo>
                      <a:lnTo>
                        <a:pt x="68" y="130"/>
                      </a:lnTo>
                      <a:lnTo>
                        <a:pt x="76" y="136"/>
                      </a:lnTo>
                      <a:lnTo>
                        <a:pt x="85" y="140"/>
                      </a:lnTo>
                      <a:lnTo>
                        <a:pt x="95" y="143"/>
                      </a:lnTo>
                      <a:lnTo>
                        <a:pt x="106" y="144"/>
                      </a:lnTo>
                      <a:lnTo>
                        <a:pt x="117" y="143"/>
                      </a:lnTo>
                      <a:lnTo>
                        <a:pt x="127" y="140"/>
                      </a:lnTo>
                      <a:lnTo>
                        <a:pt x="136" y="136"/>
                      </a:lnTo>
                      <a:lnTo>
                        <a:pt x="143" y="130"/>
                      </a:lnTo>
                      <a:lnTo>
                        <a:pt x="150" y="123"/>
                      </a:lnTo>
                      <a:lnTo>
                        <a:pt x="154" y="116"/>
                      </a:lnTo>
                      <a:lnTo>
                        <a:pt x="157" y="107"/>
                      </a:lnTo>
                      <a:lnTo>
                        <a:pt x="158" y="97"/>
                      </a:lnTo>
                      <a:lnTo>
                        <a:pt x="157" y="87"/>
                      </a:lnTo>
                      <a:lnTo>
                        <a:pt x="154" y="79"/>
                      </a:lnTo>
                      <a:lnTo>
                        <a:pt x="150" y="70"/>
                      </a:lnTo>
                      <a:lnTo>
                        <a:pt x="143" y="63"/>
                      </a:lnTo>
                      <a:lnTo>
                        <a:pt x="136" y="57"/>
                      </a:lnTo>
                      <a:lnTo>
                        <a:pt x="127" y="53"/>
                      </a:lnTo>
                      <a:lnTo>
                        <a:pt x="117" y="50"/>
                      </a:lnTo>
                      <a:lnTo>
                        <a:pt x="106" y="49"/>
                      </a:lnTo>
                      <a:lnTo>
                        <a:pt x="95" y="50"/>
                      </a:lnTo>
                      <a:lnTo>
                        <a:pt x="85" y="53"/>
                      </a:lnTo>
                      <a:lnTo>
                        <a:pt x="76" y="57"/>
                      </a:lnTo>
                      <a:lnTo>
                        <a:pt x="68" y="63"/>
                      </a:lnTo>
                      <a:lnTo>
                        <a:pt x="62" y="70"/>
                      </a:lnTo>
                      <a:lnTo>
                        <a:pt x="57" y="79"/>
                      </a:lnTo>
                      <a:lnTo>
                        <a:pt x="54" y="87"/>
                      </a:lnTo>
                      <a:lnTo>
                        <a:pt x="52" y="97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314440" y="4128840"/>
                  <a:ext cx="111240" cy="10188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0" y="97"/>
                      </a:moveTo>
                      <a:lnTo>
                        <a:pt x="3" y="77"/>
                      </a:lnTo>
                      <a:lnTo>
                        <a:pt x="8" y="59"/>
                      </a:lnTo>
                      <a:lnTo>
                        <a:pt x="18" y="43"/>
                      </a:lnTo>
                      <a:lnTo>
                        <a:pt x="31" y="29"/>
                      </a:lnTo>
                      <a:lnTo>
                        <a:pt x="46" y="17"/>
                      </a:lnTo>
                      <a:lnTo>
                        <a:pt x="65" y="7"/>
                      </a:lnTo>
                      <a:lnTo>
                        <a:pt x="84" y="1"/>
                      </a:lnTo>
                      <a:lnTo>
                        <a:pt x="106" y="0"/>
                      </a:lnTo>
                      <a:lnTo>
                        <a:pt x="127" y="1"/>
                      </a:lnTo>
                      <a:lnTo>
                        <a:pt x="147" y="7"/>
                      </a:lnTo>
                      <a:lnTo>
                        <a:pt x="165" y="17"/>
                      </a:lnTo>
                      <a:lnTo>
                        <a:pt x="180" y="29"/>
                      </a:lnTo>
                      <a:lnTo>
                        <a:pt x="193" y="43"/>
                      </a:lnTo>
                      <a:lnTo>
                        <a:pt x="203" y="59"/>
                      </a:lnTo>
                      <a:lnTo>
                        <a:pt x="209" y="77"/>
                      </a:lnTo>
                      <a:lnTo>
                        <a:pt x="211" y="97"/>
                      </a:lnTo>
                      <a:lnTo>
                        <a:pt x="209" y="117"/>
                      </a:lnTo>
                      <a:lnTo>
                        <a:pt x="203" y="134"/>
                      </a:lnTo>
                      <a:lnTo>
                        <a:pt x="193" y="150"/>
                      </a:lnTo>
                      <a:lnTo>
                        <a:pt x="180" y="164"/>
                      </a:lnTo>
                      <a:lnTo>
                        <a:pt x="165" y="177"/>
                      </a:lnTo>
                      <a:lnTo>
                        <a:pt x="147" y="186"/>
                      </a:lnTo>
                      <a:lnTo>
                        <a:pt x="127" y="192"/>
                      </a:lnTo>
                      <a:lnTo>
                        <a:pt x="106" y="193"/>
                      </a:lnTo>
                      <a:lnTo>
                        <a:pt x="84" y="192"/>
                      </a:lnTo>
                      <a:lnTo>
                        <a:pt x="65" y="186"/>
                      </a:lnTo>
                      <a:lnTo>
                        <a:pt x="46" y="177"/>
                      </a:lnTo>
                      <a:lnTo>
                        <a:pt x="31" y="164"/>
                      </a:lnTo>
                      <a:lnTo>
                        <a:pt x="18" y="150"/>
                      </a:lnTo>
                      <a:lnTo>
                        <a:pt x="8" y="134"/>
                      </a:lnTo>
                      <a:lnTo>
                        <a:pt x="3" y="117"/>
                      </a:lnTo>
                      <a:lnTo>
                        <a:pt x="0" y="97"/>
                      </a:lnTo>
                      <a:close/>
                      <a:moveTo>
                        <a:pt x="52" y="97"/>
                      </a:moveTo>
                      <a:lnTo>
                        <a:pt x="53" y="107"/>
                      </a:lnTo>
                      <a:lnTo>
                        <a:pt x="56" y="116"/>
                      </a:lnTo>
                      <a:lnTo>
                        <a:pt x="62" y="123"/>
                      </a:lnTo>
                      <a:lnTo>
                        <a:pt x="68" y="130"/>
                      </a:lnTo>
                      <a:lnTo>
                        <a:pt x="76" y="136"/>
                      </a:lnTo>
                      <a:lnTo>
                        <a:pt x="84" y="140"/>
                      </a:lnTo>
                      <a:lnTo>
                        <a:pt x="94" y="143"/>
                      </a:lnTo>
                      <a:lnTo>
                        <a:pt x="106" y="144"/>
                      </a:lnTo>
                      <a:lnTo>
                        <a:pt x="117" y="143"/>
                      </a:lnTo>
                      <a:lnTo>
                        <a:pt x="127" y="140"/>
                      </a:lnTo>
                      <a:lnTo>
                        <a:pt x="135" y="136"/>
                      </a:lnTo>
                      <a:lnTo>
                        <a:pt x="142" y="130"/>
                      </a:lnTo>
                      <a:lnTo>
                        <a:pt x="149" y="123"/>
                      </a:lnTo>
                      <a:lnTo>
                        <a:pt x="154" y="116"/>
                      </a:lnTo>
                      <a:lnTo>
                        <a:pt x="156" y="107"/>
                      </a:lnTo>
                      <a:lnTo>
                        <a:pt x="158" y="97"/>
                      </a:lnTo>
                      <a:lnTo>
                        <a:pt x="156" y="87"/>
                      </a:lnTo>
                      <a:lnTo>
                        <a:pt x="154" y="79"/>
                      </a:lnTo>
                      <a:lnTo>
                        <a:pt x="149" y="70"/>
                      </a:lnTo>
                      <a:lnTo>
                        <a:pt x="142" y="63"/>
                      </a:lnTo>
                      <a:lnTo>
                        <a:pt x="135" y="57"/>
                      </a:lnTo>
                      <a:lnTo>
                        <a:pt x="127" y="53"/>
                      </a:lnTo>
                      <a:lnTo>
                        <a:pt x="117" y="50"/>
                      </a:lnTo>
                      <a:lnTo>
                        <a:pt x="106" y="49"/>
                      </a:lnTo>
                      <a:lnTo>
                        <a:pt x="94" y="50"/>
                      </a:lnTo>
                      <a:lnTo>
                        <a:pt x="84" y="53"/>
                      </a:lnTo>
                      <a:lnTo>
                        <a:pt x="76" y="57"/>
                      </a:lnTo>
                      <a:lnTo>
                        <a:pt x="68" y="63"/>
                      </a:lnTo>
                      <a:lnTo>
                        <a:pt x="62" y="70"/>
                      </a:lnTo>
                      <a:lnTo>
                        <a:pt x="56" y="79"/>
                      </a:lnTo>
                      <a:lnTo>
                        <a:pt x="53" y="87"/>
                      </a:lnTo>
                      <a:lnTo>
                        <a:pt x="52" y="97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387520" y="4046400"/>
                  <a:ext cx="428760" cy="74520"/>
                </a:xfrm>
                <a:prstGeom prst="rect">
                  <a:avLst/>
                </a:prstGeom>
                <a:solidFill>
                  <a:srgbClr val="00cc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859440" y="3511440"/>
                  <a:ext cx="747720" cy="693720"/>
                </a:xfrm>
                <a:prstGeom prst="rect">
                  <a:avLst/>
                </a:prstGeom>
                <a:solidFill>
                  <a:srgbClr val="999999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6960960" y="3570120"/>
                  <a:ext cx="568080" cy="536400"/>
                  <a:chOff x="6960960" y="3570120"/>
                  <a:chExt cx="568080" cy="5364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6960960" y="3570120"/>
                    <a:ext cx="568080" cy="536400"/>
                  </a:xfrm>
                  <a:prstGeom prst="ellipse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960960" y="3570120"/>
                    <a:ext cx="568080" cy="53640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9" name=""/>
                <p:cNvSpPr/>
                <p:nvPr/>
              </p:nvSpPr>
              <p:spPr>
                <a:xfrm>
                  <a:off x="6359400" y="3759120"/>
                  <a:ext cx="495360" cy="455760"/>
                </a:xfrm>
                <a:prstGeom prst="rect">
                  <a:avLst/>
                </a:prstGeom>
                <a:solidFill>
                  <a:srgbClr val="a6a6a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139920" y="3612960"/>
                  <a:ext cx="2189160" cy="61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1" name=""/>
                <p:cNvSpPr/>
                <p:nvPr/>
              </p:nvSpPr>
              <p:spPr>
                <a:xfrm>
                  <a:off x="1301760" y="4325760"/>
                  <a:ext cx="1347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ISTEMA DI CAMPIONAMENT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321000" y="442116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NCO A RULL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>
                <a:off x="1187280" y="3935160"/>
                <a:ext cx="561960" cy="209880"/>
              </a:xfrm>
              <a:prstGeom prst="rect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187280" y="3725640"/>
                <a:ext cx="561960" cy="209520"/>
              </a:xfrm>
              <a:prstGeom prst="rect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187280" y="3516120"/>
                <a:ext cx="561960" cy="209520"/>
              </a:xfrm>
              <a:prstGeom prst="rect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187280" y="3306600"/>
                <a:ext cx="561960" cy="209520"/>
              </a:xfrm>
              <a:prstGeom prst="rect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92080" y="2830320"/>
                <a:ext cx="134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ISTEMA DI ANALIS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58960" y="3925800"/>
                <a:ext cx="209520" cy="74520"/>
              </a:xfrm>
              <a:prstGeom prst="leftRightArrow">
                <a:avLst>
                  <a:gd name="adj1" fmla="val 50000"/>
                  <a:gd name="adj2" fmla="val 55971"/>
                </a:avLst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16480" y="4411440"/>
                <a:ext cx="134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ISTEMA DI VENTILAZION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892080" y="2830320"/>
              <a:ext cx="134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STEMA DI ANALIS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776160" y="26028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ini CVS-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327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743040" y="763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alisi eseg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8080" y="1260000"/>
            <a:ext cx="8153640" cy="47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assosi regolamen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ORIBA MEXA 7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ni BTX 900 (con rivelatore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posti carboni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rappola di dinitro fenil idrazina su gel di silice e successiva H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PA su filtro di partico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trazione con diclorometano e analisi con H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04520" y="765000"/>
            <a:ext cx="84200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icoli di prov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200160" y="1916280"/>
          <a:ext cx="9505800" cy="436536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368720"/>
                <a:gridCol w="1390320"/>
                <a:gridCol w="1417680"/>
                <a:gridCol w="1297080"/>
              </a:tblGrid>
              <a:tr h="69336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io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ttura dies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ttura benz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orist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rg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lindrata [cm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tenza massima [kw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ico simulato[kg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o di immatr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m percor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4.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0.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.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molog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l Proget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99061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presente lavoro sperimentale è stato svolto per conto della Regione Emilia Romagna – Assessorato Agricoltura Ambiente e sviluppo sostenibile Servizio Risanamento Atmosferico, Acustico elettromagnetic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biettivo: ottenimento di fattori di emissione di veicoli e mezzi pesanti, secondo cicli di guida rappresentativi delle reali condizioni di esercizio autostrad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attività è stata svolta da EniTecnologie del periodo feb.-ott. 200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906120" cy="615636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1136520" y="4869000"/>
            <a:ext cx="79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76520" y="4653000"/>
            <a:ext cx="79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089240" y="3573360"/>
            <a:ext cx="79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529240" y="2133720"/>
            <a:ext cx="79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69240" y="4221000"/>
            <a:ext cx="79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81960" y="3933720"/>
            <a:ext cx="79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0" y="387360"/>
            <a:ext cx="99061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990612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90612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0160" y="692280"/>
            <a:ext cx="85532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si del proget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1240" y="2349360"/>
            <a:ext cx="6946920" cy="2951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ilievo percorsi strad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elta cic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ve su banco a rul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990612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776160" y="4508640"/>
            <a:ext cx="72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76160" y="4508640"/>
            <a:ext cx="7201080" cy="98712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cc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i Eur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990612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4581720" cy="606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24200" y="1287360"/>
            <a:ext cx="1503360" cy="505080"/>
          </a:xfrm>
          <a:custGeom>
            <a:avLst/>
            <a:gdLst/>
            <a:ahLst/>
            <a:rect l="l" t="t" r="r" b="b"/>
            <a:pathLst>
              <a:path w="947" h="318">
                <a:moveTo>
                  <a:pt x="0" y="0"/>
                </a:moveTo>
                <a:cubicBezTo>
                  <a:pt x="49" y="9"/>
                  <a:pt x="94" y="23"/>
                  <a:pt x="144" y="30"/>
                </a:cubicBezTo>
                <a:cubicBezTo>
                  <a:pt x="201" y="45"/>
                  <a:pt x="256" y="57"/>
                  <a:pt x="311" y="76"/>
                </a:cubicBezTo>
                <a:cubicBezTo>
                  <a:pt x="347" y="112"/>
                  <a:pt x="399" y="120"/>
                  <a:pt x="447" y="136"/>
                </a:cubicBezTo>
                <a:cubicBezTo>
                  <a:pt x="483" y="148"/>
                  <a:pt x="516" y="165"/>
                  <a:pt x="553" y="174"/>
                </a:cubicBezTo>
                <a:cubicBezTo>
                  <a:pt x="582" y="193"/>
                  <a:pt x="612" y="202"/>
                  <a:pt x="644" y="212"/>
                </a:cubicBezTo>
                <a:cubicBezTo>
                  <a:pt x="659" y="217"/>
                  <a:pt x="689" y="227"/>
                  <a:pt x="689" y="227"/>
                </a:cubicBezTo>
                <a:cubicBezTo>
                  <a:pt x="741" y="261"/>
                  <a:pt x="812" y="275"/>
                  <a:pt x="871" y="296"/>
                </a:cubicBezTo>
                <a:cubicBezTo>
                  <a:pt x="893" y="304"/>
                  <a:pt x="923" y="318"/>
                  <a:pt x="947" y="3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1052640"/>
            <a:ext cx="165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° tra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1320" y="1494000"/>
            <a:ext cx="1582560" cy="384120"/>
          </a:xfrm>
          <a:custGeom>
            <a:avLst/>
            <a:gdLst/>
            <a:ahLst/>
            <a:rect l="l" t="t" r="r" b="b"/>
            <a:pathLst>
              <a:path w="997" h="242">
                <a:moveTo>
                  <a:pt x="0" y="181"/>
                </a:moveTo>
                <a:cubicBezTo>
                  <a:pt x="45" y="165"/>
                  <a:pt x="91" y="148"/>
                  <a:pt x="137" y="135"/>
                </a:cubicBezTo>
                <a:cubicBezTo>
                  <a:pt x="150" y="131"/>
                  <a:pt x="177" y="127"/>
                  <a:pt x="190" y="120"/>
                </a:cubicBezTo>
                <a:cubicBezTo>
                  <a:pt x="230" y="98"/>
                  <a:pt x="239" y="88"/>
                  <a:pt x="281" y="75"/>
                </a:cubicBezTo>
                <a:cubicBezTo>
                  <a:pt x="324" y="44"/>
                  <a:pt x="334" y="53"/>
                  <a:pt x="394" y="59"/>
                </a:cubicBezTo>
                <a:cubicBezTo>
                  <a:pt x="459" y="82"/>
                  <a:pt x="522" y="56"/>
                  <a:pt x="584" y="37"/>
                </a:cubicBezTo>
                <a:cubicBezTo>
                  <a:pt x="592" y="32"/>
                  <a:pt x="599" y="26"/>
                  <a:pt x="607" y="22"/>
                </a:cubicBezTo>
                <a:cubicBezTo>
                  <a:pt x="621" y="15"/>
                  <a:pt x="652" y="6"/>
                  <a:pt x="652" y="6"/>
                </a:cubicBezTo>
                <a:cubicBezTo>
                  <a:pt x="735" y="12"/>
                  <a:pt x="762" y="0"/>
                  <a:pt x="819" y="37"/>
                </a:cubicBezTo>
                <a:cubicBezTo>
                  <a:pt x="824" y="44"/>
                  <a:pt x="828" y="53"/>
                  <a:pt x="834" y="59"/>
                </a:cubicBezTo>
                <a:cubicBezTo>
                  <a:pt x="841" y="66"/>
                  <a:pt x="852" y="67"/>
                  <a:pt x="857" y="75"/>
                </a:cubicBezTo>
                <a:cubicBezTo>
                  <a:pt x="878" y="109"/>
                  <a:pt x="866" y="131"/>
                  <a:pt x="895" y="158"/>
                </a:cubicBezTo>
                <a:cubicBezTo>
                  <a:pt x="907" y="197"/>
                  <a:pt x="907" y="193"/>
                  <a:pt x="940" y="211"/>
                </a:cubicBezTo>
                <a:cubicBezTo>
                  <a:pt x="997" y="242"/>
                  <a:pt x="967" y="241"/>
                  <a:pt x="993" y="24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68520" y="1989000"/>
            <a:ext cx="165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2° tra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76760" y="4067280"/>
            <a:ext cx="215640" cy="1046160"/>
          </a:xfrm>
          <a:custGeom>
            <a:avLst/>
            <a:gdLst/>
            <a:ahLst/>
            <a:rect l="l" t="t" r="r" b="b"/>
            <a:pathLst>
              <a:path w="136" h="659">
                <a:moveTo>
                  <a:pt x="38" y="0"/>
                </a:moveTo>
                <a:cubicBezTo>
                  <a:pt x="7" y="45"/>
                  <a:pt x="18" y="93"/>
                  <a:pt x="0" y="144"/>
                </a:cubicBezTo>
                <a:cubicBezTo>
                  <a:pt x="7" y="202"/>
                  <a:pt x="12" y="352"/>
                  <a:pt x="38" y="379"/>
                </a:cubicBezTo>
                <a:cubicBezTo>
                  <a:pt x="58" y="440"/>
                  <a:pt x="78" y="501"/>
                  <a:pt x="98" y="561"/>
                </a:cubicBezTo>
                <a:cubicBezTo>
                  <a:pt x="107" y="587"/>
                  <a:pt x="117" y="638"/>
                  <a:pt x="136" y="659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71800" y="4437000"/>
            <a:ext cx="165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° tra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84880" y="620640"/>
            <a:ext cx="392256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1° tra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Aut. A1 Modena su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Bologna Borgopani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Verdana"/>
              </a:rPr>
              <a:t>2° tra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Verdana"/>
              </a:rPr>
              <a:t>Tang. Bologna fin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Verdana"/>
              </a:rPr>
              <a:t>San Lazz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3° tra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Aut. A1 Rioveggi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ian del Vog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40968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40968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990612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9061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4200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clusioni (1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60160" y="1628280"/>
            <a:ext cx="87469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 emissioni, sia dei mezzi pesanti che delle vetture, dipendono fortemente dalla tipologia di ciclo simul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 le emissioni regolamentate, i mezzi pesanti si differenziano maggiormente nel ciclo a traffico intenso rispetto a quelli a traffico scorrev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i HD evidenziano un andamento delle emissioni di BTEX  analogo alle emissioni di HC to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generale, i valori di emissioni ottenuti sono coerenti con quelli riscontrati nella precedente sperimentazione sugli auto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9800" y="62028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nsore rilievi di velocità  - Microsta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9800" y="2060640"/>
            <a:ext cx="489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mpo di misura : 0.5 – 400 km/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uratezza della misura: &lt; 1 % del valore misurato, sotto i 50 km/h &lt; 0.5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quisitore dati DARW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9240" y="1557360"/>
            <a:ext cx="4133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84200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clusioni (2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44160" y="1268280"/>
            <a:ext cx="9217080" cy="482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 cicli di prova differiscono sensibilmente da quelli utilizzati nell’omologazione dei veicoli e presentano caratteristiche che causano delle criticità nel funzionamento del catalizzatore sia nei veicoli diesel che in quelli a benz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atteso, le emissioni della vettura benzina sono più basse dei veicoli diesel in termini di NOx e più critiche per il monossido di carbon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l furgone per trasporto merci ha emissioni che lo collocano tra la vettura ed il fuoristrad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l veicolo più critico, tra i diesel light duty, è senza dubbio il fuoristrada che denuncia valori doppi di CO e tripli di HC rispetto ad una  vettura di classe media (EURO 2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04520" y="620280"/>
            <a:ext cx="84200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clusioni (3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44160" y="1557000"/>
            <a:ext cx="92170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n condizioni di traffico scorrevole, le emissioni in termini di PM dei mezzi pesanti sono circa 10 volte quelle dei veicoli Light Duty ed in termini di NOx circa 8 vol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n condizioni di traffico intenso, le emissioni di mezzi pesanti sono da 10 a 15 volte quelle dei veicoli Light Duty per il PM e circa 8 volte per gli N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00160" y="1052640"/>
            <a:ext cx="619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Riepilogo rilievi su s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31880" y="2421000"/>
          <a:ext cx="8496360" cy="2547720"/>
        </p:xfrm>
        <a:graphic>
          <a:graphicData uri="http://schemas.openxmlformats.org/drawingml/2006/table">
            <a:tbl>
              <a:tblPr/>
              <a:tblGrid>
                <a:gridCol w="1800360"/>
                <a:gridCol w="3095280"/>
                <a:gridCol w="3600720"/>
              </a:tblGrid>
              <a:tr h="97092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hh:mm:s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nghezza 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km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t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:23: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:04: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9144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as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84520" y="1557360"/>
            <a:ext cx="694656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lievo percorsi stra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elta ci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e su banco a r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81160"/>
            <a:ext cx="990612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28440" y="338040"/>
            <a:ext cx="99057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10:50:32Z</dcterms:created>
  <dc:creator>faalberici</dc:creator>
  <dc:description/>
  <dc:language>en-US</dc:language>
  <cp:lastModifiedBy>ramponi_l</cp:lastModifiedBy>
  <dcterms:modified xsi:type="dcterms:W3CDTF">2005-06-17T11:12:21Z</dcterms:modified>
  <cp:revision>81</cp:revision>
  <dc:subject/>
  <dc:title>Nessun titolo diapositiva</dc:title>
</cp:coreProperties>
</file>