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2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8BD-B7BA-4CA3-90A1-2D06CA16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350-901C-4F31-9A84-E863463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28E-84AD-4FDA-ACD5-066C2D6F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9C-9344-45C7-95F0-14A4F29A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EF2B-BC7E-4876-82B2-D544E5D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1FAD-0066-4EF5-8DC6-96AAE15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A53-F365-41A5-9375-8FB6F87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6C9-D544-4542-9ABB-21D0FEB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06B-A408-4737-8C57-B1DC9E5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D60-9FD5-4101-9883-26C02C11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AB1-0226-4E05-A6B6-AF53124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286-6082-42C2-95DD-A435D170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E44-39D0-44D1-B4A4-69A912A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598C-3785-4D54-BBF7-DAF3247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6B5-314F-468E-BCBE-424EC95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6F2-15A3-4329-A9FB-C904E1C1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762-C4E5-4082-BDB5-0A987073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B99-C5F1-4373-ACB7-621C3FD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717-4241-4A11-AA39-EE43AE5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A07-1002-4FBD-A945-1193713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421-C85C-4935-A366-F6FA3E7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E59-9C82-4D1D-9F4F-619D56C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9BC-0346-414D-8852-CF28E233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0AF-3412-4C60-AC3D-A05CFAD8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885-467A-4864-96BF-627089DEFE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EDE7-7706-4F83-9A0B-F4F0B9141B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MISSIONI DI PM DA VEICOLI A DUE RU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7129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X EXPERT PANEL “Emissioni da trasporto su strad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TAZIONE SPERIMENTALE PER I COMBUSTIBI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. DONATO MILAN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1/06/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933720"/>
            <a:ext cx="388764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P.Picini*; P. Spezzano*; F. Messale*; C. Manni*; D. Cataldi*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. Donato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*ENEA PROT-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** COMUNE di ROMA Dipartimento X U.O. Inquinamento acustico ed atmosfe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5589720"/>
          <a:ext cx="714600" cy="86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589720"/>
                    <a:ext cx="714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740720" y="5805360"/>
            <a:ext cx="115236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0920" y="1042920"/>
            <a:ext cx="834228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55680" y="554040"/>
            <a:ext cx="8319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95280" y="1133640"/>
            <a:ext cx="83199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28760" y="917640"/>
            <a:ext cx="8319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8760" y="1062000"/>
            <a:ext cx="8319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28760" y="990720"/>
            <a:ext cx="83199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28760" y="917640"/>
            <a:ext cx="8319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9080" cy="51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ve descrizione dell’attività sv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L’attività è stata condotta nell’ambito di una collaborazione tra ENEA PROT-ANT e COMUNE di ROMA Dipartimento X U. O. Prevenzione dell’inquinamento Atmosferico ed Acustic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Obiettivo dell’attività sperimentale: stima delle emissioni di PM da parte dei veicoli a due ruo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Le prove sono state eseguite su un banco a rulli  per veicoli a due ruote. Come cicli di prova sono stati utilizzati quelli di omologazione: ECE 47 per i ciclomotori ed ECE 40 per gli scoot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La procedura di prova adottata è quella in uso per i veicoli dies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Per i ciclomotori i prelievi di PM sono stati effettuati sia durante la fase a freddo del ciclo che durante quella a cald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Per gli scooter i  prelievi di PM sono stati effettuati sia durante l’intero ciclo che durante la fase a cald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Per i ciclomotori è stato utilizzato lo stesso tipo di olio completamente sintetic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La distribuzione in massa dei diametri aerodinamici è stata effettuata utilizzando un impattore a cascata a 3 stadi più filtro finale (DEKATI PM 10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ICLOMOTO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emissioni di PM dei ciclomotori dipendono dai consumi di olio lubrifica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emissioni di PM dei ciclomotori pre-Euro I ed Euro I sono in linea con i risultati di altre attività speriment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emissioni dei due ciclomotori Euro II sono troppo diverse tra loro per poter assegnare un unico fattore di emissione a questa tipologia di ciclomot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Sono necessarie altre indagini speriment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e atteso, oltre il 98% della massa di PM emessa ha un diametro aerodinamico inferiore ad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 eccezione del ciclomotore CM8 le emissioni a freddo sono sensibilmente più elevate di quelle a cal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SCOO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emissioni di PM sono, come atteso, molto bas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sembrano esistere sostanziali differenze tra le emissioni degli scooter pre-Euro I e quelli Euro 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sono state riscontrate differenze significative tra le emissioni misurate sull’intero ciclo da quelle misurate durante la fase a cal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ltre il 94% della massa di PM emessa ha un diametro aerodinamico inferiore ad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476720" y="1628640"/>
            <a:ext cx="6430680" cy="4201920"/>
            <a:chOff x="1476720" y="1628640"/>
            <a:chExt cx="6430680" cy="4201920"/>
          </a:xfrm>
        </p:grpSpPr>
        <p:sp>
          <p:nvSpPr>
            <p:cNvPr id="165" name=""/>
            <p:cNvSpPr/>
            <p:nvPr/>
          </p:nvSpPr>
          <p:spPr>
            <a:xfrm rot="5400000">
              <a:off x="4284000" y="2259000"/>
              <a:ext cx="819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Sampling s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3618360" y="5047200"/>
              <a:ext cx="1032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ld emiss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05560" y="3351960"/>
              <a:ext cx="129960" cy="284400"/>
              <a:chOff x="4705560" y="3351960"/>
              <a:chExt cx="129960" cy="284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705560" y="3351960"/>
                <a:ext cx="129600" cy="1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46240" y="3351960"/>
                <a:ext cx="3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35520" y="3414600"/>
                <a:ext cx="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780800" y="4455000"/>
              <a:ext cx="257040" cy="173520"/>
              <a:chOff x="4780800" y="4455000"/>
              <a:chExt cx="257040" cy="173520"/>
            </a:xfrm>
          </p:grpSpPr>
          <p:sp>
            <p:nvSpPr>
              <p:cNvPr id="172" name=""/>
              <p:cNvSpPr/>
              <p:nvPr/>
            </p:nvSpPr>
            <p:spPr>
              <a:xfrm>
                <a:off x="4780800" y="4455000"/>
                <a:ext cx="257040" cy="17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52160" y="4505400"/>
                <a:ext cx="65880" cy="64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13920" y="4475520"/>
                <a:ext cx="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23640" y="4616280"/>
                <a:ext cx="1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844160" y="4476600"/>
                <a:ext cx="1512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12840" y="4476600"/>
                <a:ext cx="900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17880" y="4537080"/>
                <a:ext cx="32400" cy="3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839120" y="390780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818240" y="4079880"/>
              <a:ext cx="39960" cy="72360"/>
              <a:chOff x="4818240" y="4079880"/>
              <a:chExt cx="39960" cy="72360"/>
            </a:xfrm>
          </p:grpSpPr>
          <p:sp>
            <p:nvSpPr>
              <p:cNvPr id="181" name=""/>
              <p:cNvSpPr/>
              <p:nvPr/>
            </p:nvSpPr>
            <p:spPr>
              <a:xfrm>
                <a:off x="4820040" y="4080600"/>
                <a:ext cx="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818600" y="4152240"/>
                <a:ext cx="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818240" y="4080600"/>
                <a:ext cx="3852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19680" y="4079880"/>
                <a:ext cx="3852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rot="5400000">
              <a:off x="4740120" y="3758760"/>
              <a:ext cx="186120" cy="10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79360" y="3640320"/>
              <a:ext cx="106200" cy="7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4785480" y="3781440"/>
              <a:ext cx="9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782960" y="3842640"/>
              <a:ext cx="9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9120" y="415980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1227600" y="3790080"/>
              <a:ext cx="7527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0800" anchor="t" vert="eaVert" rot="10800000">
              <a:noAutofit/>
            </a:bodyPr>
            <a:p>
              <a:pPr algn="r">
                <a:lnSpc>
                  <a:spcPct val="96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012080" y="5297400"/>
              <a:ext cx="533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 rot="10800000">
              <a:noAutofit/>
            </a:bodyPr>
            <a:p>
              <a:pPr algn="r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1958040" y="4029120"/>
              <a:ext cx="69120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HEPA fil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6770160" y="3488760"/>
              <a:ext cx="5976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V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F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26880" y="3755880"/>
              <a:ext cx="131760" cy="432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9360" y="3909960"/>
              <a:ext cx="87480" cy="126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58640" y="3938760"/>
              <a:ext cx="85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1160" y="3960360"/>
              <a:ext cx="87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1160" y="3982320"/>
              <a:ext cx="87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58640" y="4003920"/>
              <a:ext cx="85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1160" y="4023720"/>
              <a:ext cx="87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2610360" y="4188600"/>
              <a:ext cx="1699920" cy="784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3381840" y="5108760"/>
              <a:ext cx="157320" cy="336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6200000">
              <a:off x="3348360" y="4182840"/>
              <a:ext cx="25272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38" y="954"/>
                  </a:moveTo>
                  <a:arcTo wR="10800" hR="10800" stAng="-3944189" swAng="7638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38" y="954"/>
                  </a:moveTo>
                  <a:arcTo wR="10800" hR="10800" stAng="-3944189" swAng="7638217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3435120" y="4480920"/>
              <a:ext cx="63000" cy="68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731800">
              <a:off x="3285360" y="4446360"/>
              <a:ext cx="19800" cy="90000"/>
            </a:xfrm>
            <a:prstGeom prst="rect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4168800">
              <a:off x="3631320" y="4453200"/>
              <a:ext cx="19800" cy="874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3437640" y="4370400"/>
              <a:ext cx="59400" cy="288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348000" y="4343040"/>
              <a:ext cx="237240" cy="437400"/>
              <a:chOff x="3348000" y="4343040"/>
              <a:chExt cx="237240" cy="437400"/>
            </a:xfrm>
          </p:grpSpPr>
          <p:sp>
            <p:nvSpPr>
              <p:cNvPr id="209" name=""/>
              <p:cNvSpPr/>
              <p:nvPr/>
            </p:nvSpPr>
            <p:spPr>
              <a:xfrm flipH="1" rot="16200000">
                <a:off x="3249360" y="4441680"/>
                <a:ext cx="434160" cy="23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 rot="16200000">
                <a:off x="3248640" y="4444920"/>
                <a:ext cx="434160" cy="23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>
              <a:off x="3350520" y="4132080"/>
              <a:ext cx="0" cy="35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578400" y="4132080"/>
              <a:ext cx="2160" cy="35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407400" y="4619520"/>
              <a:ext cx="41040" cy="75240"/>
              <a:chOff x="3407400" y="4619520"/>
              <a:chExt cx="41040" cy="75240"/>
            </a:xfrm>
          </p:grpSpPr>
          <p:sp>
            <p:nvSpPr>
              <p:cNvPr id="214" name=""/>
              <p:cNvSpPr/>
              <p:nvPr/>
            </p:nvSpPr>
            <p:spPr>
              <a:xfrm rot="16200000">
                <a:off x="3390480" y="4636800"/>
                <a:ext cx="74880" cy="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16200000">
                <a:off x="3390480" y="4636440"/>
                <a:ext cx="74880" cy="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483000" y="4623120"/>
              <a:ext cx="41040" cy="75240"/>
              <a:chOff x="3483000" y="4623120"/>
              <a:chExt cx="41040" cy="75240"/>
            </a:xfrm>
          </p:grpSpPr>
          <p:sp>
            <p:nvSpPr>
              <p:cNvPr id="217" name=""/>
              <p:cNvSpPr/>
              <p:nvPr/>
            </p:nvSpPr>
            <p:spPr>
              <a:xfrm rot="16200000">
                <a:off x="3466080" y="4640400"/>
                <a:ext cx="74880" cy="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6200000">
                <a:off x="3466080" y="4640040"/>
                <a:ext cx="74880" cy="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373200" y="4456440"/>
              <a:ext cx="186120" cy="64800"/>
              <a:chOff x="3373200" y="4456440"/>
              <a:chExt cx="186120" cy="64800"/>
            </a:xfrm>
          </p:grpSpPr>
          <p:sp>
            <p:nvSpPr>
              <p:cNvPr id="220" name=""/>
              <p:cNvSpPr/>
              <p:nvPr/>
            </p:nvSpPr>
            <p:spPr>
              <a:xfrm rot="16200000">
                <a:off x="3434040" y="4395960"/>
                <a:ext cx="64800" cy="18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 rot="16200000">
                <a:off x="3433680" y="4395600"/>
                <a:ext cx="64800" cy="18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rot="16200000">
              <a:off x="3334680" y="3974040"/>
              <a:ext cx="25056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30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30937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390840" y="4149000"/>
              <a:ext cx="147240" cy="1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130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130937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342960" y="4083480"/>
              <a:ext cx="33480" cy="15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549600" y="4097880"/>
              <a:ext cx="30960" cy="13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5340200">
              <a:off x="3189240" y="4005000"/>
              <a:ext cx="58500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04" y="342"/>
                  </a:moveTo>
                  <a:arcTo wR="10800" hR="10800" stAng="-6267431" swAng="6267431"/>
                  <a:lnTo>
                    <a:pt x="10800" y="10800"/>
                  </a:lnTo>
                  <a:close/>
                </a:path>
                <a:path fill="none" w="21600" h="21600">
                  <a:moveTo>
                    <a:pt x="8104" y="342"/>
                  </a:moveTo>
                  <a:arcTo wR="10800" hR="10800" stAng="-6267431" swAng="6267431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100000">
              <a:off x="3147120" y="4001760"/>
              <a:ext cx="585000" cy="32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8" y="187"/>
                  </a:moveTo>
                  <a:arcTo wR="10800" hR="10800" stAng="-6041119" swAng="6041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8" y="187"/>
                  </a:moveTo>
                  <a:arcTo wR="10800" hR="10800" stAng="-6041119" swAng="6041119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3409200" y="3847680"/>
              <a:ext cx="101160" cy="24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55" y="178"/>
                  </a:moveTo>
                  <a:arcTo wR="10800" hR="10800" stAng="-4774156" swAng="9709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55" y="178"/>
                  </a:moveTo>
                  <a:arcTo wR="10800" hR="10800" stAng="-4774156" swAng="9709179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3449880" y="3830760"/>
              <a:ext cx="25200" cy="1108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381840" y="3858840"/>
              <a:ext cx="0" cy="34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414960" y="3857400"/>
              <a:ext cx="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84360" y="3857400"/>
              <a:ext cx="2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387960" y="3773880"/>
              <a:ext cx="0" cy="8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402720" y="3836880"/>
              <a:ext cx="0" cy="16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71400" y="3772440"/>
              <a:ext cx="58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377520" y="3589200"/>
              <a:ext cx="0" cy="17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423600" y="3589200"/>
              <a:ext cx="0" cy="17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07040" y="3774240"/>
              <a:ext cx="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57000" y="3593160"/>
              <a:ext cx="91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273480" y="4083840"/>
              <a:ext cx="3096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77080" y="3962520"/>
              <a:ext cx="0" cy="12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3840" y="3960360"/>
              <a:ext cx="4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655800" y="3963960"/>
              <a:ext cx="0" cy="11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618720" y="4079880"/>
              <a:ext cx="3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03240" y="3964320"/>
              <a:ext cx="48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381840" y="3473280"/>
              <a:ext cx="0" cy="1191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423600" y="3493440"/>
              <a:ext cx="0" cy="9432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21486000">
              <a:off x="3380040" y="3333240"/>
              <a:ext cx="266400" cy="28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11" y="8"/>
                  </a:moveTo>
                  <a:arcTo wR="10800" hR="10800" stAng="-5269022" swAng="5269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11" y="8"/>
                  </a:moveTo>
                  <a:arcTo wR="10800" hR="10800" stAng="-5269022" swAng="5269022"/>
                </a:path>
              </a:pathLst>
            </a:cu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21486000">
              <a:off x="3424680" y="3378600"/>
              <a:ext cx="17424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1840" y="3517200"/>
              <a:ext cx="0" cy="75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423600" y="3523680"/>
              <a:ext cx="0" cy="6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18640" y="3377520"/>
              <a:ext cx="85320" cy="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03520" y="3332520"/>
              <a:ext cx="102240" cy="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79840" y="3524040"/>
              <a:ext cx="70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960" y="3524040"/>
              <a:ext cx="78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2640" y="3196440"/>
              <a:ext cx="138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4120" y="3196440"/>
              <a:ext cx="0" cy="12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24120" y="3390120"/>
              <a:ext cx="0" cy="13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4800" y="3161880"/>
              <a:ext cx="0" cy="41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3920" y="3161880"/>
              <a:ext cx="0" cy="41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77640" y="3094920"/>
              <a:ext cx="311400" cy="559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84720" y="3131280"/>
              <a:ext cx="169200" cy="6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484720" y="3527640"/>
              <a:ext cx="171360" cy="75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6360" y="3524040"/>
              <a:ext cx="158760" cy="8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03760" y="3130920"/>
              <a:ext cx="167400" cy="6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953360" y="3198600"/>
              <a:ext cx="50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957680" y="352260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3173040"/>
              <a:ext cx="0" cy="383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6360" y="3198600"/>
              <a:ext cx="25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76720" y="3288960"/>
              <a:ext cx="317520" cy="162720"/>
            </a:xfrm>
            <a:prstGeom prst="rightArrow">
              <a:avLst>
                <a:gd name="adj1" fmla="val 50000"/>
                <a:gd name="adj2" fmla="val 48783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407040" y="3623760"/>
              <a:ext cx="139680" cy="3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55360" y="3589200"/>
              <a:ext cx="156960" cy="86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9200" y="3140640"/>
              <a:ext cx="45720" cy="426960"/>
            </a:xfrm>
            <a:custGeom>
              <a:avLst/>
              <a:gdLst/>
              <a:ahLst/>
              <a:rect l="l" t="t" r="r" b="b"/>
              <a:pathLst>
                <a:path w="90" h="805">
                  <a:moveTo>
                    <a:pt x="90" y="25"/>
                  </a:moveTo>
                  <a:cubicBezTo>
                    <a:pt x="67" y="12"/>
                    <a:pt x="44" y="0"/>
                    <a:pt x="37" y="107"/>
                  </a:cubicBezTo>
                  <a:cubicBezTo>
                    <a:pt x="30" y="214"/>
                    <a:pt x="51" y="554"/>
                    <a:pt x="45" y="670"/>
                  </a:cubicBezTo>
                  <a:cubicBezTo>
                    <a:pt x="39" y="786"/>
                    <a:pt x="7" y="783"/>
                    <a:pt x="0" y="80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1520" y="3140640"/>
              <a:ext cx="43920" cy="426960"/>
            </a:xfrm>
            <a:custGeom>
              <a:avLst/>
              <a:gdLst/>
              <a:ahLst/>
              <a:rect l="l" t="t" r="r" b="b"/>
              <a:pathLst>
                <a:path w="90" h="805">
                  <a:moveTo>
                    <a:pt x="90" y="25"/>
                  </a:moveTo>
                  <a:cubicBezTo>
                    <a:pt x="67" y="12"/>
                    <a:pt x="44" y="0"/>
                    <a:pt x="37" y="107"/>
                  </a:cubicBezTo>
                  <a:cubicBezTo>
                    <a:pt x="30" y="214"/>
                    <a:pt x="51" y="554"/>
                    <a:pt x="45" y="670"/>
                  </a:cubicBezTo>
                  <a:cubicBezTo>
                    <a:pt x="39" y="786"/>
                    <a:pt x="7" y="783"/>
                    <a:pt x="0" y="80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25400" y="3198600"/>
              <a:ext cx="66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01560" y="3524040"/>
              <a:ext cx="784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83840" y="3170880"/>
              <a:ext cx="0" cy="36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04720" y="3170880"/>
              <a:ext cx="0" cy="36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4720" y="3198600"/>
              <a:ext cx="612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4720" y="3522600"/>
              <a:ext cx="612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3040" y="3290760"/>
              <a:ext cx="995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9160" y="3422520"/>
              <a:ext cx="99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7440" y="3170880"/>
              <a:ext cx="0" cy="36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34000" y="3170880"/>
              <a:ext cx="0" cy="36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74480" y="3267000"/>
              <a:ext cx="0" cy="18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56120" y="3267000"/>
              <a:ext cx="0" cy="18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8680" y="3198600"/>
              <a:ext cx="217440" cy="9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638680" y="3424680"/>
              <a:ext cx="217440" cy="9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74920" y="3243600"/>
              <a:ext cx="384840" cy="78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59760" y="3931920"/>
              <a:ext cx="267480" cy="82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427640" y="4469400"/>
              <a:ext cx="257040" cy="173880"/>
              <a:chOff x="4427640" y="4469400"/>
              <a:chExt cx="257040" cy="173880"/>
            </a:xfrm>
          </p:grpSpPr>
          <p:sp>
            <p:nvSpPr>
              <p:cNvPr id="292" name=""/>
              <p:cNvSpPr/>
              <p:nvPr/>
            </p:nvSpPr>
            <p:spPr>
              <a:xfrm>
                <a:off x="4427640" y="4469400"/>
                <a:ext cx="257040" cy="17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99000" y="4519800"/>
                <a:ext cx="65880" cy="6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60760" y="4489920"/>
                <a:ext cx="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70480" y="4631040"/>
                <a:ext cx="1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491000" y="4491360"/>
                <a:ext cx="1512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59680" y="4491360"/>
                <a:ext cx="900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64720" y="4551480"/>
                <a:ext cx="32400" cy="3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512480" y="4655520"/>
              <a:ext cx="150480" cy="586440"/>
            </a:xfrm>
            <a:prstGeom prst="downArrow">
              <a:avLst>
                <a:gd name="adj1" fmla="val 50000"/>
                <a:gd name="adj2" fmla="val 97428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2247480" y="4503960"/>
              <a:ext cx="13611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Dynamometer ben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714480" y="3636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344480" y="3373920"/>
              <a:ext cx="187200" cy="1088280"/>
              <a:chOff x="4344480" y="3373920"/>
              <a:chExt cx="187200" cy="1088280"/>
            </a:xfrm>
          </p:grpSpPr>
          <p:sp>
            <p:nvSpPr>
              <p:cNvPr id="303" name=""/>
              <p:cNvSpPr/>
              <p:nvPr/>
            </p:nvSpPr>
            <p:spPr>
              <a:xfrm>
                <a:off x="4344480" y="3373920"/>
                <a:ext cx="131040" cy="1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77600" y="3373920"/>
                <a:ext cx="3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75520" y="343800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73360" y="3763800"/>
                <a:ext cx="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4453920" y="4231080"/>
                <a:ext cx="39960" cy="71280"/>
                <a:chOff x="4453920" y="4231080"/>
                <a:chExt cx="39960" cy="712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455720" y="4231800"/>
                  <a:ext cx="3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454280" y="4302360"/>
                  <a:ext cx="3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4453920" y="4231800"/>
                  <a:ext cx="3852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55360" y="4231080"/>
                  <a:ext cx="3852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413600" y="3681000"/>
                <a:ext cx="118080" cy="165960"/>
                <a:chOff x="4413600" y="3681000"/>
                <a:chExt cx="118080" cy="165960"/>
              </a:xfrm>
            </p:grpSpPr>
            <p:sp>
              <p:nvSpPr>
                <p:cNvPr id="313" name=""/>
                <p:cNvSpPr/>
                <p:nvPr/>
              </p:nvSpPr>
              <p:spPr>
                <a:xfrm rot="10800000">
                  <a:off x="4413600" y="3762360"/>
                  <a:ext cx="118080" cy="8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413600" y="3681000"/>
                  <a:ext cx="118080" cy="7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413600" y="3905640"/>
                <a:ext cx="118080" cy="165960"/>
                <a:chOff x="4413600" y="3905640"/>
                <a:chExt cx="118080" cy="165960"/>
              </a:xfrm>
            </p:grpSpPr>
            <p:sp>
              <p:nvSpPr>
                <p:cNvPr id="316" name=""/>
                <p:cNvSpPr/>
                <p:nvPr/>
              </p:nvSpPr>
              <p:spPr>
                <a:xfrm rot="10800000">
                  <a:off x="4413600" y="3987000"/>
                  <a:ext cx="118080" cy="8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13600" y="3905640"/>
                  <a:ext cx="118080" cy="7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474800" y="3846240"/>
                <a:ext cx="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73360" y="4071240"/>
                <a:ext cx="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79120" y="430020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rot="5400000">
              <a:off x="4552920" y="4875120"/>
              <a:ext cx="8074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Cascade imp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26880" y="4188960"/>
              <a:ext cx="131760" cy="43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078800" y="3368520"/>
              <a:ext cx="185400" cy="1087920"/>
              <a:chOff x="4078800" y="3368520"/>
              <a:chExt cx="185400" cy="1087920"/>
            </a:xfrm>
          </p:grpSpPr>
          <p:sp>
            <p:nvSpPr>
              <p:cNvPr id="324" name=""/>
              <p:cNvSpPr/>
              <p:nvPr/>
            </p:nvSpPr>
            <p:spPr>
              <a:xfrm>
                <a:off x="4078800" y="3368520"/>
                <a:ext cx="129600" cy="1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11560" y="3368520"/>
                <a:ext cx="3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08400" y="343260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06600" y="3758040"/>
                <a:ext cx="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188240" y="4225320"/>
                <a:ext cx="39240" cy="71280"/>
                <a:chOff x="4188240" y="4225320"/>
                <a:chExt cx="39240" cy="712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189680" y="4226040"/>
                  <a:ext cx="3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88240" y="4296600"/>
                  <a:ext cx="3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4188240" y="4226040"/>
                  <a:ext cx="3816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189320" y="4225320"/>
                  <a:ext cx="3816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147560" y="3675240"/>
                <a:ext cx="116640" cy="165960"/>
                <a:chOff x="4147560" y="3675240"/>
                <a:chExt cx="116640" cy="165960"/>
              </a:xfrm>
            </p:grpSpPr>
            <p:sp>
              <p:nvSpPr>
                <p:cNvPr id="334" name=""/>
                <p:cNvSpPr/>
                <p:nvPr/>
              </p:nvSpPr>
              <p:spPr>
                <a:xfrm rot="10800000">
                  <a:off x="4147560" y="3756600"/>
                  <a:ext cx="116640" cy="8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47560" y="3675240"/>
                  <a:ext cx="116640" cy="7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147560" y="3899880"/>
                <a:ext cx="116640" cy="165960"/>
                <a:chOff x="4147560" y="3899880"/>
                <a:chExt cx="116640" cy="165960"/>
              </a:xfrm>
            </p:grpSpPr>
            <p:sp>
              <p:nvSpPr>
                <p:cNvPr id="337" name=""/>
                <p:cNvSpPr/>
                <p:nvPr/>
              </p:nvSpPr>
              <p:spPr>
                <a:xfrm rot="10800000">
                  <a:off x="4147560" y="3981240"/>
                  <a:ext cx="116640" cy="8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147560" y="3899880"/>
                  <a:ext cx="116640" cy="7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208040" y="3840840"/>
                <a:ext cx="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06600" y="4065480"/>
                <a:ext cx="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12360" y="429444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979800" y="4464000"/>
              <a:ext cx="257040" cy="173520"/>
              <a:chOff x="3979800" y="4464000"/>
              <a:chExt cx="257040" cy="173520"/>
            </a:xfrm>
          </p:grpSpPr>
          <p:sp>
            <p:nvSpPr>
              <p:cNvPr id="343" name=""/>
              <p:cNvSpPr/>
              <p:nvPr/>
            </p:nvSpPr>
            <p:spPr>
              <a:xfrm>
                <a:off x="3979800" y="4464000"/>
                <a:ext cx="257040" cy="17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51160" y="4514400"/>
                <a:ext cx="65880" cy="64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12920" y="4484520"/>
                <a:ext cx="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22640" y="4625280"/>
                <a:ext cx="1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043160" y="4485600"/>
                <a:ext cx="1512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11840" y="4485600"/>
                <a:ext cx="900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16880" y="4546080"/>
                <a:ext cx="32400" cy="3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5400000">
              <a:off x="4490640" y="2556360"/>
              <a:ext cx="88560" cy="934560"/>
            </a:xfrm>
            <a:custGeom>
              <a:avLst/>
              <a:gdLst>
                <a:gd name="textAreaLeft" fmla="*/ 56520 w 88560"/>
                <a:gd name="textAreaRight" fmla="*/ 88920 w 88560"/>
                <a:gd name="textAreaTop" fmla="*/ 24120 h 934560"/>
                <a:gd name="textAreaBottom" fmla="*/ 91044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7402320" y="3022560"/>
              <a:ext cx="660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Bl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3642840" y="3791880"/>
              <a:ext cx="4233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18960" y="3632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5003280" y="1811520"/>
              <a:ext cx="45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989520" y="5148000"/>
              <a:ext cx="11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Hot emiss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900000" y="1700280"/>
            <a:ext cx="770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62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emplificato del dispositivo speri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ECE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700280"/>
          <a:ext cx="8229600" cy="43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82296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LO ECE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46240" y="1600200"/>
          <a:ext cx="6851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600200"/>
                    <a:ext cx="6851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i caratteristiche degli scooter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e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68360" y="1844640"/>
          <a:ext cx="8291520" cy="3052800"/>
        </p:xfrm>
        <a:graphic>
          <a:graphicData uri="http://schemas.openxmlformats.org/drawingml/2006/table">
            <a:tbl>
              <a:tblPr/>
              <a:tblGrid>
                <a:gridCol w="1033560"/>
                <a:gridCol w="1019160"/>
                <a:gridCol w="1003320"/>
                <a:gridCol w="1420560"/>
                <a:gridCol w="1122480"/>
                <a:gridCol w="1517760"/>
                <a:gridCol w="11746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ic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indr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or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olog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izz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i alimen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ce Veic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maha Majes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ia Scarab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ia Leon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ymco D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539640" y="2205000"/>
          <a:ext cx="8064360" cy="3190680"/>
        </p:xfrm>
        <a:graphic>
          <a:graphicData uri="http://schemas.openxmlformats.org/drawingml/2006/table">
            <a:tbl>
              <a:tblPr/>
              <a:tblGrid>
                <a:gridCol w="1380960"/>
                <a:gridCol w="922320"/>
                <a:gridCol w="849240"/>
                <a:gridCol w="1497240"/>
                <a:gridCol w="938160"/>
                <a:gridCol w="1417680"/>
                <a:gridCol w="10587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ic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indr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or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olog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izz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i alimen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ce Veic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lera 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aggio Sal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aggio Lyb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agutti F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maha boo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nda 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aggio Lib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+ 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u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lera Ru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ezione diret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i caratteristiche dei ciclomotor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te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03280" y="1719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olare del collegamento tra scarico dei gas e tunnel di dilu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95280" y="1027080"/>
            <a:ext cx="83487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4:50:10Z</dcterms:created>
  <dc:creator>Picini Paolo</dc:creator>
  <dc:description/>
  <dc:language>en-US</dc:language>
  <cp:lastModifiedBy>ENEA</cp:lastModifiedBy>
  <dcterms:modified xsi:type="dcterms:W3CDTF">2005-06-20T06:49:15Z</dcterms:modified>
  <cp:revision>15</cp:revision>
  <dc:subject/>
  <dc:title>EMISSIONI DI PM DA VEICOLI A DUE RUOTE</dc:title>
</cp:coreProperties>
</file>