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951-7B8D-4271-B72D-2F9E52EE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CD4-4994-49B2-B7A6-36A7CC2E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D21-DF89-45B1-A231-8C211F0B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D02F-68B5-446A-A78A-40453999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7DC-11D5-4C1B-9B8D-C0E46BCF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E07C-00AA-46E7-BC49-880DD2CE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AF1-241A-4E88-95C5-860DAC17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A715-4C39-4B37-9397-3D1E6262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1A7-3BA1-4F5C-B2FE-1E01E822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9CA5-6E6C-424E-BF43-4F482066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AB59-D739-4E6B-AB24-E2DED096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15B-7D4C-46C5-B468-7F35AF46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9B15-1D97-483A-956C-7BB1125A6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aeionet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19760" cy="4724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43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11119856" descr=""/>
            <p:cNvPicPr/>
            <p:nvPr/>
          </p:nvPicPr>
          <p:blipFill>
            <a:blip r:embed="rId2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914400" y="304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ISTEMA CONOSCITIVO AMBIEN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Times New Roman"/>
              </a:rPr>
              <a:t>CENTRI TEMATICI NAZIONALI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371600"/>
            <a:ext cx="7086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OBIETTIVI GENE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ASSEGNA DELLA DOMANDA DI INFORM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SISTEMA DI INDICI E INDICA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ENSIMENTO DELLE SORGENTI DI 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ACCOLTA, ADEGUAMENTO ED INTEGRAZIONE DELLE INFORM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ARMONIZZAZIONE DELLE RETI DI MONITORAG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ODELLI: OSSERVATORIO E LINEE G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EPORTING AMBIENTAL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53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ROGRAMMA ATTIVITA’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TN-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ndividuazione del sistema di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indici e indicatori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ambientali nell’ambito del modello DPSI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Organizzazione della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raccolta dei dati e dei metada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Standardizzazione, omogeneizzazione e ottimizzazione dei criteri,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delle metodologie e degli strumenti di monitoraggi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Ricognizione e razionalizzazione delle metodologie degli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inventari locali delle emissioni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e delle loro relazioni con l’inventario naziona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efinizione di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linee guida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per una appropriata applicazione dei modelli di interpretazione delle relazioni pressione-st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62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066680" y="53316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TASK: Manuale dei 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ATTIVITA’ ANNO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45000"/>
              </a:lnSpc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Analisi stato dell’arte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, disponibilità e consistenza di dati sperimentali sulle emissioni di inquinanti gass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45000"/>
              </a:lnSpc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Identificazione delle attività sperimentali e teoriche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finalizzate alla realizzazione del man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45000"/>
              </a:lnSpc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Attivazione Gruppi di lavoro o “Expert Panel”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per la stesura finale di un manuale dei fattori di emissione rappresentativo della realtà socio-economica ital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70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TASK: Manuale dei 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CLASSI DI ATTIVITA’  SNAP 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. Centrali elettriche pubbliche e teleriscald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2. Impianti di combustione non-indust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. Combustione nell’indust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4. Processi produt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5. Estrazione e distribuzione di combustibili foss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. Uso di solv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7. Trasporto su s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8. Altre sorgenti mobili e macchin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9. Trattamento e smaltimento 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0. Agrico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1. N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79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05320" y="4495680"/>
            <a:ext cx="3809880" cy="1067040"/>
          </a:xfrm>
          <a:prstGeom prst="ellipse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1828800"/>
            <a:ext cx="3809880" cy="1066680"/>
          </a:xfrm>
          <a:prstGeom prst="ellipse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3124080"/>
            <a:ext cx="3809880" cy="1067040"/>
          </a:xfrm>
          <a:prstGeom prst="ellipse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TASK: Manuale dei 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 X P E R T     P A N E L     A T T I V A 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3429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DUSTRIA - ENE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2133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ASPO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8006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IOSS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93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IACPETR" descr=""/>
          <p:cNvPicPr/>
          <p:nvPr/>
        </p:nvPicPr>
        <p:blipFill>
          <a:blip r:embed="rId2"/>
          <a:stretch/>
        </p:blipFill>
        <p:spPr>
          <a:xfrm>
            <a:off x="2057400" y="3200400"/>
            <a:ext cx="62712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AUTO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1063800" cy="276120"/>
          </a:xfrm>
          <a:prstGeom prst="rect">
            <a:avLst/>
          </a:prstGeom>
          <a:ln w="0">
            <a:noFill/>
          </a:ln>
        </p:spPr>
      </p:pic>
      <p:pic>
        <p:nvPicPr>
          <p:cNvPr id="101" name="Image51" descr=""/>
          <p:cNvPicPr/>
          <p:nvPr/>
        </p:nvPicPr>
        <p:blipFill>
          <a:blip r:embed="rId4"/>
          <a:stretch/>
        </p:blipFill>
        <p:spPr>
          <a:xfrm>
            <a:off x="1676520" y="4871880"/>
            <a:ext cx="14475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TASK: Manuale dei 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XPERT PANEL   TRASPO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514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981080"/>
            <a:ext cx="2133360" cy="3290760"/>
          </a:xfrm>
          <a:prstGeom prst="rect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PARTECIPANTI: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N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TN-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E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E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C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ISC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IS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Federtraspor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EU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NC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Unione Petrolif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Istituto Motori CN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Politecnico di Mil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Ministero dei Traspor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1981080"/>
            <a:ext cx="3962520" cy="2011320"/>
          </a:xfrm>
          <a:prstGeom prst="rect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GRUPPO DATI: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Raccolta, adeguamento ed integrazi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dei seguenti dati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arbura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parco circola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percorre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velocit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emissioni evapor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4191120"/>
            <a:ext cx="3962520" cy="1073880"/>
          </a:xfrm>
          <a:prstGeom prst="rect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GRUPPO FATTORI DI EMISSION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nalisi della metodologia più utilizzat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Individuazione dei fattori di emissione crit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Verifica degli esistenti e calcolo dei nuo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2743200"/>
            <a:ext cx="838080" cy="533520"/>
          </a:xfrm>
          <a:prstGeom prst="line">
            <a:avLst/>
          </a:prstGeom>
          <a:ln w="1015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114800"/>
            <a:ext cx="838080" cy="457200"/>
          </a:xfrm>
          <a:prstGeom prst="line">
            <a:avLst/>
          </a:prstGeom>
          <a:ln w="1015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110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TASK: Manuale dei 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ATTIVITA’ ANNO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eminari ed incontri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per il confronto e lo scambio di dati e inform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Stesura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“Handbook versione 0”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dei fattori di 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Seminario di presentazione e diffusione dei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primi risultati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otten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118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EMINAR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FATTORI DI EMISSIONE DA TRAFF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DATI SPERIMENTALI IN ITAL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126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133720"/>
            <a:ext cx="5334120" cy="1098360"/>
          </a:xfrm>
          <a:prstGeom prst="rect">
            <a:avLst/>
          </a:prstGeom>
          <a:solidFill>
            <a:srgbClr val="c0c0c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SCOPI E FINALITA’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onfronto tra esperienze significative condotte in Italia da Istituti di Ricerca ed Enti pubblici e privati sulla determinazione sperimentale di fattori di emis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3733920"/>
            <a:ext cx="5867640" cy="1602720"/>
          </a:xfrm>
          <a:prstGeom prst="rect">
            <a:avLst/>
          </a:prstGeom>
          <a:solidFill>
            <a:srgbClr val="c0c0c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TEMI DA AFFRONT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etodologia e risultati  delle campagne speriment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onfrontabilità tra le diverse metodologie e risul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Elaborazioni statistiche e fruibilità dei 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9T12:05:09Z</dcterms:created>
  <dc:creator>Arpat</dc:creator>
  <dc:description/>
  <dc:language>en-US</dc:language>
  <cp:lastModifiedBy>Arpat</cp:lastModifiedBy>
  <cp:lastPrinted>2000-07-04T12:41:31Z</cp:lastPrinted>
  <dcterms:modified xsi:type="dcterms:W3CDTF">2000-07-04T12:45:58Z</dcterms:modified>
  <cp:revision>40</cp:revision>
  <dc:subject/>
  <dc:title>CTN-ACE  (Centro Tematico Nazionale Atmosfera, Clima, Emissioni)  PROGRAMMA ATTIVITA’ ANNI 1999-2000</dc:title>
</cp:coreProperties>
</file>