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A0D-2E45-4887-9654-DD838A69EF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AB2-D2E5-4C42-9ABC-FCF30F8FA4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A4E-1691-4801-BCC7-78E0AEC7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65C-5835-4961-9DEA-A387527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45A-06CC-48ED-86EE-D524516D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91C-0A1F-4709-860D-0F245AB4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557-E831-498B-90CE-AA89179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1E4-B03A-436F-B1CE-BA0F7E5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E28-B869-477A-9AD1-ED886DF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006-E8D3-4A0B-9916-1412105D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AC9-3235-4238-B9C1-1C703140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B38-C079-4366-96BC-6146556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78A-75ED-4035-A098-74A5495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61F-FCF1-4076-B930-52B1646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62E-E5A7-4CB3-90E4-9520AF1C3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9F0-B08C-4DEE-B9F2-FAC4BFD91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09480" y="5943600"/>
          <a:ext cx="1981440" cy="61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943600"/>
                    <a:ext cx="1981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62240" y="5867280"/>
            <a:ext cx="1001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793960"/>
            <a:ext cx="86518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Fattori di Emissione da Traff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Dati Sperimentali in It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800" spc="-1" strike="noStrike">
                <a:solidFill>
                  <a:srgbClr val="008000"/>
                </a:solidFill>
                <a:latin typeface="Times New Roman"/>
              </a:rPr>
              <a:t>Il profilo di missione dei motocicli in contesti cittadini caratterizzati da situazioni di traffico ele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Direzione Motori - Innovazione Tecnica Mo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Times New Roman"/>
              </a:rPr>
              <a:t>Ing. Maurizio Marca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130800"/>
            <a:ext cx="373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PA - Roma 6 Lugli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6173640"/>
            <a:ext cx="12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ffettuato il rilievo del profilo di missione del veicolo in termini di apertura farfalla, regime motore e velocità veicolo su un percorso di riferimento all’interno della città di Firen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copo di questi rilievi è stato quello di avere delle informazioni sulla tipologia di utilizzo da parte della clientela, per poter ipotizzare dei nuovi standard di prova e confrontarli con gli standard attu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tinerario prescelto di lunghezza pari a 38.5 km è stato ripetuto quattro volte per ogni giornata di prova da un veicolo equipaggiato con motore di 180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ale percorso è stato riscontrato un tipo di  traffico cittadino particolarmente int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giornate di prova (3 in totale) sono state caratterizzate anche da diverse condizioni meteor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vei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676520"/>
          <a:ext cx="64771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me Mo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videnziano un profilo di missione del veicolo nel quale le velocità comprese tra i 30 e i 50 km/h sono quelle maggiormente ricorr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i alcune fasi di accelerazione a farfalla completamente aperta ma non tali da far raggiungere la velocità massima del vei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6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ffettuati a Firenze confermano una buona rispondenza tra la realtà di situazioni cittadine a forte traffico e l’attuale ciclo di prova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possibile valutazione dell’impatto sull’ambiente dei veicoli a due ruote a combustione interna può quindi basarsi sui rilievi di inquinamento misurati sul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senziale e corretta la valutazione delle emissioni inquinanti su ciclo di riferimento con misura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ponder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di tali emis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sure di tipo alternativo, basate su rilievi delle emissioni in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o in assenza di carico stradale, non sono rappresentative dell’effettivo potere inquinante de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veicoli della classe scooter stanno guadagnando quote di mercato rilevanti in Europa e specialmente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ntroduzione della recente normativa sul casco ha spinto maggiormente il mercato verso i veicoli equipaggiati con motori alti di cilind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lasse 125cc (potenza &lt;11 kW) mantiene comunque una buona quota di merc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cnologia 4T ha praticamente sostituito quella 2T su questa classe d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rincipali rag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tenza sufficiente all’uso urbano e commut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otti consum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lità del rumore maggiormente accettab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enza di fumosità durante gli avviamenti a fred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fronto Mercato Italia 1999-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97000" y="1447920"/>
          <a:ext cx="7332480" cy="45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447920"/>
                    <a:ext cx="733248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emissioni inquinanti sono valutate misurando quanto emesso dal veicolo durante una prova al banco a rulli seguendo una specifica rela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Velocità Veicolo in funzione d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nalisi%20Modale%20Emissioni" descr=""/>
          <p:cNvPicPr/>
          <p:nvPr/>
        </p:nvPicPr>
        <p:blipFill>
          <a:blip r:embed="rId1"/>
          <a:stretch/>
        </p:blipFill>
        <p:spPr>
          <a:xfrm>
            <a:off x="4924440" y="4143240"/>
            <a:ext cx="3305160" cy="24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3720" y="4646520"/>
            <a:ext cx="38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Esempio di banco a ru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per Analisi Mo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410080"/>
            <a:ext cx="9903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81160" y="1066320"/>
            <a:ext cx="85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Motocicli -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0” Minimo, 2 Cicli completi per Warm-up e 4 Cicli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CE40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6259680" cy="408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95320" y="3581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720" y="4114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800" y="4191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2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800" y="4648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89360" y="2027160"/>
          <a:ext cx="47782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2027160"/>
                    <a:ext cx="47782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358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ECE 40 EURO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iminati i 40” di riscaldamento al mi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masti i 2 Cicli completi per la fase di 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3:40:29Z</dcterms:created>
  <dc:creator>x</dc:creator>
  <dc:description/>
  <dc:language>en-US</dc:language>
  <cp:lastModifiedBy>pc-gbini</cp:lastModifiedBy>
  <cp:lastPrinted>2000-05-29T09:47:26Z</cp:lastPrinted>
  <dcterms:modified xsi:type="dcterms:W3CDTF">2000-07-28T07:15:04Z</dcterms:modified>
  <cp:revision>143</cp:revision>
  <dc:subject/>
  <dc:title>PIAGGIO Philosophy in Powertrain Development</dc:title>
</cp:coreProperties>
</file>