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84C3-3FC0-41AD-9398-AAF818DA4B3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E3F7-70B2-4444-BAD3-92018B79C35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ldImg"/>
          </p:nvPr>
        </p:nvSpPr>
        <p:spPr>
          <a:xfrm>
            <a:off x="1293840" y="795240"/>
            <a:ext cx="4271760" cy="3203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771-1C23-446C-A30A-C6C7BEDF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1F8-AE25-4B6F-91AB-4A4BD81A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834-0D1F-4362-9FA9-0451DA0D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6076-8FB5-4F67-8079-2FCDB5F3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88E-5F35-4017-932A-979D0C98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91A8-FF34-4BC3-BFAC-052E57FB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7F08-1323-45F0-A5D2-656C83BD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3DE4-C357-4219-9504-0AB2CD3F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3F0-E3F0-40DE-BE5A-F83AD5E1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408C-AEAC-4273-981D-E8E0C7F3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806-D7DB-41ED-91D7-3D4A283E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7AA1-BB18-429D-9A83-C938E731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4358-0E46-43BE-AC7D-01AC7BB96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A267-8102-46F2-ABB6-C1503681C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609480" y="5943600"/>
          <a:ext cx="1981440" cy="612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943600"/>
                    <a:ext cx="19814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062240" y="5867280"/>
            <a:ext cx="1001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2280" y="6019920"/>
            <a:ext cx="10029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02280" y="6019920"/>
            <a:ext cx="10029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793960"/>
            <a:ext cx="8651880" cy="33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114480" bIns="1144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Times New Roman"/>
              </a:rPr>
              <a:t>SEMI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Times New Roman"/>
              </a:rPr>
              <a:t>Fattori di Emissione da Traffic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Times New Roman"/>
              </a:rPr>
              <a:t>Dati Sperimentali in It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i="1" lang="it-IT" sz="2800" spc="-1" strike="noStrike">
                <a:solidFill>
                  <a:srgbClr val="008000"/>
                </a:solidFill>
                <a:latin typeface="Times New Roman"/>
              </a:rPr>
              <a:t>Il profilo di missione dei motocicli in contesti cittadini caratterizzati da situazioni di traffico elev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i="1" lang="it-IT" sz="3200" spc="-1" strike="noStrike">
                <a:solidFill>
                  <a:srgbClr val="3333cc"/>
                </a:solidFill>
                <a:latin typeface="Times New Roman"/>
              </a:rPr>
              <a:t>Direzione Motori - Innovazione Tecnica Mot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Times New Roman"/>
              </a:rPr>
              <a:t>Ing. Maurizio Marcac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6130800"/>
            <a:ext cx="3730680" cy="3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NPA - Roma 6 Luglio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680" y="6173640"/>
            <a:ext cx="120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omm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Scenario di rifer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La valutazione delle emissioni inquina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9933"/>
                </a:solidFill>
                <a:latin typeface="Times New Roman"/>
              </a:rPr>
              <a:t>Il profilo di missione rilev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Conclusion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ffettuato il rilievo del profilo di missione del veicolo in termini di apertura farfalla, regime motore e velocità veicolo su un percorso di riferimento all’interno della città di Firen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o scopo di questi rilievi è stato quello di avere delle informazioni sulla tipologia di utilizzo da parte della clientela, per poter ipotizzare dei nuovi standard di prova e confrontarli con gli standard attua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’itinerario prescelto di lunghezza pari a 38.5 km è stato ripetuto quattro volte per ogni giornata di prova da un veicolo equipaggiato con motore di 180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 tale percorso è stato riscontrato un tipo di  traffico cittadino particolarmente inten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giornate di prova (3 in totale) sono state caratterizzate anche da diverse condizioni meteorolog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locità vei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95280" y="1676520"/>
          <a:ext cx="6477120" cy="434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64771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gime Mo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1752480"/>
          <a:ext cx="6400800" cy="429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52480"/>
                    <a:ext cx="640080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ertura Far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95280" y="1752480"/>
          <a:ext cx="6400800" cy="429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640080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rilievi sperimentali evidenziano un profilo di missione del veicolo nel quale le velocità comprese tra i 30 e i 50 km/h sono quelle maggiormente ricorr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senti alcune fasi di accelerazione a farfalla completamente aperta ma non tali da far raggiungere la velocità massima del veic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6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rilievi sperimentali effettuati a Firenze confermano una buona rispondenza tra la realtà di situazioni cittadine a forte traffico e l’attuale ciclo di prova ECE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a possibile valutazione dell’impatto sull’ambiente dei veicoli a due ruote a combustione interna può quindi basarsi sui rilievi di inquinamento misurati sul ciclo ECE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Conclusioni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ssenziale e corretta la valutazione delle emissioni inquinanti su ciclo di riferimento con misura “</a:t>
            </a:r>
            <a:r>
              <a:rPr b="1" i="1" lang="it-IT" sz="3200" spc="-1" strike="noStrike">
                <a:solidFill>
                  <a:srgbClr val="ff0000"/>
                </a:solidFill>
                <a:latin typeface="Times New Roman"/>
              </a:rPr>
              <a:t>ponderal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” di tali emis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isure di tipo alternativo, basate su rilievi delle emissioni in “</a:t>
            </a:r>
            <a:r>
              <a:rPr b="1" i="1" lang="it-IT" sz="3200" spc="-1" strike="noStrike">
                <a:solidFill>
                  <a:srgbClr val="ff0000"/>
                </a:solidFill>
                <a:latin typeface="Times New Roman"/>
              </a:rPr>
              <a:t>volum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” o in assenza di carico stradale, non sono rappresentative dell’effettivo potere inquinante dei veic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Conclusioni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2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omm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9933"/>
                </a:solidFill>
                <a:latin typeface="Times New Roman"/>
              </a:rPr>
              <a:t>Scenario di rifer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La valutazione delle emissioni inquina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Il profilo di missione rilev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Conclusion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veicoli della classe scooter stanno guadagnando quote di mercato rilevanti in Europa e specialmente in It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’introduzione della recente normativa sul casco ha spinto maggiormente il mercato verso i veicoli equipaggiati con motori alti di cilind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classe 125cc (potenza &lt;11 kW) mantiene comunque una buona quota di merc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cenario di riferimen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tecnologia 4T ha praticamente sostituito quella 2T su questa classe di veic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principali ragion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otenza sufficiente all’uso urbano e commut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idotti consum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qualità del rumore maggiormente accettabi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ssenza di fumosità durante gli avviamenti a fred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04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cenario di riferimen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2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04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Confronto Mercato Italia 1999-199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97000" y="1447920"/>
          <a:ext cx="7332480" cy="458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7000" y="1447920"/>
                    <a:ext cx="7332480" cy="45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omm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Scenario di rifer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9933"/>
                </a:solidFill>
                <a:latin typeface="Times New Roman"/>
              </a:rPr>
              <a:t>La valutazione delle emissioni inquina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Il profilo di missione rilev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Conclusion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80769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emissioni inquinanti sono valutate misurando quanto emesso dal veicolo durante una prova al banco a rulli seguendo una specifica relazi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00"/>
                </a:solidFill>
                <a:latin typeface="Times New Roman"/>
              </a:rPr>
              <a:t>Velocità Veicolo in funzione del T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La valutazione delle Emissioni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nalisi%20Modale%20Emissioni" descr=""/>
          <p:cNvPicPr/>
          <p:nvPr/>
        </p:nvPicPr>
        <p:blipFill>
          <a:blip r:embed="rId1"/>
          <a:stretch/>
        </p:blipFill>
        <p:spPr>
          <a:xfrm>
            <a:off x="4924440" y="4143240"/>
            <a:ext cx="3305160" cy="2443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3720" y="4646520"/>
            <a:ext cx="387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Times New Roman"/>
              </a:rPr>
              <a:t>Esempio di banco a rul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Times New Roman"/>
              </a:rPr>
              <a:t>per Analisi Mod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Times New Roman"/>
              </a:rPr>
              <a:t>delle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410080"/>
            <a:ext cx="99036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81160" y="1066320"/>
            <a:ext cx="85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00"/>
                </a:solidFill>
                <a:latin typeface="Times New Roman"/>
              </a:rPr>
              <a:t>Motocicli - Ciclo ECE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40” Minimo, 2 Cicli completi per Warm-up e 4 Cicli di mis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ECE40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6259680" cy="4084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295320" y="35812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0 km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61720" y="41148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5 km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40800" y="419112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2 km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40800" y="464832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5 km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La valutazione delle Emissioni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789360" y="2027160"/>
          <a:ext cx="4778280" cy="424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9360" y="2027160"/>
                    <a:ext cx="4778280" cy="42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04920" y="228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La valutazione delle Emissioni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3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905120"/>
            <a:ext cx="3581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00"/>
                </a:solidFill>
                <a:latin typeface="Times New Roman"/>
              </a:rPr>
              <a:t>ECE 40 EURO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liminati i 40” di riscaldamento al mi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imasti i 2 Cicli completi per la fase di Warm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2T13:40:29Z</dcterms:created>
  <dc:creator>x</dc:creator>
  <dc:description/>
  <dc:language>en-US</dc:language>
  <cp:lastModifiedBy>pc-gbini</cp:lastModifiedBy>
  <cp:lastPrinted>2000-05-29T09:47:26Z</cp:lastPrinted>
  <dcterms:modified xsi:type="dcterms:W3CDTF">2000-07-28T07:15:04Z</dcterms:modified>
  <cp:revision>143</cp:revision>
  <dc:subject/>
  <dc:title>PIAGGIO Philosophy in Powertrain Development</dc:title>
</cp:coreProperties>
</file>