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7B4-6BE4-45F8-9131-C45B6EEA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BF0-E0F3-4B14-A411-E7B9536D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FA7-B297-4887-8492-125E1AC6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7C2-57EE-462B-80E3-F2337A5C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614-CBD4-4523-BD8B-046D5383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B1C-63FE-4976-A8E4-F03E16E2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1EE-9028-482C-996D-E8F28868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FBA-CF51-47FE-A3DA-806A3526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2D6-FB48-4C8A-9877-85756589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836-9C9D-4969-B0F1-DCE5D152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A50-4E12-4AB3-B795-FCBF5B2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24A-7D80-4057-BFB5-24335635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1EC1-5E95-4654-A70D-013497C64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aeionet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4724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4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11119856" descr=""/>
            <p:cNvPicPr/>
            <p:nvPr/>
          </p:nvPicPr>
          <p:blipFill>
            <a:blip r:embed="rId2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ISTEMA CONOSCITIVO AMBI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CENTRI TEMATICI NAZIONAL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OBIETTIVI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ASSEGNA DELLA DOMANDA DI IN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ISTEMA DI INDICI E INDIC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ENSIMENTO DELLE SORGENTI D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ACCOLTA, ADEGUAMENTO ED INTEGRAZIONE DELLE 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RMONIZZAZIONE DELLE RETI DI MONITOR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ODELLI: OSSERVATORIO E LINEE G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PORTING AMBIENTAL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5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ROGRAMMA ATTIVITA’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TN-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dividuazione del sistema d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dici e indicator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ambientali nell’ambito del modello DPSI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rganizzazione della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raccolta dei dati e dei metada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tandardizzazione, omogeneizzazione e ottimizzazione dei criteri,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delle metodologie e degli strumenti di monitoraggi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Ricognizione e razionalizzazione delle metodologie degl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ventari locali delle emission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e delle loro relazioni con l’inventario nazion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finizione d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linee guida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una appropriata applicazione dei modelli di interpretazione delle relazioni pressione-s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62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66680" y="5331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TTIVITA’ ANNO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nalisi stato dell’arte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disponibilità e consistenza di dati sperimentali sulle emissioni di inquinanti gass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dentificazione delle attività sperimentali e teoriche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finalizzate alla realizzazione del man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ttivazione Gruppi di lavoro o “Expert Panel”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la stesura finale di un manuale dei fattori di emissione rappresentativo della realtà socio-economica ital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70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LASSI DI ATTIVITA’  SNAP 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. Centrali elettriche pubbliche e teleriscald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. Impianti di combustione non-indust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. Combustione nell’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4. Processi produ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5. Estrazione e distribuzione di combustibili fos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. Uso di solv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7. Trasporto su s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8. Altre sorgenti mobili e macchin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9. Trattamento e smaltimento 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0. Agrico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1. N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79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05320" y="4495680"/>
            <a:ext cx="3809880" cy="106704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1828800"/>
            <a:ext cx="3809880" cy="106668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3124080"/>
            <a:ext cx="3809880" cy="106704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 X P E R T     P A N E L     A T T I V A 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429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DUSTRIA -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00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OS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9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IACPETR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627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AUTO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1063800" cy="276120"/>
          </a:xfrm>
          <a:prstGeom prst="rect">
            <a:avLst/>
          </a:prstGeom>
          <a:ln w="0">
            <a:noFill/>
          </a:ln>
        </p:spPr>
      </p:pic>
      <p:pic>
        <p:nvPicPr>
          <p:cNvPr id="101" name="Image51" descr=""/>
          <p:cNvPicPr/>
          <p:nvPr/>
        </p:nvPicPr>
        <p:blipFill>
          <a:blip r:embed="rId4"/>
          <a:stretch/>
        </p:blipFill>
        <p:spPr>
          <a:xfrm>
            <a:off x="1676520" y="4871880"/>
            <a:ext cx="1447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XPERT PANEL  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981080"/>
            <a:ext cx="2133360" cy="329076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PARTECIPANTI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TN-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C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IS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Federtraspor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U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C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Unione Petrolif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stituto Motori CN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olitecnico di Mil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inistero dei Traspor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1981080"/>
            <a:ext cx="3962520" cy="201132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GRUPPO DATI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Raccolta, adeguamento ed integr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ei seguenti dat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arbur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arco circol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ercor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velocit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missioni evapo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4191120"/>
            <a:ext cx="3962520" cy="107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GRUPPO FATTORI DI EMISSIO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alisi della metodologia più utilizzat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dividuazione dei fattori di emissione cri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Verifica degli esistenti e calcolo dei nuo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743200"/>
            <a:ext cx="838080" cy="53352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114800"/>
            <a:ext cx="838080" cy="45720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10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TTIVITA’ ANNO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eminari ed incontr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il confronto e lo scambio di dati e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tesura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“Handbook versione 0”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dei fattori di 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eminario di presentazione e diffusione de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primi risultat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otten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18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EMIN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TTORI DI EMISSIONE DA TRAFF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ATI SPERIMENTALI IN ITAL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26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133720"/>
            <a:ext cx="5334120" cy="1098360"/>
          </a:xfrm>
          <a:prstGeom prst="rect">
            <a:avLst/>
          </a:prstGeom>
          <a:solidFill>
            <a:srgbClr val="c0c0c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SCOPI E FINALITA’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onfronto tra esperienze significative condotte in Italia da Istituti di Ricerca ed Enti pubblici e privati sulla determinazione sperimentale di fattori di e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733920"/>
            <a:ext cx="5867640" cy="1602720"/>
          </a:xfrm>
          <a:prstGeom prst="rect">
            <a:avLst/>
          </a:prstGeom>
          <a:solidFill>
            <a:srgbClr val="c0c0c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TEMI DA AFFRON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etodologia e risultati  delle campagne speriment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nfrontabilità tra le diverse metodologie e 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laborazioni statistiche e fruibilità d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2:05:09Z</dcterms:created>
  <dc:creator>Arpat</dc:creator>
  <dc:description/>
  <dc:language>en-US</dc:language>
  <cp:lastModifiedBy>Arpat</cp:lastModifiedBy>
  <cp:lastPrinted>2000-07-04T12:41:31Z</cp:lastPrinted>
  <dcterms:modified xsi:type="dcterms:W3CDTF">2000-07-04T12:45:58Z</dcterms:modified>
  <cp:revision>40</cp:revision>
  <dc:subject/>
  <dc:title>CTN-ACE  (Centro Tematico Nazionale Atmosfera, Clima, Emissioni)  PROGRAMMA ATTIVITA’ ANNI 1999-2000</dc:title>
</cp:coreProperties>
</file>