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4DBB8-3E80-487C-B030-FC28AFE5A5F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F7D1C-8E16-4668-8B82-B6794D9579C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ldImg"/>
          </p:nvPr>
        </p:nvSpPr>
        <p:spPr>
          <a:xfrm>
            <a:off x="1293840" y="795240"/>
            <a:ext cx="4271760" cy="32036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3389-83C6-43A9-B355-60BF094DF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6585-B6C0-4A84-B348-4BD70C1D7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3343-4B85-443B-8A0E-D3933EAE9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C1E5-946F-43EB-9F28-2DE8D51DA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981F-D7B5-4FAF-AB44-56002DDE0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13AD-17DD-45A0-95F9-65B3DD934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472F-525E-4A41-B389-FD8A04BE9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2B3C-C971-4F17-93A7-CC54819A5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F4FA-C98B-4161-8250-F12393385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B8BE-B9BF-48FB-98A6-A4B1975B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9B94-1EFB-4A6A-A995-0F88DF20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5F7F-8393-4AAB-B448-4CC028D2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2D312-C99C-4894-BADF-8621F62F37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AC3AF-556B-4D16-BF27-E631D2210C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609480" y="5943600"/>
          <a:ext cx="1981440" cy="612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5943600"/>
                    <a:ext cx="198144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062240" y="5867280"/>
            <a:ext cx="1001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02280" y="6019920"/>
            <a:ext cx="100296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02280" y="6019920"/>
            <a:ext cx="100296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2793960"/>
            <a:ext cx="8651880" cy="33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114480" bIns="1144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it-IT" sz="2400" spc="-1" strike="noStrike">
                <a:solidFill>
                  <a:srgbClr val="008000"/>
                </a:solidFill>
                <a:latin typeface="Times New Roman"/>
              </a:rPr>
              <a:t>SEMIN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Times New Roman"/>
              </a:rPr>
              <a:t>Fattori di Emissione da Traffico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Times New Roman"/>
              </a:rPr>
              <a:t>Dati Sperimentali in Ital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i="1" lang="it-IT" sz="2800" spc="-1" strike="noStrike">
                <a:solidFill>
                  <a:srgbClr val="008000"/>
                </a:solidFill>
                <a:latin typeface="Times New Roman"/>
              </a:rPr>
              <a:t>Il profilo di missione dei motocicli in contesti cittadini caratterizzati da situazioni di traffico elev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i="1" lang="it-IT" sz="3200" spc="-1" strike="noStrike">
                <a:solidFill>
                  <a:srgbClr val="3333cc"/>
                </a:solidFill>
                <a:latin typeface="Times New Roman"/>
              </a:rPr>
              <a:t>Direzione Motori - Innovazione Tecnica Moto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i="1" lang="it-IT" sz="2000" spc="-1" strike="noStrike">
                <a:solidFill>
                  <a:srgbClr val="3333cc"/>
                </a:solidFill>
                <a:latin typeface="Times New Roman"/>
              </a:rPr>
              <a:t>Ing. Maurizio Marcac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43200" y="6130800"/>
            <a:ext cx="3730680" cy="3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ANPA - Roma 6 Luglio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5680" y="6173640"/>
            <a:ext cx="120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Times New Roman"/>
              </a:rPr>
              <a:t>Profilo di missione dei motocicli</a:t>
            </a:r>
            <a:br>
              <a:rPr sz="3600"/>
            </a:br>
            <a:r>
              <a:rPr b="1" lang="it-IT" sz="3600" spc="-1" strike="noStrike">
                <a:solidFill>
                  <a:srgbClr val="3333cc"/>
                </a:solidFill>
                <a:latin typeface="Times New Roman"/>
              </a:rPr>
              <a:t>Somma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8000"/>
                </a:solidFill>
                <a:latin typeface="Times New Roman"/>
              </a:rPr>
              <a:t>Scenario di riferim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8000"/>
                </a:solidFill>
                <a:latin typeface="Times New Roman"/>
              </a:rPr>
              <a:t>La valutazione delle emissioni inquinan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9933"/>
                </a:solidFill>
                <a:latin typeface="Times New Roman"/>
              </a:rPr>
              <a:t>Il profilo di missione rileva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8000"/>
                </a:solidFill>
                <a:latin typeface="Times New Roman"/>
              </a:rPr>
              <a:t>Conclusion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Effettuato il rilievo del profilo di missione del veicolo in termini di apertura farfalla, regime motore e velocità veicolo su un percorso di riferimento all’interno della città di Firenz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o scopo di questi rilievi è stato quello di avere delle informazioni sulla tipologia di utilizzo da parte della clientela, per poter ipotizzare dei nuovi standard di prova e confrontarli con gli standard attual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Times New Roman"/>
              </a:rPr>
              <a:t>Profilo di missione dei motocicli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it-IT" sz="3600" spc="-1" strike="noStrike">
                <a:solidFill>
                  <a:srgbClr val="3333cc"/>
                </a:solidFill>
                <a:latin typeface="Times New Roman"/>
              </a:rPr>
              <a:t>Il profilo di missione rilevato 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1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’itinerario prescelto di lunghezza pari a 38.5 km è stato ripetuto quattro volte per ogni giornata di prova da un veicolo equipaggiato con motore di 180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n tale percorso è stato riscontrato un tipo di  traffico cittadino particolarmente inten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e giornate di prova (3 in totale) sono state caratterizzate anche da diverse condizioni meteorologi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Times New Roman"/>
              </a:rPr>
              <a:t>Profilo di missione dei motocicli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it-IT" sz="3600" spc="-1" strike="noStrike">
                <a:solidFill>
                  <a:srgbClr val="3333cc"/>
                </a:solidFill>
                <a:latin typeface="Times New Roman"/>
              </a:rPr>
              <a:t>Il profilo di missione rilevato 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2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Velocità veic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Times New Roman"/>
              </a:rPr>
              <a:t>Profilo di missione dei motocicli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it-IT" sz="3600" spc="-1" strike="noStrike">
                <a:solidFill>
                  <a:srgbClr val="3333cc"/>
                </a:solidFill>
                <a:latin typeface="Times New Roman"/>
              </a:rPr>
              <a:t>Il profilo di missione rilevato 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3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295280" y="1676520"/>
          <a:ext cx="6477120" cy="434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676520"/>
                    <a:ext cx="647712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egime Mo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Times New Roman"/>
              </a:rPr>
              <a:t>Profilo di missione dei motocicli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it-IT" sz="3600" spc="-1" strike="noStrike">
                <a:solidFill>
                  <a:srgbClr val="3333cc"/>
                </a:solidFill>
                <a:latin typeface="Times New Roman"/>
              </a:rPr>
              <a:t>Il profilo di missione rilevato 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4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447920" y="1752480"/>
          <a:ext cx="6400800" cy="4292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752480"/>
                    <a:ext cx="6400800" cy="42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pertura Farfa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Times New Roman"/>
              </a:rPr>
              <a:t>Profilo di missione dei motocicli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it-IT" sz="3600" spc="-1" strike="noStrike">
                <a:solidFill>
                  <a:srgbClr val="3333cc"/>
                </a:solidFill>
                <a:latin typeface="Times New Roman"/>
              </a:rPr>
              <a:t>Il profilo di missione rilevato 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5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295280" y="1752480"/>
          <a:ext cx="6400800" cy="4292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752480"/>
                    <a:ext cx="6400800" cy="42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 rilievi sperimentali evidenziano un profilo di missione del veicolo nel quale le velocità comprese tra i 30 e i 50 km/h sono quelle maggiormente ricorr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resenti alcune fasi di accelerazione a farfalla completamente aperta ma non tali da far raggiungere la velocità massima del veico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Times New Roman"/>
              </a:rPr>
              <a:t>Profilo di missione dei motocicli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it-IT" sz="3600" spc="-1" strike="noStrike">
                <a:solidFill>
                  <a:srgbClr val="3333cc"/>
                </a:solidFill>
                <a:latin typeface="Times New Roman"/>
              </a:rPr>
              <a:t>Il profilo di missione rilevato 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6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 rilievi sperimentali effettuati a Firenze confermano una buona rispondenza tra la realtà di situazioni cittadine a forte traffico e l’attuale ciclo di prova ECE 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Una possibile valutazione dell’impatto sull’ambiente dei veicoli a due ruote a combustione interna può quindi basarsi sui rilievi di inquinamento misurati sul ciclo ECE 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Times New Roman"/>
              </a:rPr>
              <a:t>Profilo di missione dei motocicli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it-IT" sz="3600" spc="-1" strike="noStrike">
                <a:solidFill>
                  <a:srgbClr val="3333cc"/>
                </a:solidFill>
                <a:latin typeface="Times New Roman"/>
              </a:rPr>
              <a:t>Conclusioni 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Essenziale e corretta la valutazione delle emissioni inquinanti su ciclo di riferimento con misura “</a:t>
            </a:r>
            <a:r>
              <a:rPr b="1" i="1" lang="it-IT" sz="3200" spc="-1" strike="noStrike">
                <a:solidFill>
                  <a:srgbClr val="ff0000"/>
                </a:solidFill>
                <a:latin typeface="Times New Roman"/>
              </a:rPr>
              <a:t>ponderale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” di tali emissio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Misure di tipo alternativo, basate su rilievi delle emissioni in “</a:t>
            </a:r>
            <a:r>
              <a:rPr b="1" i="1" lang="it-IT" sz="3200" spc="-1" strike="noStrike">
                <a:solidFill>
                  <a:srgbClr val="ff0000"/>
                </a:solidFill>
                <a:latin typeface="Times New Roman"/>
              </a:rPr>
              <a:t>volume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” o in assenza di carico stradale, non sono rappresentative dell’effettivo potere inquinante dei veico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Times New Roman"/>
              </a:rPr>
              <a:t>Profilo di missione dei motocicli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it-IT" sz="3600" spc="-1" strike="noStrike">
                <a:solidFill>
                  <a:srgbClr val="3333cc"/>
                </a:solidFill>
                <a:latin typeface="Times New Roman"/>
              </a:rPr>
              <a:t>Conclusioni 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2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Times New Roman"/>
              </a:rPr>
              <a:t>Profilo di missione dei motocicli</a:t>
            </a:r>
            <a:br>
              <a:rPr sz="3600"/>
            </a:br>
            <a:r>
              <a:rPr b="1" lang="it-IT" sz="3600" spc="-1" strike="noStrike">
                <a:solidFill>
                  <a:srgbClr val="3333cc"/>
                </a:solidFill>
                <a:latin typeface="Times New Roman"/>
              </a:rPr>
              <a:t>Somma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9933"/>
                </a:solidFill>
                <a:latin typeface="Times New Roman"/>
              </a:rPr>
              <a:t>Scenario di riferim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8000"/>
                </a:solidFill>
                <a:latin typeface="Times New Roman"/>
              </a:rPr>
              <a:t>La valutazione delle emissioni inquinan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8000"/>
                </a:solidFill>
                <a:latin typeface="Times New Roman"/>
              </a:rPr>
              <a:t>Il profilo di missione rileva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8000"/>
                </a:solidFill>
                <a:latin typeface="Times New Roman"/>
              </a:rPr>
              <a:t>Conclusion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 veicoli della classe scooter stanno guadagnando quote di mercato rilevanti in Europa e specialmente in Ita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’introduzione della recente normativa sul casco ha spinto maggiormente il mercato verso i veicoli equipaggiati con motori alti di cilindr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a classe 125cc (potenza &lt;11 kW) mantiene comunque una buona quota di merc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Times New Roman"/>
              </a:rPr>
              <a:t>Profilo di missione dei motocicli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it-IT" sz="3600" spc="-1" strike="noStrike">
                <a:solidFill>
                  <a:srgbClr val="3333cc"/>
                </a:solidFill>
                <a:latin typeface="Times New Roman"/>
              </a:rPr>
              <a:t>Scenario di riferimento 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a tecnologia 4T ha praticamente sostituito quella 2T su questa classe di veico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e principali ragion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potenza sufficiente all’uso urbano e commuting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ridotti consumi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qualità del rumore maggiormente accettabil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ssenza di fumosità durante gli avviamenti a fred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30492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Times New Roman"/>
              </a:rPr>
              <a:t>Profilo di missione dei motocicli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it-IT" sz="3600" spc="-1" strike="noStrike">
                <a:solidFill>
                  <a:srgbClr val="3333cc"/>
                </a:solidFill>
                <a:latin typeface="Times New Roman"/>
              </a:rPr>
              <a:t>Scenario di riferimento 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2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30492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Times New Roman"/>
              </a:rPr>
              <a:t>Profilo di missione dei motocicli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it-IT" sz="3600" spc="-1" strike="noStrike">
                <a:solidFill>
                  <a:srgbClr val="3333cc"/>
                </a:solidFill>
                <a:latin typeface="Times New Roman"/>
              </a:rPr>
              <a:t>Confronto Mercato Italia 1999-199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197000" y="1447920"/>
          <a:ext cx="7332480" cy="458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7000" y="1447920"/>
                    <a:ext cx="7332480" cy="45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Times New Roman"/>
              </a:rPr>
              <a:t>Profilo di missione dei motocicli</a:t>
            </a:r>
            <a:br>
              <a:rPr sz="3600"/>
            </a:br>
            <a:r>
              <a:rPr b="1" lang="it-IT" sz="3600" spc="-1" strike="noStrike">
                <a:solidFill>
                  <a:srgbClr val="3333cc"/>
                </a:solidFill>
                <a:latin typeface="Times New Roman"/>
              </a:rPr>
              <a:t>Somma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8000"/>
                </a:solidFill>
                <a:latin typeface="Times New Roman"/>
              </a:rPr>
              <a:t>Scenario di riferim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9933"/>
                </a:solidFill>
                <a:latin typeface="Times New Roman"/>
              </a:rPr>
              <a:t>La valutazione delle emissioni inquinan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8000"/>
                </a:solidFill>
                <a:latin typeface="Times New Roman"/>
              </a:rPr>
              <a:t>Il profilo di missione rileva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8000"/>
                </a:solidFill>
                <a:latin typeface="Times New Roman"/>
              </a:rPr>
              <a:t>Conclusion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533520" y="1447560"/>
            <a:ext cx="807696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e emissioni inquinanti sono valutate misurando quanto emesso dal veicolo durante una prova al banco a rulli seguendo una specifica relazio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0000"/>
                </a:solidFill>
                <a:latin typeface="Times New Roman"/>
              </a:rPr>
              <a:t>Velocità Veicolo in funzione del Temp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30492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Times New Roman"/>
              </a:rPr>
              <a:t>Profilo di missione dei motocicli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it-IT" sz="3600" spc="-1" strike="noStrike">
                <a:solidFill>
                  <a:srgbClr val="3333cc"/>
                </a:solidFill>
                <a:latin typeface="Times New Roman"/>
              </a:rPr>
              <a:t>La valutazione delle Emissioni 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1/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Analisi%20Modale%20Emissioni" descr=""/>
          <p:cNvPicPr/>
          <p:nvPr/>
        </p:nvPicPr>
        <p:blipFill>
          <a:blip r:embed="rId1"/>
          <a:stretch/>
        </p:blipFill>
        <p:spPr>
          <a:xfrm>
            <a:off x="4924440" y="4143240"/>
            <a:ext cx="3305160" cy="2443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53720" y="4646520"/>
            <a:ext cx="3875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8000"/>
                </a:solidFill>
                <a:latin typeface="Times New Roman"/>
              </a:rPr>
              <a:t>Esempio di banco a rul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8000"/>
                </a:solidFill>
                <a:latin typeface="Times New Roman"/>
              </a:rPr>
              <a:t>per Analisi Mod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8000"/>
                </a:solidFill>
                <a:latin typeface="Times New Roman"/>
              </a:rPr>
              <a:t>delle Emiss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733920" y="5410080"/>
            <a:ext cx="990360" cy="0"/>
          </a:xfrm>
          <a:prstGeom prst="line">
            <a:avLst/>
          </a:prstGeom>
          <a:ln w="507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281160" y="1066320"/>
            <a:ext cx="85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0000"/>
                </a:solidFill>
                <a:latin typeface="Times New Roman"/>
              </a:rPr>
              <a:t>Motocicli - Ciclo ECE 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40” Minimo, 2 Cicli completi per Warm-up e 4 Cicli di mis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ECE40" descr=""/>
          <p:cNvPicPr/>
          <p:nvPr/>
        </p:nvPicPr>
        <p:blipFill>
          <a:blip r:embed="rId1"/>
          <a:stretch/>
        </p:blipFill>
        <p:spPr>
          <a:xfrm>
            <a:off x="2666880" y="2514600"/>
            <a:ext cx="6259680" cy="40845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295320" y="358128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50 km/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661720" y="411480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35 km/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340800" y="419112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32 km/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340800" y="464832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15 km/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7632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Times New Roman"/>
              </a:rPr>
              <a:t>Profilo di missione dei motocicli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it-IT" sz="3600" spc="-1" strike="noStrike">
                <a:solidFill>
                  <a:srgbClr val="3333cc"/>
                </a:solidFill>
                <a:latin typeface="Times New Roman"/>
              </a:rPr>
              <a:t>La valutazione delle Emissioni 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2/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789360" y="2027160"/>
          <a:ext cx="4778280" cy="4245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9360" y="2027160"/>
                    <a:ext cx="4778280" cy="424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304920" y="22860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Times New Roman"/>
              </a:rPr>
              <a:t>Profilo di missione dei motocicli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it-IT" sz="3600" spc="-1" strike="noStrike">
                <a:solidFill>
                  <a:srgbClr val="3333cc"/>
                </a:solidFill>
                <a:latin typeface="Times New Roman"/>
              </a:rPr>
              <a:t>La valutazione delle Emissioni 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3/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905120"/>
            <a:ext cx="3581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0000"/>
                </a:solidFill>
                <a:latin typeface="Times New Roman"/>
              </a:rPr>
              <a:t>ECE 40 EURO2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Eliminati i 40” di riscaldamento al mini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Rimasti i 2 Cicli completi per la fase di Warm-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2T13:40:29Z</dcterms:created>
  <dc:creator>x</dc:creator>
  <dc:description/>
  <dc:language>en-US</dc:language>
  <cp:lastModifiedBy>pc-gbini</cp:lastModifiedBy>
  <cp:lastPrinted>2000-05-29T09:47:26Z</cp:lastPrinted>
  <dcterms:modified xsi:type="dcterms:W3CDTF">2000-07-28T07:15:04Z</dcterms:modified>
  <cp:revision>143</cp:revision>
  <dc:subject/>
  <dc:title>PIAGGIO Philosophy in Powertrain Development</dc:title>
</cp:coreProperties>
</file>