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EB3-95C3-4505-A56A-7F871DC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BF3-7872-4B1D-B98F-D284525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786-8D75-460A-95A6-059DE029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EC3-31B1-4CAA-BEEB-31B974DD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CF7-3D1A-44AE-9012-380ADB8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131-1E0B-49B8-A9D7-FF92599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D4B-31B2-4856-B01B-B19388FD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CD0-D6B9-4E1C-85F5-38AA791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2B7-89FB-4E76-9FAE-061CA0B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86B-29F8-4722-AC8E-99C48DC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42F-4037-48E0-814E-C47D9F6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909-82E0-4295-9E0A-F876A94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057-318B-4766-9A99-46675B143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aeionet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724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4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11119856" descr=""/>
            <p:cNvPicPr/>
            <p:nvPr/>
          </p:nvPicPr>
          <p:blipFill>
            <a:blip r:embed="rId2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STEMA CONOSCITIVO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CENTRI TEMATICI NAZIONAL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SSEGNA DELLA DOMANDA DI IN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STEMA DI INDICI E INDIC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ENSIMENTO DELLE SORGENTI D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CCOLTA, ADEGUAMENTO ED INTEGRAZIONE DELL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RMONIZZAZIONE DELLE RETI DI 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ODELLI: OSSERVATORIO E LINEE G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ORTING AMBIENTAL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5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OGRAMMA ATTIVITA’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TN-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dividuazione del sistema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dici e indicato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ambientali nell’ambito del modello DPSI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ganizzazione dell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raccolta dei dati e dei metada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andardizzazione, omogeneizzazione e ottimizzazione dei criteri,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delle metodologie e degli strumenti di monitoraggi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icognizione e razionalizzazione delle metodologie degl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ventari locali delle emission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e delle loro relazioni con l’inventario naz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finizione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linee guida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una appropriata applicazione dei modelli di interpretazione delle relazioni pressione-s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62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nalisi stato dell’art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disponibilità e consistenza di dati sperimentali sulle emissioni di inquinanti gas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dentificazione delle attività sperimentali e teorich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finalizzate alla realizzazione del man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ttivazione Gruppi di lavoro o “Expert Panel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la stesura finale di un manuale dei fattori di emissione rappresentativo della realtà socio-economica ital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LASSI DI ATTIVITA’  SNAP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 Centrali elettriche pubbliche e teleriscal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. Impianti di combustione non-indust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 Combustione nell’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. Processi produ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. Estrazione e distribuzione di combustibili fos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. Uso di sol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. Trasporto su 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. Altre sorgenti mobili e macchin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 Trattamento e smaltimento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0. Agrico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1.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9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05320" y="44956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828800"/>
            <a:ext cx="3809880" cy="106668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1240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 X P E R T     P A N E L     A T T I V A 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USTRIA -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OS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9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IACPETR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627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AUTO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106380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Image51" descr=""/>
          <p:cNvPicPr/>
          <p:nvPr/>
        </p:nvPicPr>
        <p:blipFill>
          <a:blip r:embed="rId4"/>
          <a:stretch/>
        </p:blipFill>
        <p:spPr>
          <a:xfrm>
            <a:off x="1676520" y="4871880"/>
            <a:ext cx="1447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XPERT PANEL  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981080"/>
            <a:ext cx="2133360" cy="329076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ARTECIPAN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TN-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IS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eder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U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C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Unione Petrolif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ituto Motori CN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olitecnico di Mil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nistero dei 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981080"/>
            <a:ext cx="3962520" cy="201132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DA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accolta, adeguamento ed integr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ei seguenti dat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rbur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arco circol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ercor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locit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missioni evapo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3962520" cy="107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FATTORI DI EMISS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alisi della metodologia più utilizza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dividuazione dei fattori di emissione cri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rifica degli esistenti e calcolo dei nu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743200"/>
            <a:ext cx="838080" cy="53352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14800"/>
            <a:ext cx="838080" cy="4572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eminari ed incont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il confronto e lo scambio di dati 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esur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“Handbook versione 0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dei fattori di 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eminario di presentazione e diffusione de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primi risultat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otten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8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EMI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TTORI DI EMISSIONE DA TRAFF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ATI SPERIMENTALI IN ITAL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26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5334120" cy="109836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COPI E FINALITA’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nfronto tra esperienze significative condotte in Italia da Istituti di Ricerca ed Enti pubblici e privati sulla determinazione sperimentale di fattori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733920"/>
            <a:ext cx="5867640" cy="160272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TEMI DA AFFRO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etodologia e risultati  delle campagne speriment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frontabilità tra le diverse metodologie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laborazioni statistiche e fruibilità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2:05:09Z</dcterms:created>
  <dc:creator>Arpat</dc:creator>
  <dc:description/>
  <dc:language>en-US</dc:language>
  <cp:lastModifiedBy>Arpat</cp:lastModifiedBy>
  <cp:lastPrinted>2000-07-04T12:41:31Z</cp:lastPrinted>
  <dcterms:modified xsi:type="dcterms:W3CDTF">2000-07-04T12:45:58Z</dcterms:modified>
  <cp:revision>40</cp:revision>
  <dc:subject/>
  <dc:title>CTN-ACE  (Centro Tematico Nazionale Atmosfera, Clima, Emissioni)  PROGRAMMA ATTIVITA’ ANNI 1999-2000</dc:title>
</cp:coreProperties>
</file>